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2AE8-78DA-423F-AD9A-1C5E00C5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DE1-EF04-41F2-8FF4-1EE9FE89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8225-162B-47BC-8DEF-86FCA258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58B-9CC6-4D3E-B9DC-83878EA9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A1F-535C-40DA-9A6A-72E2E092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3CB-E7ED-4487-9B68-C6A26C5E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F46-6B7D-401E-B69C-D74AC32E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D13-312F-4A3F-968B-E44EFE3C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A069-83FA-4266-8C7A-62DA5014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E71-DD38-444C-A2E5-86F2495C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CB0-5D85-45FA-B16C-E7939F7B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732-5359-4109-B6E1-ADBFAB23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CBC1-176D-4065-A0B9-0241F22A2F8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23:08:59Z</dcterms:modified>
  <cp:revision>24</cp:revision>
  <dc:subject/>
  <dc:title>슬라이드 1</dc:title>
</cp:coreProperties>
</file>