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412-374C-4777-8700-494D2FEB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201-DB65-42CE-982A-17967EB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AD7-158B-4CED-92AD-06B23D84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DA7-85DE-42BC-AE74-67AE6119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572-8DF4-4A03-9FD9-A96C648C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FC3-9D94-4A32-A214-FA5ADC50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714-5E03-4AE4-BB51-70597273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7DC-C96E-44EE-94A7-24BE9D4E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A70-D438-4239-B26D-9742720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148-3955-4A6A-87D3-6EC7FE0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D8F-F36F-4DA6-B280-188CE9D9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610-B8FF-4ADA-A93E-2001370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8FA0-10B3-4DB1-963F-84149065766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23:08:59Z</dcterms:modified>
  <cp:revision>24</cp:revision>
  <dc:subject/>
  <dc:title>슬라이드 1</dc:title>
</cp:coreProperties>
</file>