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221A-26C3-457A-B30D-6C83EF30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1D83-3DD2-4AF1-BEF9-F6F7B7A7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1C54-34C3-41F2-80DC-704E7B5D2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6E58-EAA8-4120-8494-6451D1472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9D15-F389-4358-B587-C0AF9F1A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CF6D-B4E9-4D9F-AAFB-37DE949A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4B6E-86EC-421F-B1B7-FE23937F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2198-8344-44A5-8DFD-1F85AFAA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6BDC-D306-4115-B1F8-D21F3478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68B3-FEB8-4345-A320-F852DC06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1E87-8E16-4BCB-8292-737EB77B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0B44-98CB-40CB-9940-9C7BD1ED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574B-E2CA-408D-B7E2-DCE365CEE6C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1-03-09T07:33:02Z</dcterms:modified>
  <cp:revision>23</cp:revision>
  <dc:subject/>
  <dc:title>슬라이드 1</dc:title>
</cp:coreProperties>
</file>