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8C6-C724-44FA-9FE4-3BE77F4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7B6-8240-4AFE-A412-4C2FC8D4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F95-CE01-456A-8E3E-3DCD4672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6B5-D966-4637-ABEF-EE70680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DC40-62C5-4146-ABC3-968A0F9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FD6-6008-41D8-B03B-FDF5295D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E71-21DB-486E-B20E-3686EB6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93C-F71A-436A-B8EF-8767242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649-88B4-404D-B1CD-5BF9995B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2FA-BD63-47A7-ACB1-03AE249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6AA-4B7B-46A9-97F5-F4A40EF9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BB2-BB25-4AE7-A963-59D2F04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95E-1113-493C-8EA0-D343D7736D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1-03-09T07:33:02Z</dcterms:modified>
  <cp:revision>23</cp:revision>
  <dc:subject/>
  <dc:title>슬라이드 1</dc:title>
</cp:coreProperties>
</file>