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8A22-5E50-4E43-B2C1-BC10B627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308A-974D-4584-8D55-8D56B0D7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3EFD-9B67-4875-A489-572500AB3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361F-0EFD-49AC-A4AC-0A36D2A8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F8C2-C6B8-4422-8ACC-B0633413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2041-3302-45CE-8BC2-FC1D407D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4B9E-F2FF-46BC-92F5-8BF34FFF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BA92-E682-4B9C-8EFE-4B2A8590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72FD-0488-4E90-8939-236A53A5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98BE-35F8-4779-B20F-C21B5C4F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318B-F66C-485F-AAE9-E5A5C11F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B704-E8C9-4FB0-AF47-95912E80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2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Y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67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Y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FDA7-5B09-4E46-80CB-DB8A80088BF8}" type="slidenum">
              <a:rPr b="0" lang="ar-SY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 :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e: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 Name : Hussein ahmad j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: 2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Times New Roman"/>
              </a:rPr>
              <a:t>yDos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-</a:t>
            </a:r>
            <a:r>
              <a:rPr b="0" lang="en" sz="2800" spc="-1" strike="noStrike">
                <a:solidFill>
                  <a:srgbClr val="000000"/>
                </a:solidFill>
                <a:latin typeface="Times New Roman"/>
              </a:rPr>
              <a:t>Abdulla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cher's 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09080" cy="5985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392720" y="6093000"/>
            <a:ext cx="3952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178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97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00720" y="5950080"/>
            <a:ext cx="46800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534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85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103640" y="6093000"/>
            <a:ext cx="503280" cy="50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6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5364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00720" y="5445000"/>
            <a:ext cx="539640" cy="5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14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65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84720" y="548172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55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61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319640" y="5877000"/>
            <a:ext cx="4492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174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392720" y="5697360"/>
            <a:ext cx="395280" cy="3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046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427640" y="616572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33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45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08360" y="52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965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8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08360" y="6129360"/>
            <a:ext cx="43200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544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5:36:31Z</dcterms:created>
  <dc:creator>al3arrrab20</dc:creator>
  <dc:description/>
  <dc:language>en-US</dc:language>
  <cp:lastModifiedBy>sweetromyo</cp:lastModifiedBy>
  <dcterms:modified xsi:type="dcterms:W3CDTF">2013-03-28T19:57:1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