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895-36EA-4FBE-A10F-1046C81E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5C7-27AA-4F8F-8E17-FC40EF15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063-F4C3-4BD6-9382-C8321301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8B5-85AD-4100-BC33-B3DED9E0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648-671D-4B59-935A-52738274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DDE-28C7-4EDA-94BD-84CAEFF4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91D-104C-4935-9A6B-F841E002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8EB-F5F5-40B0-BEF8-6296943F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04B-1E17-417B-B5C7-A01AE391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376-9861-42CF-85B7-34C6250C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142-1FEA-47C2-A8F4-3B0F35F0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5D9-CA89-4CCF-B4DE-65B05AD3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2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67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4A55-1E6C-401F-B5A1-A8834825B3D2}" type="slidenum">
              <a:rPr b="0" lang="ar-SY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 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: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Name : Hussein ahmad j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: 2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Times New Roman"/>
              </a:rPr>
              <a:t>yDos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-</a:t>
            </a:r>
            <a:r>
              <a:rPr b="0" lang="en" sz="2800" spc="-1" strike="noStrike">
                <a:solidFill>
                  <a:srgbClr val="000000"/>
                </a:solidFill>
                <a:latin typeface="Times New Roman"/>
              </a:rPr>
              <a:t>Abdulla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's 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98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392720" y="6093000"/>
            <a:ext cx="3952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178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9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00720" y="5950080"/>
            <a:ext cx="4680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53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8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03640" y="6093000"/>
            <a:ext cx="50328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6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536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00720" y="5445000"/>
            <a:ext cx="5396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1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65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84720" y="54817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5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19640" y="5877000"/>
            <a:ext cx="449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7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92720" y="5697360"/>
            <a:ext cx="395280" cy="3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4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27640" y="6165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33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08360" y="52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6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08360" y="612936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54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5:36:31Z</dcterms:created>
  <dc:creator>al3arrrab20</dc:creator>
  <dc:description/>
  <dc:language>en-US</dc:language>
  <cp:lastModifiedBy>sweetromyo</cp:lastModifiedBy>
  <dcterms:modified xsi:type="dcterms:W3CDTF">2013-03-28T19:57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