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897-3B1B-4939-96DB-8E859652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016E-B70B-4DB2-AF4C-06C5A53F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AF29-1AF8-455B-BDDB-80981084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F09-E083-4C4E-A56A-267066BB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BF0D-A127-4219-9E93-DE6E7C5F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8DB-8AF9-4F5F-89FE-AFECA1AE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9F6-C513-4928-B178-77FBCC09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105-8420-4413-90DE-C38659B2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E33-5894-44FF-A551-70DD4D0EE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D084-92A0-4C0A-97FF-03AA770D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C5D-EFB7-4267-A8EF-EC20C755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91AF-B0FD-4704-AA99-52230E20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B42392-5E6C-4F10-A5AF-8B1A373D5EB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3FAF6-4D40-4A1D-BBE2-7CD2B563111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6:19:26Z</dcterms:created>
  <dc:creator>최봉수</dc:creator>
  <dc:description/>
  <dc:language>en-US</dc:language>
  <cp:lastModifiedBy>맛있다 군만두</cp:lastModifiedBy>
  <dcterms:modified xsi:type="dcterms:W3CDTF">2024-09-24T08:15:54Z</dcterms:modified>
  <cp:revision>3</cp:revision>
  <dc:subject/>
  <dc:title>슬라이드 1</dc:title>
</cp:coreProperties>
</file>