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FC4-BCFA-4C81-B2E7-78BEE0B8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EE2-531D-4BEC-9595-FEC7012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FD4-B11E-4A09-BF74-59F6F4B0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D68-1F35-4B3B-9ADD-020F6FF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152-FE59-49AE-BEB4-87328DC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2B7-C428-4066-94FA-F35B6D6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9D3-2EFE-4118-929E-5F475671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323-1633-48C8-93EE-B7FF25DD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F21-6B00-4D45-8EAC-72AC8456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E2A-4405-4093-91E4-5E96FE68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51E-0988-4F42-95C0-908C2B2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6A7-E5A3-4548-AC3D-59CFBF8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C1B4D-0EED-4BE2-9811-C730D1D47F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E0030-5576-4C73-A061-543F618FE5B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19:26Z</dcterms:created>
  <dc:creator>최봉수</dc:creator>
  <dc:description/>
  <dc:language>en-US</dc:language>
  <cp:lastModifiedBy>맛있다 군만두</cp:lastModifiedBy>
  <dcterms:modified xsi:type="dcterms:W3CDTF">2024-09-24T08:15:54Z</dcterms:modified>
  <cp:revision>3</cp:revision>
  <dc:subject/>
  <dc:title>슬라이드 1</dc:title>
</cp:coreProperties>
</file>