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004-32B0-4ABB-BC9F-A39487395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C5F6-2454-4462-8D31-E4C91646882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6BF1-9075-4962-BAD4-648723068264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33B6-D181-4E60-8BB4-EFB01A91C7B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AD7-6C06-4409-8BA2-703126C63915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3B2-4D43-4A5D-A098-D087D3EF9E6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91C-D0D4-43F6-9855-94AA1675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DE4-3484-43F3-A7C4-6F42976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A41-4FDE-4662-98C5-247A44FF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007-F139-4681-A6ED-1BD0A74D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0CE-AA59-4551-BD33-C57480A9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9623-9D18-4D49-BEB3-E0FCE92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2EA-20D7-4ECA-A6B3-E2496B08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EED0-F585-4B5A-9539-A9FD29E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F17-660E-4E71-B243-A1FDF15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756-5E98-4843-BA85-6BC43EF6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7E3-4BA5-40FD-AE35-B17EA65A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8E8-79BD-4D30-937F-A379BECC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AFA7-0051-40C0-899A-07CE783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FB34-AB70-4D08-9699-7AC3C20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9097-C990-498B-AF77-E1B07EA7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A74-A750-459B-860E-37A6C6B2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2C1-7FCF-489C-BFC4-67506C3F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2302-4A90-487F-8852-DFF4ACBC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2ADF-D57B-4258-9E91-C0645C27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92D5-D52C-485A-B85B-32FD977A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2950-EFC8-4CA9-B71D-B29D3A7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C0F0-024D-48F0-88BB-F0BC1752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292-FCF8-4C32-A006-BBEDFCF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07D6-E55A-449E-8CDD-D66E907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6F1E-84AB-43FC-B1E3-2D7A65F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9C40-0096-411B-8B33-C46CC7F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7D7D-B721-4F27-8A21-0B83B592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FB4C-9E78-4C21-A612-356B4D5A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2065-DEAD-4749-8137-30DBF7BF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21AB-BBCF-4368-8C26-E9FF00B3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60DA-7C1D-47AD-835B-2E84A28C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EC55-5F48-4873-B288-A186A55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1DDF-0015-4460-96A9-CF70960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C71-099F-4BED-A55E-A50138BF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98D0-A3CE-4E84-994A-9E4273A0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2A0F-8DB4-4297-A9C5-7619564B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7C6B-384D-4954-9ACD-919ACCD1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7D16-4110-4A87-95B4-40E6F7D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DFBB-F308-4237-A9DE-35CC874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47F6-F0C4-4177-B304-640FD35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8371-77EB-4DF5-9970-1FB6E47A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9C51-0899-4D0F-B96C-2BA638C3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BA4C-4D34-481C-B4D5-39E6E5A9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D3FE-4ECA-4AB3-8040-AD1D9786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F25-35A2-483C-A26E-F643627E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C863-91EF-43AE-9B1D-F3E08ABB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99D57-381C-4BFC-A170-7833BECB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F3995-6E4A-43A0-86D7-9C6D16F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0622-B368-450D-BC6F-FCC92975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4CE1-2D9A-47DF-A8CC-0132FA44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52F78-7307-4B9F-8212-EA94A77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FEA2-8B20-4CD4-AD44-57BA1FC5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1604-5D82-4708-98DA-DC44429A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B1CC-7F8A-4A41-BE76-E1365A0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9F3D0-A63F-4A32-B438-CFCA9C9E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EC0-D285-47DA-86BF-3F1A0253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BE46-8523-44FC-BFAE-8CEED4FA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E1B8-88F7-47F7-A664-D02C228A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4C4F-98CF-4E8B-BF43-117D7E09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781E-2D29-4243-B40E-A240EDDD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8AC10-88B7-4A8B-8974-A46EBC9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A264-B53A-4214-8513-0BF2830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1852-7E95-4FEC-B309-51573C7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559B-D3B1-4537-8A50-5B6A7D8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BCEA-FBFC-4301-A5D5-54DDC895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BEE6-CAE0-4DAC-9B94-B0B0EBC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A69-029B-444F-BC12-50E5660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F04E-E6CA-440C-98E5-791799B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FE66-9967-45C7-A30F-56409AEB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8DC54-BD55-473F-9626-930023DF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064-8ECE-4EE6-9201-FE0A45A6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354-7CE4-4A98-A60D-5F02639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orme lib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F20-484B-49E2-8287-9C6B6865AEBB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rme lib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orme lib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763D-CB5F-4F6A-AF6E-747956922B45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rme libre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rme libre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EBDA-4859-4F2C-B559-549BF46C18B1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ADCC-3DE4-4BB1-8F23-3DEAAD273C2F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rme libre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rme libre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43DB-A2DD-4182-8BB2-94182382E304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D7E-24A7-459F-B7FE-5524411D5D33}" type="slidenum">
              <a:rPr b="0" lang="fr-F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-3997440" y="-2827440"/>
          <a:ext cx="15192360" cy="1937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7440" y="-2827440"/>
                    <a:ext cx="15192360" cy="1937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692360" y="1341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Première Ligne de Télécabine a Constant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093080" y="2924280"/>
            <a:ext cx="1511280" cy="45900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TERRAIN TANNOUDJ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403280" y="1916280"/>
            <a:ext cx="2592360" cy="6415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STATION  INTERMEDIAIRE  PARKING DU CENTRE HOSPITALIER UNIVERSITAI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79280" y="5013360"/>
            <a:ext cx="2232000" cy="45900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6ccff"/>
                </a:solidFill>
                <a:latin typeface="Garamond"/>
                <a:ea typeface="Arial"/>
              </a:rPr>
              <a:t>STATION  PLACE TAT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476360" y="333360"/>
            <a:ext cx="648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Arial"/>
              </a:rPr>
              <a:t>PRÉSENTATION DE LA LIG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69236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68360" y="140148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TERRAIN TANOUJI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i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(Émir Abdelkader)   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ou vas s’implanter  la Station Motrice qui ce situe en amont (Altitude= 707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Surface totale St =  2480 m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 la station S=1680m²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s aires de stationnement S=8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CHU  BEN-BADIS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 (au niveau du parking de l’hôpital) où ce situe La Station Intermédia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Altitude= 657m) (Surface St= 1820m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PLACE TATACHE</a:t>
            </a:r>
            <a:r>
              <a:rPr b="1" i="1" lang="fr-FR" sz="1800" spc="-1" strike="noStrike" u="sng">
                <a:solidFill>
                  <a:srgbClr val="ff9966"/>
                </a:solidFill>
                <a:uFillTx/>
                <a:latin typeface="Garamond"/>
                <a:ea typeface="Arial"/>
              </a:rPr>
              <a:t> </a:t>
            </a:r>
            <a:r>
              <a:rPr b="1" i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: (station de renvoi)  </a:t>
            </a: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ou ce situe 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La Station En Av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(Altitude= 619.29m). (Surface St = 1700m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 la station S=1400m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Surface des aires de stationnement S=3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* Donc le nombre de station de cette ligne est  de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66ff"/>
                </a:solidFill>
                <a:latin typeface="Garamond"/>
                <a:ea typeface="Arial"/>
              </a:rPr>
              <a:t>La surface totale des 3 station est de : St =6000m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re 1" descr=""/>
          <p:cNvPicPr/>
          <p:nvPr/>
        </p:nvPicPr>
        <p:blipFill>
          <a:blip r:embed="rId1"/>
          <a:stretch/>
        </p:blipFill>
        <p:spPr>
          <a:xfrm>
            <a:off x="566640" y="79200"/>
            <a:ext cx="7785360" cy="10004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0040" y="642960"/>
            <a:ext cx="8143920" cy="5286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mélioration des condition de déplacement de 100.000 habitants les quartier de la Casaba, cité loucif, cité Abdelkader et cité zia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acilitation des déplacement de et vers le CHU Constant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oulagement du pont  suspendre de la circulation Automob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nouveau support au tourisme par la découverte de paysages exceptionnels qu’offerent les gorges du rhum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11280" y="692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aramond"/>
                <a:ea typeface="Arial"/>
              </a:rPr>
              <a:t>Afin de mieux comprendre la succession des photos voici un organigramme  et une fiche technique explicative des différents composants d'un téléc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</a:t>
            </a:r>
            <a:r>
              <a:rPr b="1" lang="fr-FR" sz="2800" spc="-1" strike="noStrike">
                <a:solidFill>
                  <a:srgbClr val="ffffff"/>
                </a:solidFill>
                <a:latin typeface="Garamond"/>
                <a:ea typeface="Arial"/>
              </a:rPr>
              <a:t>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08000" y="2494080"/>
            <a:ext cx="8641440" cy="3587400"/>
            <a:chOff x="108000" y="2494080"/>
            <a:chExt cx="8641440" cy="3587400"/>
          </a:xfrm>
        </p:grpSpPr>
        <p:grpSp>
          <p:nvGrpSpPr>
            <p:cNvPr id="274" name="Organization Chart 4"/>
            <p:cNvGrpSpPr/>
            <p:nvPr/>
          </p:nvGrpSpPr>
          <p:grpSpPr>
            <a:xfrm>
              <a:off x="325440" y="2494080"/>
              <a:ext cx="8424000" cy="1260000"/>
              <a:chOff x="325440" y="2494080"/>
              <a:chExt cx="8424000" cy="1260000"/>
            </a:xfrm>
          </p:grpSpPr>
          <p:cxnSp>
            <p:nvCxnSpPr>
              <p:cNvPr id="275" name="_s2052"/>
              <p:cNvCxnSpPr>
                <a:stCxn id="276" idx="0"/>
                <a:endCxn id="277" idx="2"/>
              </p:cNvCxnSpPr>
              <p:nvPr/>
            </p:nvCxnSpPr>
            <p:spPr>
              <a:xfrm flipV="1" rot="16200000">
                <a:off x="5544360" y="1989360"/>
                <a:ext cx="252720" cy="2269080"/>
              </a:xfrm>
              <a:prstGeom prst="bentConnector3">
                <a:avLst>
                  <a:gd name="adj1" fmla="val 24679"/>
                </a:avLst>
              </a:prstGeom>
              <a:ln w="57240">
                <a:solidFill>
                  <a:srgbClr val="ff5050"/>
                </a:solidFill>
                <a:miter/>
              </a:ln>
            </p:spPr>
          </p:cxnSp>
          <p:cxnSp>
            <p:nvCxnSpPr>
              <p:cNvPr id="278" name="_s2053"/>
              <p:cNvCxnSpPr>
                <a:stCxn id="279" idx="0"/>
                <a:endCxn id="277" idx="2"/>
              </p:cNvCxnSpPr>
              <p:nvPr/>
            </p:nvCxnSpPr>
            <p:spPr>
              <a:xfrm flipH="1" flipV="1" rot="5400000">
                <a:off x="3276720" y="1990080"/>
                <a:ext cx="252720" cy="2268000"/>
              </a:xfrm>
              <a:prstGeom prst="bentConnector3">
                <a:avLst>
                  <a:gd name="adj1" fmla="val 24679"/>
                </a:avLst>
              </a:prstGeom>
              <a:ln w="57240">
                <a:solidFill>
                  <a:srgbClr val="ff5050"/>
                </a:solidFill>
                <a:miter/>
              </a:ln>
            </p:spPr>
          </p:cxnSp>
          <p:sp>
            <p:nvSpPr>
              <p:cNvPr id="277" name="_s2054"/>
              <p:cNvSpPr/>
              <p:nvPr/>
            </p:nvSpPr>
            <p:spPr>
              <a:xfrm>
                <a:off x="2592720" y="2494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Téléca</a:t>
                </a: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b</a:t>
                </a:r>
                <a:r>
                  <a:rPr b="1" lang="fr-FR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in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_s2055"/>
              <p:cNvSpPr/>
              <p:nvPr/>
            </p:nvSpPr>
            <p:spPr>
              <a:xfrm>
                <a:off x="325440" y="3250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Stations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_s2056"/>
              <p:cNvSpPr/>
              <p:nvPr/>
            </p:nvSpPr>
            <p:spPr>
              <a:xfrm>
                <a:off x="4861440" y="3250080"/>
                <a:ext cx="3888000" cy="50400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r>
                  <a:rPr b="1" lang="en-US" sz="2200" spc="-1" strike="noStrike">
                    <a:solidFill>
                      <a:srgbClr val="3b3b3b"/>
                    </a:solidFill>
                    <a:latin typeface="Garamond"/>
                    <a:ea typeface="Arial"/>
                  </a:rPr>
                  <a:t>Pylône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Line 11"/>
            <p:cNvSpPr/>
            <p:nvPr/>
          </p:nvSpPr>
          <p:spPr>
            <a:xfrm>
              <a:off x="1117440" y="3754440"/>
              <a:ext cx="0" cy="54936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3133800" y="3754440"/>
              <a:ext cx="0" cy="54936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Group 13"/>
            <p:cNvGrpSpPr/>
            <p:nvPr/>
          </p:nvGrpSpPr>
          <p:grpSpPr>
            <a:xfrm>
              <a:off x="179280" y="4303800"/>
              <a:ext cx="1873080" cy="759240"/>
              <a:chOff x="179280" y="4303800"/>
              <a:chExt cx="1873080" cy="759240"/>
            </a:xfrm>
          </p:grpSpPr>
          <p:sp>
            <p:nvSpPr>
              <p:cNvPr id="283" name="Oval 14"/>
              <p:cNvSpPr/>
              <p:nvPr/>
            </p:nvSpPr>
            <p:spPr>
              <a:xfrm>
                <a:off x="179280" y="4303800"/>
                <a:ext cx="1873080" cy="4935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15"/>
              <p:cNvSpPr/>
              <p:nvPr/>
            </p:nvSpPr>
            <p:spPr>
              <a:xfrm>
                <a:off x="612720" y="4359240"/>
                <a:ext cx="1223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Sattellite</a:t>
                </a:r>
                <a:r>
                  <a:rPr b="1" lang="fr-FR" sz="18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16"/>
            <p:cNvGrpSpPr/>
            <p:nvPr/>
          </p:nvGrpSpPr>
          <p:grpSpPr>
            <a:xfrm>
              <a:off x="2125800" y="4303800"/>
              <a:ext cx="2086920" cy="493560"/>
              <a:chOff x="2125800" y="4303800"/>
              <a:chExt cx="2086920" cy="493560"/>
            </a:xfrm>
          </p:grpSpPr>
          <p:sp>
            <p:nvSpPr>
              <p:cNvPr id="286" name="Oval 17"/>
              <p:cNvSpPr/>
              <p:nvPr/>
            </p:nvSpPr>
            <p:spPr>
              <a:xfrm>
                <a:off x="2125800" y="4303800"/>
                <a:ext cx="2086920" cy="493560"/>
              </a:xfrm>
              <a:prstGeom prst="ellipse">
                <a:avLst/>
              </a:prstGeom>
              <a:solidFill>
                <a:srgbClr val="6ea0b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18"/>
              <p:cNvSpPr/>
              <p:nvPr/>
            </p:nvSpPr>
            <p:spPr>
              <a:xfrm>
                <a:off x="2608560" y="4359240"/>
                <a:ext cx="13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Garamond"/>
                    <a:ea typeface="Arial"/>
                  </a:rPr>
                  <a:t>Annexes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8" name="Line 19"/>
            <p:cNvSpPr/>
            <p:nvPr/>
          </p:nvSpPr>
          <p:spPr>
            <a:xfrm flipH="1">
              <a:off x="611280" y="4797360"/>
              <a:ext cx="576000" cy="576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0"/>
            <p:cNvSpPr/>
            <p:nvPr/>
          </p:nvSpPr>
          <p:spPr>
            <a:xfrm>
              <a:off x="1187280" y="4797360"/>
              <a:ext cx="432000" cy="576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3203640" y="4797360"/>
              <a:ext cx="0" cy="64764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2"/>
            <p:cNvSpPr/>
            <p:nvPr/>
          </p:nvSpPr>
          <p:spPr>
            <a:xfrm>
              <a:off x="3492360" y="4797360"/>
              <a:ext cx="0" cy="3603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23"/>
            <p:cNvSpPr/>
            <p:nvPr/>
          </p:nvSpPr>
          <p:spPr>
            <a:xfrm>
              <a:off x="108000" y="537372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Suppor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24"/>
            <p:cNvSpPr/>
            <p:nvPr/>
          </p:nvSpPr>
          <p:spPr>
            <a:xfrm>
              <a:off x="1187280" y="537372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Équip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>
              <a:off x="3203640" y="544500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6"/>
            <p:cNvSpPr/>
            <p:nvPr/>
          </p:nvSpPr>
          <p:spPr>
            <a:xfrm>
              <a:off x="3490920" y="508644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2843280" y="4797360"/>
              <a:ext cx="0" cy="93672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>
              <a:off x="2843280" y="5734080"/>
              <a:ext cx="360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9"/>
            <p:cNvSpPr/>
            <p:nvPr/>
          </p:nvSpPr>
          <p:spPr>
            <a:xfrm>
              <a:off x="3564000" y="47260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Vigie, caisse ...et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3203640" y="50864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Garag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31"/>
            <p:cNvSpPr/>
            <p:nvPr/>
          </p:nvSpPr>
          <p:spPr>
            <a:xfrm>
              <a:off x="2843280" y="543888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Administration …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2"/>
            <p:cNvSpPr/>
            <p:nvPr/>
          </p:nvSpPr>
          <p:spPr>
            <a:xfrm>
              <a:off x="6443640" y="3745080"/>
              <a:ext cx="0" cy="549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33"/>
            <p:cNvSpPr/>
            <p:nvPr/>
          </p:nvSpPr>
          <p:spPr>
            <a:xfrm>
              <a:off x="7812000" y="3745080"/>
              <a:ext cx="0" cy="549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34"/>
            <p:cNvSpPr/>
            <p:nvPr/>
          </p:nvSpPr>
          <p:spPr>
            <a:xfrm>
              <a:off x="5724360" y="4221000"/>
              <a:ext cx="13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Pylônes au niveau de la sta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35"/>
            <p:cNvSpPr/>
            <p:nvPr/>
          </p:nvSpPr>
          <p:spPr>
            <a:xfrm>
              <a:off x="7164360" y="4221000"/>
              <a:ext cx="15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Garamond"/>
                  <a:ea typeface="Arial"/>
                </a:rPr>
                <a:t>Pylônes intermédiair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84360" y="22741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11280" y="133308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Nombre de stations :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ns de la montée : gau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motrice : </a:t>
            </a:r>
            <a:r>
              <a:rPr b="0" lang="fr-FR" sz="20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amont(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terrain tannoudji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 intermédiaire (</a:t>
            </a:r>
            <a:r>
              <a:rPr b="0" lang="fr-FR" sz="1400" spc="-1" strike="noStrike">
                <a:solidFill>
                  <a:srgbClr val="ffffff"/>
                </a:solidFill>
                <a:latin typeface="Garamond"/>
                <a:ea typeface="Arial"/>
              </a:rPr>
              <a:t>PARKING DU CENTRE HOSPITALIER UNIVERSITAIRE</a:t>
            </a:r>
            <a:r>
              <a:rPr b="0" lang="fr-FR" sz="1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fr-FR" sz="1800" spc="-1" strike="noStrike">
                <a:solidFill>
                  <a:srgbClr val="66ccff"/>
                </a:solidFill>
                <a:latin typeface="Garamond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tation de renvoi : aval  </a:t>
            </a:r>
            <a:r>
              <a:rPr b="0" lang="fr-FR" sz="1800" spc="-1" strike="noStrike">
                <a:solidFill>
                  <a:srgbClr val="66ccff"/>
                </a:solidFill>
                <a:latin typeface="Garamond"/>
                <a:ea typeface="Arial"/>
              </a:rPr>
              <a:t>(</a:t>
            </a:r>
            <a:r>
              <a:rPr b="0" lang="fr-FR" sz="2000" spc="-1" strike="noStrike">
                <a:solidFill>
                  <a:srgbClr val="66ccff"/>
                </a:solidFill>
                <a:latin typeface="Garamond"/>
                <a:ea typeface="Arial"/>
              </a:rPr>
              <a:t>Station tatach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urface totale des station 1700m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horizontal : 1804.07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énivellation : 28.00m </a:t>
            </a:r>
            <a:r>
              <a:rPr b="0" lang="fr-FR" sz="2400" spc="-1" strike="noStrike">
                <a:solidFill>
                  <a:srgbClr val="66ccff"/>
                </a:solidFill>
                <a:latin typeface="Garamond"/>
                <a:ea typeface="Arial"/>
              </a:rPr>
              <a:t>(st amont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Arial"/>
              </a:rPr>
              <a:t>–</a:t>
            </a:r>
            <a:r>
              <a:rPr b="0" lang="fr-FR" sz="2400" spc="-1" strike="noStrike">
                <a:solidFill>
                  <a:srgbClr val="66ccff"/>
                </a:solidFill>
                <a:latin typeface="Garamond"/>
                <a:ea typeface="Arial"/>
              </a:rPr>
              <a:t>av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ente moyenne : 1.5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Inclinaison du câble max -39.5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suivant la pente 1842.37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ongueur du câble sans fin : 3770.72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26036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Caractéristiques techniques du proj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187280" y="90504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Nombre de pylônes :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 des ca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b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es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Ø=50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Charge de Rupture effective 1747K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de la poulie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motrice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5.2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Diamèt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de la poulie  de Renvoi  6.1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Largueur de la voie 5.2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uissance en service 444 K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puissance de démarrage (0.15m/s²).555K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Altitude de la station motrice 158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 u="sng">
                <a:solidFill>
                  <a:srgbClr val="00b0f0"/>
                </a:solidFill>
                <a:uFillTx/>
                <a:latin typeface="Franklin Gothic Book"/>
              </a:rPr>
              <a:t>Etat Statistiqu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0" name="Espace réservé du contenu 3" descr=""/>
          <p:cNvPicPr/>
          <p:nvPr/>
        </p:nvPicPr>
        <p:blipFill>
          <a:blip r:embed="rId1"/>
          <a:stretch/>
        </p:blipFill>
        <p:spPr>
          <a:xfrm>
            <a:off x="554040" y="1322280"/>
            <a:ext cx="8211960" cy="5267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539640" y="1908000"/>
            <a:ext cx="8136000" cy="252108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4572000" y="1908000"/>
            <a:ext cx="0" cy="252108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4"/>
          <p:cNvSpPr/>
          <p:nvPr/>
        </p:nvSpPr>
        <p:spPr>
          <a:xfrm flipH="1">
            <a:off x="539640" y="2341440"/>
            <a:ext cx="8136000" cy="0"/>
          </a:xfrm>
          <a:prstGeom prst="line">
            <a:avLst/>
          </a:prstGeom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116000" y="19810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ETAT INITIA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761080" y="1982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ETAT F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84360" y="2484360"/>
            <a:ext cx="38163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Vitesse   6.00m/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  <a:ea typeface="Arial"/>
              </a:rPr>
              <a:t>b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it   1200p/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Norme de véhicules 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Cadencement  45.00 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urée du trajet  8 m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istance entre véhicules 270.00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4932360" y="2484360"/>
            <a:ext cx="38163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Vitesse   6.00m/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 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e</a:t>
            </a:r>
            <a:r>
              <a:rPr b="1" lang="en-US" sz="1400" spc="-1" strike="noStrike">
                <a:solidFill>
                  <a:srgbClr val="66ccff"/>
                </a:solidFill>
                <a:latin typeface="Arial"/>
                <a:ea typeface="Arial"/>
              </a:rPr>
              <a:t>b</a:t>
            </a: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it   2000p/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Norme de véhicules  3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Cadencement  27.00 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urée du trajet  7.44 m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66ccff"/>
                </a:solidFill>
                <a:latin typeface="Arial"/>
                <a:ea typeface="Arial"/>
              </a:rPr>
              <a:t>Distance entre véhicules 162.00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90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291" dur="500" autoRev="1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9966"/>
                </a:solidFill>
                <a:latin typeface="Franklin Gothic Book"/>
              </a:rPr>
              <a:t>Schémas de principe</a:t>
            </a:r>
            <a:r>
              <a:rPr b="0" lang="fr-FR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9" name="Picture 3" descr="Les remontées mécaniques dispositifs de sécurité en gares_Page_3_Image_0001"/>
          <p:cNvPicPr/>
          <p:nvPr/>
        </p:nvPicPr>
        <p:blipFill>
          <a:blip r:embed="rId1"/>
          <a:stretch/>
        </p:blipFill>
        <p:spPr>
          <a:xfrm>
            <a:off x="971640" y="1341360"/>
            <a:ext cx="6985080" cy="460872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320" name="Line 4"/>
          <p:cNvSpPr/>
          <p:nvPr/>
        </p:nvSpPr>
        <p:spPr>
          <a:xfrm>
            <a:off x="1042920" y="2133720"/>
            <a:ext cx="863640" cy="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5"/>
          <p:cNvSpPr/>
          <p:nvPr/>
        </p:nvSpPr>
        <p:spPr>
          <a:xfrm flipH="1">
            <a:off x="1042920" y="5300640"/>
            <a:ext cx="936720" cy="0"/>
          </a:xfrm>
          <a:prstGeom prst="line">
            <a:avLst/>
          </a:prstGeom>
          <a:ln w="763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 rot="5400000">
            <a:off x="4635000" y="2357280"/>
            <a:ext cx="2789280" cy="2916360"/>
          </a:xfrm>
          <a:prstGeom prst="pie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 flipV="1">
            <a:off x="7236000" y="2205000"/>
            <a:ext cx="288720" cy="43200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 flipV="1">
            <a:off x="7451640" y="2491920"/>
            <a:ext cx="433440" cy="360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7524720" y="2923920"/>
            <a:ext cx="503280" cy="144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7451280" y="4437000"/>
            <a:ext cx="576360" cy="1461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 flipH="1" flipV="1">
            <a:off x="7308720" y="4797360"/>
            <a:ext cx="503280" cy="287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 flipH="1" flipV="1">
            <a:off x="7093080" y="5155920"/>
            <a:ext cx="358560" cy="360360"/>
          </a:xfrm>
          <a:prstGeom prst="line">
            <a:avLst/>
          </a:prstGeom>
          <a:ln w="3816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47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2,-122,-88)"/>
                                      </p:to>
                                    </p:set>
                                    <p:set>
                                      <p:cBhvr>
                                        <p:cTn id="348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7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5607E-006 L 0.07083 -0.11537 E">
                                      <p:cBhvr>
                                        <p:cTn id="36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4798E-006 L 0.07882 -0.08901 E">
                                      <p:cBhvr>
                                        <p:cTn id="36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78035E-007 L 0.09843 -0.0837 E">
                                      <p:cBhvr>
                                        <p:cTn id="36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38728E-006 L 0.10243 0.03121 E">
                                      <p:cBhvr>
                                        <p:cTn id="369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42775E-006 L 0.09062 0.06312 E">
                                      <p:cBhvr>
                                        <p:cTn id="371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7341E-007 L 0.09063 0.06844 E">
                                      <p:cBhvr>
                                        <p:cTn id="373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7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4:12Z</dcterms:created>
  <dc:creator>SWEET</dc:creator>
  <dc:description/>
  <dc:language>en-US</dc:language>
  <cp:lastModifiedBy>Mohamed</cp:lastModifiedBy>
  <dcterms:modified xsi:type="dcterms:W3CDTF">2009-01-15T21:07:00Z</dcterms:modified>
  <cp:revision>7</cp:revision>
  <dc:subject/>
  <dc:title>Diapositive 1</dc:title>
</cp:coreProperties>
</file>