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5297-A12E-4A48-A4A2-CA498F6911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5FD6-8CAD-47DB-B04B-9A8B00AF1A7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E61F-FBD9-424F-A6CF-D7857C77CFCA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7C29-0D0E-4FF4-9C19-9F34D80061DD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DDA8-FD18-4E96-A86E-CBB1F56E80FD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3896-1114-4076-A89C-29E9345933B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69F-0382-440C-8504-F1AA2FAE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A73-B95B-422A-BD79-5B9E2C8D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FF7-4FC6-4731-B84E-C0BBBB33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608-8CDB-466D-B93E-EE0E433D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5217-E80A-4EAC-8D9D-FA981734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295B-F994-4E32-BB02-9390CA40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964D-786E-4B2B-B1A0-9A05F3AE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6DAD-BA81-42FA-8495-053299E3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19B2-1E4E-4EA2-8BD5-4F5D000C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2CFC-9E00-4D2F-987D-98ACA024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FEF5-D32C-415E-9128-EEBB44CD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8FF-8E04-453F-95A4-6705F525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978A-7A53-4070-97C2-082F68BC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AA22-A0CA-4A2B-9379-8BC456EF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3D35-8521-4E53-83E6-6BFF7644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A27F-D022-48AB-9A4F-80F3E707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8DD7-F8DD-4670-8783-11A4549A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8648-1785-4312-AC3D-4D957A8B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4FB72-5612-4CCF-BC96-6CAB45F2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807F2-0DE8-4778-BA8F-E6A2E914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FC06F-38E9-4594-9515-58E9E9AE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3C35E-1132-4778-BD63-82737324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B61-382E-480F-A57F-79A685BD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09C6B-3B1B-4E6A-89D2-3D442931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21DE0-FCB0-4BFE-99A6-6CE2E07D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59691-8E6F-4300-9EC5-AA49D133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1E009-EB12-41D6-A478-3E2D1135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A7F17-959D-4E4E-BBA6-6C009436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B9AD9-F4A4-4F0D-80A1-498BD953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5C2E0-0868-40A5-97BD-20E04E20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4B0E8-C159-4E9A-BF59-7FD8F0D1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3E28F-AF74-4EE1-8A22-F31185F0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0802A-FB62-408B-B088-F766BBAA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A27-108A-4BE4-8489-17934238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6F5B1-084A-413C-BDB1-CDCFFA33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DCCAD-D7B5-4C41-AA0B-47A493DD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9C1D-C83E-4813-B0EB-75028DF2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640F8-B593-4430-9C80-64FC6DB2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8269D-4933-4F6A-AB24-D7FFA813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22FF3-6EE2-4CF2-9307-1DFE41F4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3742F-6632-41A9-8317-2D1ED088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51E18-3C25-402D-9EB3-F44EC8EC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F6439-FA38-4F49-8B36-3E583F30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16DE1-F7D9-43DD-AA60-7978913F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F1B-682C-4A7D-93E5-CF7F29A7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65AC6-670B-46DD-B456-E7F38524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1641E-BBA7-43E1-A6B5-65BF8FC5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45669-1DBA-4462-B09D-0EE6F2EC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F2479-46DB-4BF9-A84C-7B37AC14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A0BFC-9B6E-4067-BBF6-7AE5B43D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A5773-7089-4F90-B7D0-F5AA9A9E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6FC6A-6FF5-4F1E-A616-B3B1CE4B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4B799-8789-4C6E-9D6C-4F1D8DDC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011F3-08CF-442D-80CB-C0766C18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7C71B-2581-4E69-A39F-195B2301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5762-2F75-40E3-903D-58726342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14299-0DAB-4A7A-A8D5-0916B866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8E6BA-A109-466F-99DE-10B7C2FE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E9C05-187E-415A-8734-F532A2B7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89721-430F-498D-8D22-ADADBC82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EBE4A-34B9-4992-80CF-66ADBF0E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A2808-486D-4153-B4BC-14AB6020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D090F-CC8F-4BFC-BD4C-B65C90A8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17021-0D93-458F-9DBE-69672F4D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850C3-6DBC-47AE-8550-982D492C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1B278-F01A-4DF3-980C-3D68CB1C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FE4-C1CB-4AE8-A2BF-AD2EC24A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22FC7-42A2-4103-B9E6-D3D5965D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83A84-6F46-45EC-BA99-02E160D4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B110F-5B2F-4484-A3C8-7360136C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4F4-A8D5-4220-80E8-1D7120C2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14A-CAE6-44E4-953E-25D25E2D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orme libre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6265-BFAB-42A9-A1E3-A30D7797966D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rme libre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orme libre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3ADE-DCEE-4EDB-9391-2866938E926F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rme libre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orme libre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7490-23CD-4307-A115-B25F24292E0A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6281-F95F-44E2-AD66-EACC4455F151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rme libre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orme libre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A49B-9139-4BFB-9A86-91EC234359F6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A6B5-70E6-4151-BA40-4AD4D56B7166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-3997440" y="-2827440"/>
          <a:ext cx="15192360" cy="1937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97440" y="-2827440"/>
                    <a:ext cx="15192360" cy="1937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692360" y="1341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Première Ligne de Télécabine a Constant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7093080" y="2924280"/>
            <a:ext cx="1511280" cy="45900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66ccff"/>
                </a:solidFill>
                <a:latin typeface="Garamond"/>
                <a:ea typeface="Arial"/>
              </a:rPr>
              <a:t>TERRAIN TANNOUDJ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403280" y="1916280"/>
            <a:ext cx="2592360" cy="64152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66ccff"/>
                </a:solidFill>
                <a:latin typeface="Garamond"/>
                <a:ea typeface="Arial"/>
              </a:rPr>
              <a:t>STATION  INTERMEDIAIRE  PARKING DU CENTRE HOSPITALIER UNIVERSITAI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179280" y="5013360"/>
            <a:ext cx="2232000" cy="45900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66ccff"/>
                </a:solidFill>
                <a:latin typeface="Garamond"/>
                <a:ea typeface="Arial"/>
              </a:rPr>
              <a:t>STATION  PLACE TATA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21" dur="50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1476360" y="333360"/>
            <a:ext cx="6480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Arial"/>
              </a:rPr>
              <a:t>PRÉSENTATION DE LA LIG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692360" y="184464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68360" y="140148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9966"/>
                </a:solidFill>
                <a:uFillTx/>
                <a:latin typeface="Garamond"/>
                <a:ea typeface="Arial"/>
              </a:rPr>
              <a:t>TERRAIN TANOUJI</a:t>
            </a:r>
            <a:r>
              <a:rPr b="1" i="1" lang="fr-FR" sz="1800" spc="-1" strike="noStrike" u="sng">
                <a:solidFill>
                  <a:srgbClr val="ff9966"/>
                </a:solidFill>
                <a:uFillTx/>
                <a:latin typeface="Garamond"/>
                <a:ea typeface="Arial"/>
              </a:rPr>
              <a:t> </a:t>
            </a:r>
            <a:r>
              <a:rPr b="1" i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:(Émir Abdelkader)   </a:t>
            </a: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ou vas s’implanter  la Station Motrice qui ce situe en amont (Altitude= 707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(Surface totale St =  2480 m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Surface de la station S=1680m²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Surface des aires de stationnement S=800m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9966"/>
                </a:solidFill>
                <a:uFillTx/>
                <a:latin typeface="Garamond"/>
                <a:ea typeface="Arial"/>
              </a:rPr>
              <a:t>CHU  BEN-BADIS</a:t>
            </a:r>
            <a:r>
              <a:rPr b="1" i="1" lang="fr-FR" sz="1800" spc="-1" strike="noStrike" u="sng">
                <a:solidFill>
                  <a:srgbClr val="ff9966"/>
                </a:solidFill>
                <a:uFillTx/>
                <a:latin typeface="Garamond"/>
                <a:ea typeface="Arial"/>
              </a:rPr>
              <a:t> </a:t>
            </a: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: (au niveau du parking de l’hôpital) où ce situe La Station Intermédiai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(Altitude= 657m) (Surface St= 1820m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9966"/>
                </a:solidFill>
                <a:uFillTx/>
                <a:latin typeface="Garamond"/>
                <a:ea typeface="Arial"/>
              </a:rPr>
              <a:t>PLACE TATACHE</a:t>
            </a:r>
            <a:r>
              <a:rPr b="1" i="1" lang="fr-FR" sz="1800" spc="-1" strike="noStrike" u="sng">
                <a:solidFill>
                  <a:srgbClr val="ff9966"/>
                </a:solidFill>
                <a:uFillTx/>
                <a:latin typeface="Garamond"/>
                <a:ea typeface="Arial"/>
              </a:rPr>
              <a:t> </a:t>
            </a:r>
            <a:r>
              <a:rPr b="1" i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: (station de renvoi)  </a:t>
            </a: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ou ce situe 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La Station En Av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(Altitude= 619.29m). (Surface St = 1700m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Surface de la station S=1400m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Surface des aires de stationnement S=300m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* Donc le nombre de station de cette ligne est  de 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La surface totale des 3 station est de : St =6000m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re 1" descr=""/>
          <p:cNvPicPr/>
          <p:nvPr/>
        </p:nvPicPr>
        <p:blipFill>
          <a:blip r:embed="rId1"/>
          <a:stretch/>
        </p:blipFill>
        <p:spPr>
          <a:xfrm>
            <a:off x="566640" y="79200"/>
            <a:ext cx="7785360" cy="10004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0040" y="642960"/>
            <a:ext cx="8143920" cy="52862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mélioration des condition de déplacement de 100.000 habitants les quartier de la Casaba, cité loucif, cité Abdelkader et cité zia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acilitation des déplacement de et vers le CHU Constant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oulagement du pont  suspendre de la circulation Automob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’un nouveau support au tourisme par la découverte de paysages exceptionnels qu’offerent les gorges du rhum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611280" y="69228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Garamond"/>
                <a:ea typeface="Arial"/>
              </a:rPr>
              <a:t>Afin de mieux comprendre la succession des photos voici un organigramme  et une fiche technique explicative des différents composants d'un téléc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b</a:t>
            </a:r>
            <a:r>
              <a:rPr b="1" lang="fr-FR" sz="2800" spc="-1" strike="noStrike">
                <a:solidFill>
                  <a:srgbClr val="ffffff"/>
                </a:solidFill>
                <a:latin typeface="Garamond"/>
                <a:ea typeface="Arial"/>
              </a:rPr>
              <a:t>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108000" y="2494080"/>
            <a:ext cx="8641440" cy="3587400"/>
            <a:chOff x="108000" y="2494080"/>
            <a:chExt cx="8641440" cy="3587400"/>
          </a:xfrm>
        </p:grpSpPr>
        <p:grpSp>
          <p:nvGrpSpPr>
            <p:cNvPr id="274" name="Organization Chart 4"/>
            <p:cNvGrpSpPr/>
            <p:nvPr/>
          </p:nvGrpSpPr>
          <p:grpSpPr>
            <a:xfrm>
              <a:off x="325440" y="2494080"/>
              <a:ext cx="8424000" cy="1260000"/>
              <a:chOff x="325440" y="2494080"/>
              <a:chExt cx="8424000" cy="1260000"/>
            </a:xfrm>
          </p:grpSpPr>
          <p:cxnSp>
            <p:nvCxnSpPr>
              <p:cNvPr id="275" name="_s2052"/>
              <p:cNvCxnSpPr>
                <a:stCxn id="276" idx="0"/>
                <a:endCxn id="277" idx="2"/>
              </p:cNvCxnSpPr>
              <p:nvPr/>
            </p:nvCxnSpPr>
            <p:spPr>
              <a:xfrm flipV="1" rot="16200000">
                <a:off x="5544360" y="1989360"/>
                <a:ext cx="252720" cy="2269080"/>
              </a:xfrm>
              <a:prstGeom prst="bentConnector3">
                <a:avLst>
                  <a:gd name="adj1" fmla="val 24679"/>
                </a:avLst>
              </a:prstGeom>
              <a:ln w="57240">
                <a:solidFill>
                  <a:srgbClr val="ff5050"/>
                </a:solidFill>
                <a:miter/>
              </a:ln>
            </p:spPr>
          </p:cxnSp>
          <p:cxnSp>
            <p:nvCxnSpPr>
              <p:cNvPr id="278" name="_s2053"/>
              <p:cNvCxnSpPr>
                <a:stCxn id="279" idx="0"/>
                <a:endCxn id="277" idx="2"/>
              </p:cNvCxnSpPr>
              <p:nvPr/>
            </p:nvCxnSpPr>
            <p:spPr>
              <a:xfrm flipH="1" flipV="1" rot="5400000">
                <a:off x="3276720" y="1990080"/>
                <a:ext cx="252720" cy="2268000"/>
              </a:xfrm>
              <a:prstGeom prst="bentConnector3">
                <a:avLst>
                  <a:gd name="adj1" fmla="val 24679"/>
                </a:avLst>
              </a:prstGeom>
              <a:ln w="57240">
                <a:solidFill>
                  <a:srgbClr val="ff5050"/>
                </a:solidFill>
                <a:miter/>
              </a:ln>
            </p:spPr>
          </p:cxnSp>
          <p:sp>
            <p:nvSpPr>
              <p:cNvPr id="277" name="_s2054"/>
              <p:cNvSpPr/>
              <p:nvPr/>
            </p:nvSpPr>
            <p:spPr>
              <a:xfrm>
                <a:off x="2592720" y="2494080"/>
                <a:ext cx="3888000" cy="504000"/>
              </a:xfrm>
              <a:prstGeom prst="roundRect">
                <a:avLst>
                  <a:gd name="adj" fmla="val 16667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200" spc="-1" strike="noStrike">
                    <a:solidFill>
                      <a:srgbClr val="3b3b3b"/>
                    </a:solidFill>
                    <a:latin typeface="Garamond"/>
                    <a:ea typeface="Arial"/>
                  </a:rPr>
                  <a:t>Téléca</a:t>
                </a:r>
                <a:r>
                  <a:rPr b="1" lang="en-US" sz="2200" spc="-1" strike="noStrike">
                    <a:solidFill>
                      <a:srgbClr val="3b3b3b"/>
                    </a:solidFill>
                    <a:latin typeface="Garamond"/>
                    <a:ea typeface="Arial"/>
                  </a:rPr>
                  <a:t>b</a:t>
                </a:r>
                <a:r>
                  <a:rPr b="1" lang="fr-FR" sz="2200" spc="-1" strike="noStrike">
                    <a:solidFill>
                      <a:srgbClr val="3b3b3b"/>
                    </a:solidFill>
                    <a:latin typeface="Garamond"/>
                    <a:ea typeface="Arial"/>
                  </a:rPr>
                  <a:t>ine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_s2055"/>
              <p:cNvSpPr/>
              <p:nvPr/>
            </p:nvSpPr>
            <p:spPr>
              <a:xfrm>
                <a:off x="325440" y="3250080"/>
                <a:ext cx="3888000" cy="5040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3b3b3b"/>
                    </a:solidFill>
                    <a:latin typeface="Garamond"/>
                    <a:ea typeface="Arial"/>
                  </a:rPr>
                  <a:t>Stations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Garamond"/>
                    <a:ea typeface="Arial"/>
                  </a:rPr>
                  <a:t> 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_s2056"/>
              <p:cNvSpPr/>
              <p:nvPr/>
            </p:nvSpPr>
            <p:spPr>
              <a:xfrm>
                <a:off x="4861440" y="3250080"/>
                <a:ext cx="3888000" cy="504000"/>
              </a:xfrm>
              <a:prstGeom prst="roundRect">
                <a:avLst>
                  <a:gd name="adj" fmla="val 16667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Garamond"/>
                    <a:ea typeface="Arial"/>
                  </a:rPr>
                  <a:t> </a:t>
                </a:r>
                <a:r>
                  <a:rPr b="1" lang="en-US" sz="2200" spc="-1" strike="noStrike">
                    <a:solidFill>
                      <a:srgbClr val="3b3b3b"/>
                    </a:solidFill>
                    <a:latin typeface="Garamond"/>
                    <a:ea typeface="Arial"/>
                  </a:rPr>
                  <a:t>Pylônes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0" name="Line 11"/>
            <p:cNvSpPr/>
            <p:nvPr/>
          </p:nvSpPr>
          <p:spPr>
            <a:xfrm>
              <a:off x="1117440" y="3754440"/>
              <a:ext cx="0" cy="549360"/>
            </a:xfrm>
            <a:prstGeom prst="line">
              <a:avLst/>
            </a:prstGeom>
            <a:ln w="572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"/>
            <p:cNvSpPr/>
            <p:nvPr/>
          </p:nvSpPr>
          <p:spPr>
            <a:xfrm>
              <a:off x="3133800" y="3754440"/>
              <a:ext cx="0" cy="549360"/>
            </a:xfrm>
            <a:prstGeom prst="line">
              <a:avLst/>
            </a:prstGeom>
            <a:ln w="572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2" name="Group 13"/>
            <p:cNvGrpSpPr/>
            <p:nvPr/>
          </p:nvGrpSpPr>
          <p:grpSpPr>
            <a:xfrm>
              <a:off x="179280" y="4303800"/>
              <a:ext cx="1873080" cy="759240"/>
              <a:chOff x="179280" y="4303800"/>
              <a:chExt cx="1873080" cy="759240"/>
            </a:xfrm>
          </p:grpSpPr>
          <p:sp>
            <p:nvSpPr>
              <p:cNvPr id="283" name="Oval 14"/>
              <p:cNvSpPr/>
              <p:nvPr/>
            </p:nvSpPr>
            <p:spPr>
              <a:xfrm>
                <a:off x="179280" y="4303800"/>
                <a:ext cx="1873080" cy="493560"/>
              </a:xfrm>
              <a:prstGeom prst="ellipse">
                <a:avLst/>
              </a:prstGeom>
              <a:solidFill>
                <a:srgbClr val="6ea0b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Text Box 15"/>
              <p:cNvSpPr/>
              <p:nvPr/>
            </p:nvSpPr>
            <p:spPr>
              <a:xfrm>
                <a:off x="612720" y="4359240"/>
                <a:ext cx="1223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ff"/>
                    </a:solidFill>
                    <a:latin typeface="Garamond"/>
                    <a:ea typeface="Arial"/>
                  </a:rPr>
                  <a:t>Sattellite</a:t>
                </a:r>
                <a:r>
                  <a:rPr b="1" lang="fr-FR" sz="1800" spc="-1" strike="noStrike">
                    <a:solidFill>
                      <a:srgbClr val="ffffff"/>
                    </a:solidFill>
                    <a:latin typeface="Garamond"/>
                    <a:ea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16"/>
            <p:cNvGrpSpPr/>
            <p:nvPr/>
          </p:nvGrpSpPr>
          <p:grpSpPr>
            <a:xfrm>
              <a:off x="2125800" y="4303800"/>
              <a:ext cx="2086920" cy="493560"/>
              <a:chOff x="2125800" y="4303800"/>
              <a:chExt cx="2086920" cy="493560"/>
            </a:xfrm>
          </p:grpSpPr>
          <p:sp>
            <p:nvSpPr>
              <p:cNvPr id="286" name="Oval 17"/>
              <p:cNvSpPr/>
              <p:nvPr/>
            </p:nvSpPr>
            <p:spPr>
              <a:xfrm>
                <a:off x="2125800" y="4303800"/>
                <a:ext cx="2086920" cy="493560"/>
              </a:xfrm>
              <a:prstGeom prst="ellipse">
                <a:avLst/>
              </a:prstGeom>
              <a:solidFill>
                <a:srgbClr val="6ea0b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18"/>
              <p:cNvSpPr/>
              <p:nvPr/>
            </p:nvSpPr>
            <p:spPr>
              <a:xfrm>
                <a:off x="2608560" y="4359240"/>
                <a:ext cx="13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ff"/>
                    </a:solidFill>
                    <a:latin typeface="Garamond"/>
                    <a:ea typeface="Arial"/>
                  </a:rPr>
                  <a:t>Annexes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8" name="Line 19"/>
            <p:cNvSpPr/>
            <p:nvPr/>
          </p:nvSpPr>
          <p:spPr>
            <a:xfrm flipH="1">
              <a:off x="611280" y="4797360"/>
              <a:ext cx="576000" cy="57636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20"/>
            <p:cNvSpPr/>
            <p:nvPr/>
          </p:nvSpPr>
          <p:spPr>
            <a:xfrm>
              <a:off x="1187280" y="4797360"/>
              <a:ext cx="432000" cy="57636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1"/>
            <p:cNvSpPr/>
            <p:nvPr/>
          </p:nvSpPr>
          <p:spPr>
            <a:xfrm>
              <a:off x="3203640" y="4797360"/>
              <a:ext cx="0" cy="64764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2"/>
            <p:cNvSpPr/>
            <p:nvPr/>
          </p:nvSpPr>
          <p:spPr>
            <a:xfrm>
              <a:off x="3492360" y="4797360"/>
              <a:ext cx="0" cy="36036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23"/>
            <p:cNvSpPr/>
            <p:nvPr/>
          </p:nvSpPr>
          <p:spPr>
            <a:xfrm>
              <a:off x="108000" y="537372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Suppor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24"/>
            <p:cNvSpPr/>
            <p:nvPr/>
          </p:nvSpPr>
          <p:spPr>
            <a:xfrm>
              <a:off x="1187280" y="5373720"/>
              <a:ext cx="136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Équipemen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>
              <a:off x="3203640" y="5445000"/>
              <a:ext cx="3603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6"/>
            <p:cNvSpPr/>
            <p:nvPr/>
          </p:nvSpPr>
          <p:spPr>
            <a:xfrm>
              <a:off x="3490920" y="5086440"/>
              <a:ext cx="3603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2843280" y="4797360"/>
              <a:ext cx="0" cy="93672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8"/>
            <p:cNvSpPr/>
            <p:nvPr/>
          </p:nvSpPr>
          <p:spPr>
            <a:xfrm>
              <a:off x="2843280" y="5734080"/>
              <a:ext cx="3603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29"/>
            <p:cNvSpPr/>
            <p:nvPr/>
          </p:nvSpPr>
          <p:spPr>
            <a:xfrm>
              <a:off x="3564000" y="472608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Vigie, caisse ...et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30"/>
            <p:cNvSpPr/>
            <p:nvPr/>
          </p:nvSpPr>
          <p:spPr>
            <a:xfrm>
              <a:off x="3203640" y="508644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Garag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31"/>
            <p:cNvSpPr/>
            <p:nvPr/>
          </p:nvSpPr>
          <p:spPr>
            <a:xfrm>
              <a:off x="2843280" y="543888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Administration …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32"/>
            <p:cNvSpPr/>
            <p:nvPr/>
          </p:nvSpPr>
          <p:spPr>
            <a:xfrm>
              <a:off x="6443640" y="3745080"/>
              <a:ext cx="0" cy="549000"/>
            </a:xfrm>
            <a:prstGeom prst="line">
              <a:avLst/>
            </a:prstGeom>
            <a:ln w="572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33"/>
            <p:cNvSpPr/>
            <p:nvPr/>
          </p:nvSpPr>
          <p:spPr>
            <a:xfrm>
              <a:off x="7812000" y="3745080"/>
              <a:ext cx="0" cy="549000"/>
            </a:xfrm>
            <a:prstGeom prst="line">
              <a:avLst/>
            </a:prstGeom>
            <a:ln w="572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34"/>
            <p:cNvSpPr/>
            <p:nvPr/>
          </p:nvSpPr>
          <p:spPr>
            <a:xfrm>
              <a:off x="5724360" y="4221000"/>
              <a:ext cx="13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 </a:t>
              </a:r>
              <a:r>
                <a:rPr b="1" lang="fr-FR" sz="18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Pylônes au niveau de la statio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35"/>
            <p:cNvSpPr/>
            <p:nvPr/>
          </p:nvSpPr>
          <p:spPr>
            <a:xfrm>
              <a:off x="7164360" y="4221000"/>
              <a:ext cx="151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 </a:t>
              </a:r>
              <a:r>
                <a:rPr b="1" lang="fr-FR" sz="18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Pylônes intermédiair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684360" y="22741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11280" y="1333080"/>
            <a:ext cx="7921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Nombre de stations :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Sens de la montée : gau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Station motrice : </a:t>
            </a:r>
            <a:r>
              <a:rPr b="0" lang="fr-FR" sz="20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amont(</a:t>
            </a:r>
            <a:r>
              <a:rPr b="0" lang="fr-FR" sz="2000" spc="-1" strike="noStrike">
                <a:solidFill>
                  <a:srgbClr val="66ccff"/>
                </a:solidFill>
                <a:latin typeface="Garamond"/>
                <a:ea typeface="Arial"/>
              </a:rPr>
              <a:t>terrain tannoudji</a:t>
            </a:r>
            <a:r>
              <a:rPr b="0" lang="fr-FR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fr-FR" sz="2000" spc="-1" strike="noStrike">
                <a:solidFill>
                  <a:srgbClr val="66ccff"/>
                </a:solidFill>
                <a:latin typeface="Garamond"/>
                <a:ea typeface="Arial"/>
              </a:rPr>
              <a:t>)</a:t>
            </a:r>
            <a:r>
              <a:rPr b="0" lang="fr-FR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Station  intermédiaire (</a:t>
            </a:r>
            <a:r>
              <a:rPr b="0" lang="fr-FR" sz="1400" spc="-1" strike="noStrike">
                <a:solidFill>
                  <a:srgbClr val="ffffff"/>
                </a:solidFill>
                <a:latin typeface="Garamond"/>
                <a:ea typeface="Arial"/>
              </a:rPr>
              <a:t>PARKING DU CENTRE HOSPITALIER UNIVERSITAIRE</a:t>
            </a:r>
            <a:r>
              <a:rPr b="0" lang="fr-FR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fr-FR" sz="1800" spc="-1" strike="noStrike">
                <a:solidFill>
                  <a:srgbClr val="66ccff"/>
                </a:solidFill>
                <a:latin typeface="Garamond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Station de renvoi : aval  </a:t>
            </a:r>
            <a:r>
              <a:rPr b="0" lang="fr-FR" sz="1800" spc="-1" strike="noStrike">
                <a:solidFill>
                  <a:srgbClr val="66ccff"/>
                </a:solidFill>
                <a:latin typeface="Garamond"/>
                <a:ea typeface="Arial"/>
              </a:rPr>
              <a:t>(</a:t>
            </a:r>
            <a:r>
              <a:rPr b="0" lang="fr-FR" sz="2000" spc="-1" strike="noStrike">
                <a:solidFill>
                  <a:srgbClr val="66ccff"/>
                </a:solidFill>
                <a:latin typeface="Garamond"/>
                <a:ea typeface="Arial"/>
              </a:rPr>
              <a:t>Station tatach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Surface totale des station 1700m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Longueur horizontal : 1804.07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Dénivellation : 28.00m </a:t>
            </a:r>
            <a:r>
              <a:rPr b="0" lang="fr-FR" sz="2400" spc="-1" strike="noStrike">
                <a:solidFill>
                  <a:srgbClr val="66ccff"/>
                </a:solidFill>
                <a:latin typeface="Garamond"/>
                <a:ea typeface="Arial"/>
              </a:rPr>
              <a:t>(st amont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Arial"/>
              </a:rPr>
              <a:t>–</a:t>
            </a:r>
            <a:r>
              <a:rPr b="0" lang="fr-FR" sz="2400" spc="-1" strike="noStrike">
                <a:solidFill>
                  <a:srgbClr val="66ccff"/>
                </a:solidFill>
                <a:latin typeface="Garamond"/>
                <a:ea typeface="Arial"/>
              </a:rPr>
              <a:t>aval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Pente moyenne : 1.5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Inclinaison du câble max -39.5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Longueur suivant la pente 1842.37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Longueur du câble sans fin : 3770.72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260360" y="1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Caractéristiques techniques du proj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500" autoRev="1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164" dur="500" autoRev="1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165" dur="500" autoRev="1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1187280" y="905040"/>
            <a:ext cx="64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Nombre de pylônes :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Diamètre des ca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b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les 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Ø=50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Charge de Rupture effective 1747K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Diamètre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de la poulie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motrice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5.20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Diamèt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de la poulie  de Renvoi  6.10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Largueur de la voie 5.20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Puissance en service 444 K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puissance de démarrage (0.15m/s²).555K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Altitude de la station motrice 158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 u="sng">
                <a:solidFill>
                  <a:srgbClr val="00b0f0"/>
                </a:solidFill>
                <a:uFillTx/>
                <a:latin typeface="Franklin Gothic Book"/>
              </a:rPr>
              <a:t>Etat Statistiqu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0" name="Espace réservé du contenu 3" descr=""/>
          <p:cNvPicPr/>
          <p:nvPr/>
        </p:nvPicPr>
        <p:blipFill>
          <a:blip r:embed="rId1"/>
          <a:stretch/>
        </p:blipFill>
        <p:spPr>
          <a:xfrm>
            <a:off x="554040" y="1322280"/>
            <a:ext cx="8211960" cy="5267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539640" y="1908000"/>
            <a:ext cx="8136000" cy="252108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3"/>
          <p:cNvSpPr/>
          <p:nvPr/>
        </p:nvSpPr>
        <p:spPr>
          <a:xfrm>
            <a:off x="4572000" y="1908000"/>
            <a:ext cx="0" cy="252108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4"/>
          <p:cNvSpPr/>
          <p:nvPr/>
        </p:nvSpPr>
        <p:spPr>
          <a:xfrm flipH="1">
            <a:off x="539640" y="2341440"/>
            <a:ext cx="8136000" cy="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116000" y="19810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ETAT INITIA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5761080" y="19828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ETAT F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684360" y="2484360"/>
            <a:ext cx="38163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Vitesse   6.00m/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 </a:t>
            </a: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De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  <a:ea typeface="Arial"/>
              </a:rPr>
              <a:t>b</a:t>
            </a: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it   1200p/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Norme de véhicules 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Cadencement  45.00 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Durée du trajet  8 m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Distance entre véhicules 270.00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4932360" y="2484360"/>
            <a:ext cx="38163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Vitesse   6.00m/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 </a:t>
            </a: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De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  <a:ea typeface="Arial"/>
              </a:rPr>
              <a:t>b</a:t>
            </a: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it   2000p/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Norme de véhicules  3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Cadencement  27.00 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Durée du trajet  7.44 m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Distance entre véhicules 162.00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500" autoRev="1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279" dur="500" autoRev="1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280" dur="500" autoRev="1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308" dur="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309" dur="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ff9966"/>
                </a:solidFill>
                <a:latin typeface="Franklin Gothic Book"/>
              </a:rPr>
              <a:t>Schémas de principe</a:t>
            </a:r>
            <a:r>
              <a:rPr b="0" lang="fr-FR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9" name="Picture 3" descr="Les remontées mécaniques dispositifs de sécurité en gares_Page_3_Image_0001"/>
          <p:cNvPicPr/>
          <p:nvPr/>
        </p:nvPicPr>
        <p:blipFill>
          <a:blip r:embed="rId1"/>
          <a:stretch/>
        </p:blipFill>
        <p:spPr>
          <a:xfrm>
            <a:off x="971640" y="1341360"/>
            <a:ext cx="6985080" cy="460872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sp>
        <p:nvSpPr>
          <p:cNvPr id="320" name="Line 4"/>
          <p:cNvSpPr/>
          <p:nvPr/>
        </p:nvSpPr>
        <p:spPr>
          <a:xfrm>
            <a:off x="1042920" y="2133720"/>
            <a:ext cx="863640" cy="0"/>
          </a:xfrm>
          <a:prstGeom prst="line">
            <a:avLst/>
          </a:prstGeom>
          <a:ln w="7632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5"/>
          <p:cNvSpPr/>
          <p:nvPr/>
        </p:nvSpPr>
        <p:spPr>
          <a:xfrm flipH="1">
            <a:off x="1042920" y="5300640"/>
            <a:ext cx="936720" cy="0"/>
          </a:xfrm>
          <a:prstGeom prst="line">
            <a:avLst/>
          </a:prstGeom>
          <a:ln w="7632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 rot="5400000">
            <a:off x="4635000" y="2357280"/>
            <a:ext cx="2789280" cy="2916360"/>
          </a:xfrm>
          <a:prstGeom prst="pie">
            <a:avLst/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7"/>
          <p:cNvSpPr/>
          <p:nvPr/>
        </p:nvSpPr>
        <p:spPr>
          <a:xfrm flipV="1">
            <a:off x="7236000" y="2205000"/>
            <a:ext cx="288720" cy="432000"/>
          </a:xfrm>
          <a:prstGeom prst="line">
            <a:avLst/>
          </a:prstGeom>
          <a:ln w="381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8"/>
          <p:cNvSpPr/>
          <p:nvPr/>
        </p:nvSpPr>
        <p:spPr>
          <a:xfrm flipV="1">
            <a:off x="7451640" y="2491920"/>
            <a:ext cx="433440" cy="360360"/>
          </a:xfrm>
          <a:prstGeom prst="line">
            <a:avLst/>
          </a:prstGeom>
          <a:ln w="381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7524720" y="2923920"/>
            <a:ext cx="503280" cy="144360"/>
          </a:xfrm>
          <a:prstGeom prst="line">
            <a:avLst/>
          </a:prstGeom>
          <a:ln w="381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10"/>
          <p:cNvSpPr/>
          <p:nvPr/>
        </p:nvSpPr>
        <p:spPr>
          <a:xfrm flipH="1" flipV="1">
            <a:off x="7451280" y="4437000"/>
            <a:ext cx="576360" cy="146160"/>
          </a:xfrm>
          <a:prstGeom prst="line">
            <a:avLst/>
          </a:prstGeom>
          <a:ln w="381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1"/>
          <p:cNvSpPr/>
          <p:nvPr/>
        </p:nvSpPr>
        <p:spPr>
          <a:xfrm flipH="1" flipV="1">
            <a:off x="7308720" y="4797360"/>
            <a:ext cx="503280" cy="287280"/>
          </a:xfrm>
          <a:prstGeom prst="line">
            <a:avLst/>
          </a:prstGeom>
          <a:ln w="381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12"/>
          <p:cNvSpPr/>
          <p:nvPr/>
        </p:nvSpPr>
        <p:spPr>
          <a:xfrm flipH="1" flipV="1">
            <a:off x="7093080" y="5155920"/>
            <a:ext cx="358560" cy="360360"/>
          </a:xfrm>
          <a:prstGeom prst="line">
            <a:avLst/>
          </a:prstGeom>
          <a:ln w="381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50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336" dur="50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337" dur="50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46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5607E-006 L 0.07083 -0.11537 E">
                                      <p:cBhvr>
                                        <p:cTn id="350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4798E-006 L 0.07882 -0.08901 E">
                                      <p:cBhvr>
                                        <p:cTn id="352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5.78035E-007 L 0.09843 -0.0837 E">
                                      <p:cBhvr>
                                        <p:cTn id="354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38728E-006 L 0.10243 0.03121 E">
                                      <p:cBhvr>
                                        <p:cTn id="358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42775E-006 L 0.09062 0.06312 E">
                                      <p:cBhvr>
                                        <p:cTn id="360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7341E-007 L 0.09063 0.06844 E">
                                      <p:cBhvr>
                                        <p:cTn id="362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66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8:24:12Z</dcterms:created>
  <dc:creator>SWEET</dc:creator>
  <dc:description/>
  <dc:language>en-US</dc:language>
  <cp:lastModifiedBy>Mohamed</cp:lastModifiedBy>
  <dcterms:modified xsi:type="dcterms:W3CDTF">2009-01-15T21:07:00Z</dcterms:modified>
  <cp:revision>7</cp:revision>
  <dc:subject/>
  <dc:title>Diapositive 1</dc:title>
</cp:coreProperties>
</file>