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camera.wav" ContentType="audio/x-wav"/>
  <Override PartName="/ppt/media/image2.png" ContentType="image/png"/>
  <Override PartName="/ppt/media/image25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23.png" ContentType="image/png"/>
  <Override PartName="/ppt/media/image13.jpeg" ContentType="image/jpeg"/>
  <Override PartName="/ppt/media/image29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26D-A027-4050-A349-F8ABA16D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C6E-DF4A-4850-97C8-A0E55571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E18-830A-4ECC-9152-10F58505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8EC-5FCC-452F-927A-139C3B9D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62C8-5A95-4AA2-9093-D99EA1D1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4D9D-95AA-4901-8DA0-89880738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83F1-D044-40CC-BD98-A8121132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39B5-392D-40F7-B531-597C8A5E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D276-94E4-46B5-BFC9-7CD050ED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C87-BF46-4FEE-BB0B-551BA69B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6300-7290-4758-9144-EB694771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79B-6655-4928-AFFB-FCC3B64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3040-1787-4A4E-B197-382FD2C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C7AC-AB2E-4011-96BC-54CB3314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FD93-8D57-48BD-8988-FCD5AB23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4B6B-8056-4848-A4BC-9B331220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0A2A-80E9-4CA4-B34E-D92BE64A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06F-1293-41A9-803F-2113FA01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D29-708A-4627-A86D-E6F4ACF0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F4F-5391-4160-A0B6-B8511487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8EE-4DFE-45DA-892D-92C125C6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FE3-8039-4BE1-B086-FF97A060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A71-1DBB-41C0-A469-3412E327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C4B-A01E-41F0-8ED2-865825EB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A195-C3C0-4D32-9A20-26AEBE95D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8E67-775F-4D0F-9D55-62F2574F2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92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اختن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ـ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ق</a:t>
            </a:r>
            <a:r>
              <a:rPr b="1" lang="ar-SA" sz="8000" spc="-1" strike="noStrike">
                <a:solidFill>
                  <a:srgbClr val="ffff00"/>
                </a:solidFill>
                <a:latin typeface="Arial"/>
                <a:ea typeface="Simplified Arabic"/>
              </a:rPr>
              <a:t> المفاج</a:t>
            </a:r>
            <a:r>
              <a:rPr b="1" lang="ar-EG" sz="8000" spc="-1" strike="noStrike">
                <a:solidFill>
                  <a:srgbClr val="ffff00"/>
                </a:solidFill>
                <a:latin typeface="Arial"/>
                <a:cs typeface="Simplified Arabic"/>
              </a:rPr>
              <a:t>ـ</a:t>
            </a: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Simplified Arabic"/>
              </a:rPr>
              <a:t>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57400" y="5562720"/>
            <a:ext cx="2057400" cy="761760"/>
          </a:xfrm>
          <a:prstGeom prst="leftArrow">
            <a:avLst>
              <a:gd name="adj1" fmla="val 50000"/>
              <a:gd name="adj2" fmla="val 6752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19920" y="4952880"/>
            <a:ext cx="2514600" cy="990720"/>
          </a:xfrm>
          <a:custGeom>
            <a:avLst/>
            <a:gdLst>
              <a:gd name="textAreaLeft" fmla="*/ 314280 w 2514600"/>
              <a:gd name="textAreaRight" fmla="*/ 2200320 w 25146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124080" y="2438280"/>
            <a:ext cx="1143000" cy="12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590560" y="3124080"/>
            <a:ext cx="99036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546360"/>
            <a:ext cx="2073240" cy="119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</a:rPr>
              <a:t>ا</a:t>
            </a: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لجسم الغ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4343400" y="1371600"/>
            <a:ext cx="380880" cy="3429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572000"/>
            <a:ext cx="1600200" cy="609480"/>
          </a:xfrm>
          <a:prstGeom prst="leftArrow">
            <a:avLst>
              <a:gd name="adj1" fmla="val 50000"/>
              <a:gd name="adj2" fmla="val 6563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257800"/>
            <a:ext cx="2057400" cy="2297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سيدة الحام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فاقدة الوع</a:t>
            </a:r>
            <a:r>
              <a:rPr b="1" lang="ar-EG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011320"/>
            <a:ext cx="8424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800" spc="-1" strike="noStrike">
                <a:solidFill>
                  <a:srgbClr val="ffff00"/>
                </a:solidFill>
                <a:latin typeface="Arial"/>
                <a:cs typeface="Simplified Arabic"/>
              </a:rPr>
              <a:t>طريقة هايمليك ل</a:t>
            </a: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Simplified Arabic"/>
              </a:rPr>
              <a:t>لطفل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160" y="0"/>
            <a:ext cx="430524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7543800" y="304920"/>
            <a:ext cx="1600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80"/>
                </a:solidFill>
                <a:latin typeface="Times New Roman"/>
              </a:rPr>
              <a:t>الطفل الواع</a:t>
            </a:r>
            <a:r>
              <a:rPr b="1" lang="ar-EG" sz="2400" spc="-1" strike="noStrike">
                <a:solidFill>
                  <a:srgbClr val="000080"/>
                </a:solidFill>
                <a:latin typeface="Times New Roman"/>
                <a:cs typeface="Times New Roman"/>
              </a:rPr>
              <a:t>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5791320"/>
            <a:ext cx="533160" cy="7617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791320" y="228600"/>
            <a:ext cx="30477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Times New Roman"/>
              </a:rPr>
              <a:t>الطفل فاقد  ال</a:t>
            </a:r>
            <a:r>
              <a:rPr b="1" lang="ar-SA" sz="3600" spc="-1" strike="noStrike">
                <a:solidFill>
                  <a:srgbClr val="000080"/>
                </a:solidFill>
                <a:latin typeface="Times New Roman"/>
                <a:cs typeface="Times New Roman"/>
              </a:rPr>
              <a:t>و</a:t>
            </a:r>
            <a:r>
              <a:rPr b="1" lang="ar-SA" sz="3600" spc="-1" strike="noStrike">
                <a:solidFill>
                  <a:srgbClr val="000080"/>
                </a:solidFill>
                <a:latin typeface="Times New Roman"/>
              </a:rPr>
              <a:t>ع</a:t>
            </a:r>
            <a:r>
              <a:rPr b="1" lang="ar-EG" sz="3600" spc="-1" strike="noStrike">
                <a:solidFill>
                  <a:srgbClr val="000080"/>
                </a:solidFill>
                <a:latin typeface="Times New Roman"/>
                <a:cs typeface="Times New Roman"/>
              </a:rPr>
              <a:t>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2187720"/>
            <a:ext cx="885672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طريقة هايمليك</a:t>
            </a:r>
            <a:r>
              <a:rPr b="1" lang="ar-EG" sz="7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000" spc="-1" strike="noStrike">
                <a:solidFill>
                  <a:srgbClr val="ffff00"/>
                </a:solidFill>
                <a:latin typeface="Arial"/>
                <a:cs typeface="Simplified Arabic"/>
              </a:rPr>
              <a:t>للبالغ</a:t>
            </a:r>
            <a:r>
              <a:rPr b="1" lang="ar-SA" sz="7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الواع</a:t>
            </a:r>
            <a:r>
              <a:rPr b="1" lang="ar-EG" sz="7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ى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4419360" y="1447920"/>
            <a:ext cx="685800" cy="2361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419720" y="1752480"/>
            <a:ext cx="175248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62520" y="4176720"/>
            <a:ext cx="205740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</a:rPr>
              <a:t>ا</a:t>
            </a: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لجسم الغ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200040" y="3200400"/>
            <a:ext cx="762120" cy="9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208296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0" spc="-1" strike="noStrike">
                <a:solidFill>
                  <a:srgbClr val="ffff00"/>
                </a:solidFill>
                <a:latin typeface="Arial"/>
                <a:cs typeface="Simplified Arabic"/>
              </a:rPr>
              <a:t>طريقة هايمليك للرضي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9360">
            <a:solidFill>
              <a:srgbClr val="45c984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9360">
            <a:solidFill>
              <a:srgbClr val="45c984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6248520" y="2133720"/>
            <a:ext cx="2438280" cy="2361960"/>
          </a:xfrm>
          <a:custGeom>
            <a:avLst/>
            <a:gdLst>
              <a:gd name="textAreaLeft" fmla="*/ 409320 w 2438280"/>
              <a:gd name="textAreaRight" fmla="*/ 1854000 w 2438280"/>
              <a:gd name="textAreaTop" fmla="*/ 316440 h 2361960"/>
              <a:gd name="textAreaBottom" fmla="*/ 20455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55" hR="21600" stAng="10800000" swAng="5400000"/>
                <a:lnTo>
                  <a:pt x="12795" y="0"/>
                </a:lnTo>
                <a:arcTo wR="7255" hR="21600" stAng="-5400000" swAng="2561731"/>
                <a:lnTo>
                  <a:pt x="21162" y="14211"/>
                </a:lnTo>
                <a:lnTo>
                  <a:pt x="17280" y="21600"/>
                </a:lnTo>
                <a:lnTo>
                  <a:pt x="12522" y="14211"/>
                </a:lnTo>
                <a:lnTo>
                  <a:pt x="14072" y="14211"/>
                </a:lnTo>
                <a:arcTo wR="7255" hR="21600" stAng="-2838269" swAng="-2087762"/>
                <a:lnTo>
                  <a:pt x="10025" y="1636"/>
                </a:lnTo>
                <a:arcTo wR="7255" hR="21600" stAng="-5873969" swAng="-4926031"/>
                <a:close/>
              </a:path>
              <a:path fill="darkenLess" w="21600" h="21600">
                <a:moveTo>
                  <a:pt x="0" y="21600"/>
                </a:moveTo>
                <a:arcTo wR="7255" hR="21600" stAng="10800000" swAng="5400000"/>
                <a:lnTo>
                  <a:pt x="7255" y="0"/>
                </a:lnTo>
                <a:arcTo wR="7255" hR="21600" stAng="-5400000" swAng="473969"/>
                <a:lnTo>
                  <a:pt x="10025" y="1636"/>
                </a:lnTo>
                <a:arcTo wR="7255" hR="21600" stAng="-5873969" swAng="-4926031"/>
                <a:close/>
              </a:path>
            </a:pathLst>
          </a:custGeom>
          <a:solidFill>
            <a:srgbClr val="ffffff"/>
          </a:solidFill>
          <a:ln w="9360">
            <a:solidFill>
              <a:srgbClr val="45c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3933720"/>
            <a:ext cx="106668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57200" y="1523880"/>
            <a:ext cx="2666880" cy="175284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234720 h 1752840"/>
              <a:gd name="textAreaBottom" fmla="*/ 1518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809880" y="2438280"/>
            <a:ext cx="22860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133720"/>
            <a:ext cx="22860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362320"/>
            <a:ext cx="198108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Times New Roman"/>
              </a:rPr>
              <a:t>حلمت</a:t>
            </a:r>
            <a:r>
              <a:rPr b="1" lang="ar-EG" sz="3200" spc="-1" strike="noStrike">
                <a:solidFill>
                  <a:srgbClr val="000080"/>
                </a:solidFill>
                <a:latin typeface="Times New Roman"/>
                <a:cs typeface="Times New Roman"/>
              </a:rPr>
              <a:t>ى</a:t>
            </a:r>
            <a:r>
              <a:rPr b="1" lang="ar-SA" sz="3200" spc="-1" strike="noStrike">
                <a:solidFill>
                  <a:srgbClr val="000080"/>
                </a:solidFill>
                <a:latin typeface="Times New Roman"/>
              </a:rPr>
              <a:t> الصد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86000" y="2285640"/>
            <a:ext cx="6094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5909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9360">
            <a:solidFill>
              <a:srgbClr val="45c984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9360">
            <a:solidFill>
              <a:srgbClr val="45c9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98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H="1" flipV="1">
            <a:off x="3048120" y="3276360"/>
            <a:ext cx="312408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46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7480" y="0"/>
            <a:ext cx="66294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4648320"/>
            <a:ext cx="2838600" cy="1447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6800" y="3352680"/>
            <a:ext cx="2522520" cy="381240"/>
          </a:xfrm>
          <a:prstGeom prst="rightArrow">
            <a:avLst>
              <a:gd name="adj1" fmla="val 50000"/>
              <a:gd name="adj2" fmla="val 1654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6093000"/>
            <a:ext cx="266400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Times New Roman"/>
              </a:rPr>
              <a:t>سيدة حامل واع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2166840"/>
            <a:ext cx="86407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طريقة هايمليك</a:t>
            </a:r>
            <a:r>
              <a:rPr b="1" lang="ar-EG" sz="75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500" spc="-1" strike="noStrike">
                <a:solidFill>
                  <a:srgbClr val="ffff00"/>
                </a:solidFill>
                <a:latin typeface="Arial"/>
                <a:cs typeface="Simplified Arabic"/>
              </a:rPr>
              <a:t>للبالغ </a:t>
            </a:r>
            <a:br>
              <a:rPr sz="7500"/>
            </a:br>
            <a:r>
              <a:rPr b="1" lang="ar-SA" sz="7500" spc="-1" strike="noStrike">
                <a:solidFill>
                  <a:srgbClr val="ffff00"/>
                </a:solidFill>
                <a:latin typeface="Arial"/>
                <a:cs typeface="Simplified Arabic"/>
              </a:rPr>
              <a:t>فاقد </a:t>
            </a:r>
            <a:r>
              <a:rPr b="1" lang="ar-SA" sz="75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وع</a:t>
            </a:r>
            <a:r>
              <a:rPr b="1" lang="ar-EG" sz="75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ى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2791800">
            <a:off x="4399920" y="1565640"/>
            <a:ext cx="4267080" cy="1255680"/>
          </a:xfrm>
          <a:prstGeom prst="rightArrow">
            <a:avLst>
              <a:gd name="adj1" fmla="val 50000"/>
              <a:gd name="adj2" fmla="val 8495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gyptian Red Crscent</cp:lastModifiedBy>
  <dcterms:modified xsi:type="dcterms:W3CDTF">2007-07-07T14:44:27Z</dcterms:modified>
  <cp:revision>237</cp:revision>
  <dc:subject/>
  <dc:title>عرض تقديمي من PowerPoint</dc:title>
</cp:coreProperties>
</file>