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camera.wav" ContentType="audio/x-wav"/>
  <Override PartName="/ppt/media/image2.png" ContentType="image/png"/>
  <Override PartName="/ppt/media/image25.png" ContentType="image/png"/>
  <Override PartName="/ppt/media/image4.jpeg" ContentType="image/jpeg"/>
  <Override PartName="/ppt/media/image5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23.png" ContentType="image/png"/>
  <Override PartName="/ppt/media/image13.jpeg" ContentType="image/jpeg"/>
  <Override PartName="/ppt/media/image29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72A-6110-4E8A-BFD3-3629890A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6C6-73C4-4596-9EFD-6FEB43A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3B4-5649-42C7-95AC-0BA4BEF3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03F-D653-413F-B357-F21C286A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8454-3645-480D-9993-BD3A1B3F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BBB2-D317-4C40-AA1E-BA5DF36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2B65-28BA-44EE-ACD7-DD6CAF5B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5AD1-6CBA-4787-BB51-8FA364BA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76F-3DD3-47AA-AAC7-FE2ED50B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9CD4-1EAB-4578-9724-F40278C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A837-6767-4B0C-8643-DBED3CA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B5D-26DA-4439-8BBB-3BFA749D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9482-EE16-402C-8EAE-4F7FE59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FD2E-0629-4963-8D48-07D3EBE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2853-FA68-42EB-A843-775B852C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CBFF-7B81-465A-9314-E67EDCE2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EEF4-C592-46D9-BE8A-CE0DC1C5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F4F-DA31-46CD-8A17-A9ED284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6FF-E4E2-4AE9-8D6F-3C8C339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587-0694-4DD0-AF80-04109359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C17B-FB75-49AA-92DA-00F22E8B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BC5-F9FF-460D-99F6-7DD24FF6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4A7-8C8B-43AC-A241-E1522709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31F-826A-437B-B615-46FA4DD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1C48-6E1B-46E3-B791-69297E79E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AFBE-3D0E-449C-96D1-9DC634052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392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اختن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ق</a:t>
            </a:r>
            <a:r>
              <a:rPr b="1" lang="ar-SA" sz="8000" spc="-1" strike="noStrike">
                <a:solidFill>
                  <a:srgbClr val="ffff00"/>
                </a:solidFill>
                <a:latin typeface="Arial"/>
                <a:ea typeface="Simplified Arabic"/>
              </a:rPr>
              <a:t> المفاج</a:t>
            </a:r>
            <a:r>
              <a:rPr b="1" lang="ar-EG" sz="8000" spc="-1" strike="noStrike">
                <a:solidFill>
                  <a:srgbClr val="ffff00"/>
                </a:solidFill>
                <a:latin typeface="Arial"/>
                <a:cs typeface="Simplified Arabic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Simplified Arabic"/>
              </a:rPr>
              <a:t>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057400" y="5562720"/>
            <a:ext cx="2057400" cy="761760"/>
          </a:xfrm>
          <a:prstGeom prst="leftArrow">
            <a:avLst>
              <a:gd name="adj1" fmla="val 50000"/>
              <a:gd name="adj2" fmla="val 675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19920" y="4952880"/>
            <a:ext cx="2514600" cy="990720"/>
          </a:xfrm>
          <a:custGeom>
            <a:avLst/>
            <a:gdLst>
              <a:gd name="textAreaLeft" fmla="*/ 314280 w 2514600"/>
              <a:gd name="textAreaRight" fmla="*/ 2200320 w 25146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124080" y="2438280"/>
            <a:ext cx="114300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590560" y="3124080"/>
            <a:ext cx="99036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546360"/>
            <a:ext cx="207324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</a:rPr>
              <a:t>ا</a:t>
            </a: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لجسم الغ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343400" y="1371600"/>
            <a:ext cx="380880" cy="3429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572000"/>
            <a:ext cx="1600200" cy="609480"/>
          </a:xfrm>
          <a:prstGeom prst="leftArrow">
            <a:avLst>
              <a:gd name="adj1" fmla="val 50000"/>
              <a:gd name="adj2" fmla="val 6563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257800"/>
            <a:ext cx="2057400" cy="2297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السيدة الحام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فاقدة الوع</a:t>
            </a:r>
            <a:r>
              <a:rPr b="1" lang="ar-EG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011320"/>
            <a:ext cx="8424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800" spc="-1" strike="noStrike">
                <a:solidFill>
                  <a:srgbClr val="ffff00"/>
                </a:solidFill>
                <a:latin typeface="Arial"/>
                <a:cs typeface="Simplified Arabic"/>
              </a:rPr>
              <a:t>طريقة هايمليك ل</a:t>
            </a:r>
            <a:r>
              <a:rPr b="1" lang="ar-SA" sz="8800" spc="-1" strike="noStrike">
                <a:solidFill>
                  <a:srgbClr val="ffff00"/>
                </a:solidFill>
                <a:latin typeface="Arial"/>
                <a:cs typeface="Simplified Arabic"/>
              </a:rPr>
              <a:t>لطفل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160" y="0"/>
            <a:ext cx="430524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543800" y="304920"/>
            <a:ext cx="1600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80"/>
                </a:solidFill>
                <a:latin typeface="Times New Roman"/>
              </a:rPr>
              <a:t>الطفل الواع</a:t>
            </a:r>
            <a:r>
              <a:rPr b="1" lang="ar-EG" sz="24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5791320"/>
            <a:ext cx="533160" cy="7617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791320" y="228600"/>
            <a:ext cx="30477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Times New Roman"/>
              </a:rPr>
              <a:t>الطفل فاقد  ال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و</a:t>
            </a:r>
            <a:r>
              <a:rPr b="1" lang="ar-SA" sz="3600" spc="-1" strike="noStrike">
                <a:solidFill>
                  <a:srgbClr val="000080"/>
                </a:solidFill>
                <a:latin typeface="Times New Roman"/>
              </a:rPr>
              <a:t>ع</a:t>
            </a:r>
            <a:r>
              <a:rPr b="1" lang="ar-EG" sz="36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2187720"/>
            <a:ext cx="885672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طريقة هايمليك</a:t>
            </a:r>
            <a:r>
              <a:rPr b="1" lang="ar-EG" sz="7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000" spc="-1" strike="noStrike">
                <a:solidFill>
                  <a:srgbClr val="ffff00"/>
                </a:solidFill>
                <a:latin typeface="Arial"/>
                <a:cs typeface="Simplified Arabic"/>
              </a:rPr>
              <a:t>للبالغ</a:t>
            </a:r>
            <a:r>
              <a:rPr b="1" lang="ar-SA" sz="7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الواع</a:t>
            </a:r>
            <a:r>
              <a:rPr b="1" lang="ar-EG" sz="7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ى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4419360" y="1447920"/>
            <a:ext cx="685800" cy="2361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419720" y="1752480"/>
            <a:ext cx="175248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62520" y="4176720"/>
            <a:ext cx="205740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Times New Roman"/>
              </a:rPr>
              <a:t>ا</a:t>
            </a: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لجسم الغ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200040" y="3200400"/>
            <a:ext cx="762120" cy="9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208296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Arial"/>
                <a:cs typeface="Simplified Arabic"/>
              </a:rPr>
              <a:t>طريقة هايمليك للرضي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248520" y="2133720"/>
            <a:ext cx="2438280" cy="2361960"/>
          </a:xfrm>
          <a:custGeom>
            <a:avLst/>
            <a:gdLst>
              <a:gd name="textAreaLeft" fmla="*/ 409320 w 2438280"/>
              <a:gd name="textAreaRight" fmla="*/ 1854000 w 2438280"/>
              <a:gd name="textAreaTop" fmla="*/ 316440 h 2361960"/>
              <a:gd name="textAreaBottom" fmla="*/ 20455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55" hR="21600" stAng="10800000" swAng="5400000"/>
                <a:lnTo>
                  <a:pt x="12795" y="0"/>
                </a:lnTo>
                <a:arcTo wR="7255" hR="21600" stAng="-5400000" swAng="2561731"/>
                <a:lnTo>
                  <a:pt x="21162" y="14211"/>
                </a:lnTo>
                <a:lnTo>
                  <a:pt x="17280" y="21600"/>
                </a:lnTo>
                <a:lnTo>
                  <a:pt x="12522" y="14211"/>
                </a:lnTo>
                <a:lnTo>
                  <a:pt x="14072" y="14211"/>
                </a:lnTo>
                <a:arcTo wR="7255" hR="21600" stAng="-2838269" swAng="-2087762"/>
                <a:lnTo>
                  <a:pt x="10025" y="1636"/>
                </a:lnTo>
                <a:arcTo wR="7255" hR="21600" stAng="-5873969" swAng="-4926031"/>
                <a:close/>
              </a:path>
              <a:path fill="darkenLess" w="21600" h="21600">
                <a:moveTo>
                  <a:pt x="0" y="21600"/>
                </a:moveTo>
                <a:arcTo wR="7255" hR="21600" stAng="10800000" swAng="5400000"/>
                <a:lnTo>
                  <a:pt x="7255" y="0"/>
                </a:lnTo>
                <a:arcTo wR="7255" hR="21600" stAng="-5400000" swAng="473969"/>
                <a:lnTo>
                  <a:pt x="10025" y="1636"/>
                </a:lnTo>
                <a:arcTo wR="7255" hR="21600" stAng="-5873969" swAng="-4926031"/>
                <a:close/>
              </a:path>
            </a:pathLst>
          </a:custGeom>
          <a:solidFill>
            <a:srgbClr val="ffffff"/>
          </a:solidFill>
          <a:ln w="936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3933720"/>
            <a:ext cx="10666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57200" y="1523880"/>
            <a:ext cx="2666880" cy="175284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234720 h 1752840"/>
              <a:gd name="textAreaBottom" fmla="*/ 1518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09880" y="2438280"/>
            <a:ext cx="228600" cy="152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133720"/>
            <a:ext cx="22860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362320"/>
            <a:ext cx="19810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Times New Roman"/>
              </a:rPr>
              <a:t>حلمت</a:t>
            </a:r>
            <a:r>
              <a:rPr b="1" lang="ar-EG" sz="3200" spc="-1" strike="noStrike">
                <a:solidFill>
                  <a:srgbClr val="000080"/>
                </a:solidFill>
                <a:latin typeface="Times New Roman"/>
                <a:cs typeface="Times New Roman"/>
              </a:rPr>
              <a:t>ى</a:t>
            </a:r>
            <a:r>
              <a:rPr b="1" lang="ar-SA" sz="3200" spc="-1" strike="noStrike">
                <a:solidFill>
                  <a:srgbClr val="000080"/>
                </a:solidFill>
                <a:latin typeface="Times New Roman"/>
              </a:rPr>
              <a:t> الص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86000" y="2285640"/>
            <a:ext cx="60948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59092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98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 flipV="1">
            <a:off x="3048120" y="3276360"/>
            <a:ext cx="312408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4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7480" y="0"/>
            <a:ext cx="66294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4648320"/>
            <a:ext cx="2838600" cy="14475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6800" y="3352680"/>
            <a:ext cx="2522520" cy="381240"/>
          </a:xfrm>
          <a:prstGeom prst="rightArrow">
            <a:avLst>
              <a:gd name="adj1" fmla="val 50000"/>
              <a:gd name="adj2" fmla="val 1654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6093000"/>
            <a:ext cx="266400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Times New Roman"/>
              </a:rPr>
              <a:t>سيدة حامل واع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2166840"/>
            <a:ext cx="86407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طريقة هايمليك</a:t>
            </a:r>
            <a:r>
              <a:rPr b="1" lang="ar-EG" sz="75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500" spc="-1" strike="noStrike">
                <a:solidFill>
                  <a:srgbClr val="ffff00"/>
                </a:solidFill>
                <a:latin typeface="Arial"/>
                <a:cs typeface="Simplified Arabic"/>
              </a:rPr>
              <a:t>للبالغ </a:t>
            </a:r>
            <a:br>
              <a:rPr sz="7500"/>
            </a:br>
            <a:r>
              <a:rPr b="1" lang="ar-SA" sz="7500" spc="-1" strike="noStrike">
                <a:solidFill>
                  <a:srgbClr val="ffff00"/>
                </a:solidFill>
                <a:latin typeface="Arial"/>
                <a:cs typeface="Simplified Arabic"/>
              </a:rPr>
              <a:t>فاقد </a:t>
            </a:r>
            <a:r>
              <a:rPr b="1" lang="ar-SA" sz="75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وع</a:t>
            </a:r>
            <a:r>
              <a:rPr b="1" lang="ar-EG" sz="75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ى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2791800">
            <a:off x="4399920" y="1565640"/>
            <a:ext cx="4267080" cy="1255680"/>
          </a:xfrm>
          <a:prstGeom prst="rightArrow">
            <a:avLst>
              <a:gd name="adj1" fmla="val 50000"/>
              <a:gd name="adj2" fmla="val 8495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gyptian Red Crscent</cp:lastModifiedBy>
  <dcterms:modified xsi:type="dcterms:W3CDTF">2007-07-07T14:44:27Z</dcterms:modified>
  <cp:revision>237</cp:revision>
  <dc:subject/>
  <dc:title>عرض تقديمي من PowerPoint</dc:title>
</cp:coreProperties>
</file>