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AE4-5312-40AD-800C-59F8B41FDEB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3F59-FA29-4E2D-95BA-D8465346B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46E0-4869-4B8F-835C-6C8617065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F8F5-E76B-4F3C-93ED-F2659BAA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6586-5F4D-4F77-93F6-8CCF0A2B7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1B25-E994-4CF6-AB14-060D535C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84B1-608B-4673-A398-334F2EA50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BF9B-5166-4AAD-BB7F-9671B29AF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D617-2C94-4C07-A85D-40E8102B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A65D-5266-4ACF-81A5-2E7E59DA7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86AA-2B4C-41DC-88B5-1AEED994C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31D2-A7A1-4F24-A383-B3E9CA707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F7E2-0C0F-480D-B9E1-FB4D9C9A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C485-4E56-4DA9-85A8-44E5F9217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65A-1F10-4409-A166-9C3984CB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7FEA-1578-4E33-A804-85B5190C3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9374-65CF-45FF-AC94-45D1084DA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977E-569E-488D-8A89-C609AA735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0C4B-5903-419A-B577-0B2D1DD04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F4A6-B29E-48E5-91F2-55A0F0DA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827F-0695-4F1B-BA91-E1CAFB02A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0DE9-B7A9-4BC1-A8BF-FAD3A596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ABE1-EB95-4EF2-B709-7A3869B85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88CD-3824-4F87-AD64-711CCEAA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6CA0-C628-42CC-8841-68C59E216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6A2F-EBD9-4531-AEBE-CA90052B8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1B60-0A83-4630-B0DD-33B907A02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D8E4-B149-47E7-84C6-E04321D72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4527-A040-4F5F-B816-0685C19FE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AE59-A5C1-4F44-AD87-FC88C85E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83EE-D36B-4B25-B45D-F0FEF7B51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F893-7322-4D1B-94E4-497353E2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41E1-B35C-48FA-B56E-04B34322C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4EEC-1DD0-408C-AD75-DBC19EA9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DD06-8DCB-4356-A754-FDEAC22AA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7740-EE0E-4808-A2A6-EFD661860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8940-E027-491A-96E6-21CD80C1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8B5C-A6F8-4088-85DD-55CDD937E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38EC-A860-4F8D-9299-87C062700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AE38-7DFB-4DF0-BC09-4D12C05E7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03EB-11C2-49A0-925A-C78841A17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3359-9A70-4B38-8B09-1DEFBB56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92C1-BDDE-4576-A4D4-8D3A5047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8D20-4592-4BC7-8642-1D74B016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6160-36FF-4932-A9C3-2A65C9493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8D6C-7F67-4229-801A-3A65969E2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693A-3E7C-4A80-8056-60381AAF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8B4A-9AF3-46C9-9A29-7F05EFA9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F8CE-8E5B-4999-A48A-C114683C6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E277-1A24-4591-BCCA-85143FD87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3D0A-D597-4B73-90A3-6B2F6B0BF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3F01-E202-448C-A0B4-291BFDD8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35FB-B579-4D8A-8B46-D50BB9EB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68B-0C40-4CED-BC97-2DA40E5A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0473-6155-43A0-AA56-2C5F45011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42EE-C1B2-4330-AD90-A7677FE0E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DFE5-162B-4C83-A29F-CA7B7118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49FC-75F0-4293-B0A5-1E23629B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B412-CBD3-4FA5-9F13-C7B9144AD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EC62-ED38-4116-A0CC-E8590A3E7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361F-7F1C-48CB-9E52-8804BF417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124E-789F-4E57-8DF8-94BC9FB74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D1E1-B2A0-4CAB-92BF-4D357853D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C4C5-185D-497D-898F-506F54124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B87F-6A2E-476B-82F5-13BA99C8B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21DB-C30D-45E3-9EEC-8E570423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ED76-10F7-4834-B04F-CEECC25D9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87DF-72E8-4535-A530-D75EE4EB9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BE61-C1FB-4D8A-94B4-C019D6DAD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EC1F-9873-4CB6-9470-ED0C45A44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D3EF-8962-431C-8807-CA17507F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5EC9-79C5-443A-99A5-B7FC846BD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B488-5EFF-4203-AF87-981FC11D7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E655-BDEA-4857-8CE9-3A09584E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3C60-930B-4B4E-A827-DD2FADF95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eginewbanner2 copy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1076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tn_chapter_content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62840" y="185760"/>
            <a:ext cx="990720" cy="333360"/>
          </a:xfrm>
          <a:prstGeom prst="rect">
            <a:avLst/>
          </a:prstGeom>
          <a:ln w="0">
            <a:noFill/>
          </a:ln>
        </p:spPr>
      </p:pic>
      <p:sp>
        <p:nvSpPr>
          <p:cNvPr id="2" name="Text Box 5"/>
          <p:cNvSpPr/>
          <p:nvPr/>
        </p:nvSpPr>
        <p:spPr>
          <a:xfrm>
            <a:off x="845820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416-6C6F-48D3-A51B-4C9AB26F9EA8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feginewbanner2 copy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10764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btn_course_contents"/>
          <p:cNvPicPr/>
          <p:nvPr/>
        </p:nvPicPr>
        <p:blipFill>
          <a:blip r:embed="rId3"/>
          <a:stretch/>
        </p:blipFill>
        <p:spPr>
          <a:xfrm>
            <a:off x="7961400" y="182520"/>
            <a:ext cx="9903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" Target="slide74.xml"/><Relationship Id="rId7" Type="http://schemas.openxmlformats.org/officeDocument/2006/relationships/slide" Target="slide74.xml"/><Relationship Id="rId8" Type="http://schemas.openxmlformats.org/officeDocument/2006/relationships/slide" Target="slide28.xml"/><Relationship Id="rId9" Type="http://schemas.openxmlformats.org/officeDocument/2006/relationships/slide" Target="slide39.xml"/><Relationship Id="rId10" Type="http://schemas.openxmlformats.org/officeDocument/2006/relationships/slide" Target="slide39.xml"/><Relationship Id="rId11" Type="http://schemas.openxmlformats.org/officeDocument/2006/relationships/slide" Target="slide46.xml"/><Relationship Id="rId12" Type="http://schemas.openxmlformats.org/officeDocument/2006/relationships/slide" Target="slide55.xml"/><Relationship Id="rId13" Type="http://schemas.openxmlformats.org/officeDocument/2006/relationships/slide" Target="slide64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hapter-4new"/>
          <p:cNvPicPr/>
          <p:nvPr/>
        </p:nvPicPr>
        <p:blipFill>
          <a:blip r:embed="rId1"/>
          <a:stretch/>
        </p:blipFill>
        <p:spPr>
          <a:xfrm>
            <a:off x="1406520" y="54000"/>
            <a:ext cx="5127480" cy="841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455760" y="2001960"/>
            <a:ext cx="886428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8943c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2" action="ppaction://hlinksldjump"/>
              </a:rPr>
              <a:t>Review</a:t>
            </a: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1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3" action="ppaction://hlinksldjump"/>
              </a:rPr>
              <a:t>Past parti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2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4" action="ppaction://hlinksldjump"/>
              </a:rPr>
              <a:t>Present perfect with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5" action="ppaction://hlinksldjump"/>
              </a:rPr>
              <a:t>since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6" action="ppaction://hlinksldjump"/>
              </a:rPr>
              <a:t> and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7" action="ppaction://hlinksldjump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3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8" action="ppaction://hlinksldjump"/>
              </a:rPr>
              <a:t>Negatives, questions, and short answe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4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9" action="ppaction://hlinksldjump"/>
              </a:rPr>
              <a:t>Present perfect with unspecifie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5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10" action="ppaction://hlinksldjump"/>
              </a:rPr>
              <a:t>Simple past vs. 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6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11" action="ppaction://hlinksldjump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7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12" action="ppaction://hlinksldjump"/>
              </a:rPr>
              <a:t>Present perfect progressive vs. 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43c"/>
                </a:solidFill>
                <a:latin typeface="Arial"/>
              </a:rPr>
              <a:t>4-8   </a:t>
            </a:r>
            <a:r>
              <a:rPr b="0" lang="en-US" sz="2800" spc="-1" strike="noStrike" u="sng">
                <a:solidFill>
                  <a:srgbClr val="2b8525"/>
                </a:solidFill>
                <a:uFillTx/>
                <a:latin typeface="Arial"/>
                <a:hlinkClick r:id="rId13" action="ppaction://hlinksldjump"/>
              </a:rPr>
              <a:t>Pas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15"/>
          <p:cNvSpPr/>
          <p:nvPr/>
        </p:nvSpPr>
        <p:spPr>
          <a:xfrm>
            <a:off x="1170000" y="4932360"/>
            <a:ext cx="6700680" cy="11606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1360" y="2654280"/>
            <a:ext cx="44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wor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356080" y="1166760"/>
            <a:ext cx="367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dn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r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1" lang="en-US" sz="3200" spc="-1" strike="noStrike">
                <a:solidFill>
                  <a:srgbClr val="ff5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9, 20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t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4748040" y="1233360"/>
            <a:ext cx="608040" cy="3436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89640 h 3436920"/>
              <a:gd name="textAreaBottom" fmla="*/ 3347280 h 34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1402920" y="49546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3175200" y="4943520"/>
            <a:ext cx="437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oin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our, day, month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2668680" y="5297400"/>
            <a:ext cx="507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-27000" y="1628640"/>
            <a:ext cx="82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2b8525"/>
                </a:solidFill>
                <a:latin typeface="Arial"/>
              </a:rPr>
              <a:t>ORRECT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ve studi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glish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-32040" y="2219400"/>
            <a:ext cx="84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2b8525"/>
                </a:solidFill>
                <a:latin typeface="Arial"/>
              </a:rPr>
              <a:t>ORRECT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v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mputer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4440" y="3000240"/>
            <a:ext cx="81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RR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am studying English since 20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3379680" y="2887560"/>
            <a:ext cx="1408320" cy="781200"/>
          </a:xfrm>
          <a:custGeom>
            <a:avLst/>
            <a:gdLst>
              <a:gd name="textAreaLeft" fmla="*/ 206280 w 1408320"/>
              <a:gd name="textAreaRight" fmla="*/ 1202040 w 1408320"/>
              <a:gd name="textAreaTop" fmla="*/ 114120 h 781200"/>
              <a:gd name="textAreaBottom" fmla="*/ 667080 h 78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3360" y="3632040"/>
            <a:ext cx="706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RR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study English since 200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4080" y="4314960"/>
            <a:ext cx="73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studied English since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82800" y="5037120"/>
            <a:ext cx="77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CORREC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was study English since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3184560" y="3537000"/>
            <a:ext cx="1407960" cy="780840"/>
          </a:xfrm>
          <a:custGeom>
            <a:avLst/>
            <a:gdLst>
              <a:gd name="textAreaLeft" fmla="*/ 205920 w 1407960"/>
              <a:gd name="textAreaRight" fmla="*/ 1202040 w 1407960"/>
              <a:gd name="textAreaTop" fmla="*/ 114120 h 780840"/>
              <a:gd name="textAreaBottom" fmla="*/ 666720 h 780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979720" y="4243320"/>
            <a:ext cx="1407960" cy="781200"/>
          </a:xfrm>
          <a:custGeom>
            <a:avLst/>
            <a:gdLst>
              <a:gd name="textAreaLeft" fmla="*/ 205920 w 1407960"/>
              <a:gd name="textAreaRight" fmla="*/ 1202040 w 1407960"/>
              <a:gd name="textAreaTop" fmla="*/ 114120 h 781200"/>
              <a:gd name="textAreaBottom" fmla="*/ 667080 h 78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2979720" y="4965840"/>
            <a:ext cx="1407960" cy="780840"/>
          </a:xfrm>
          <a:custGeom>
            <a:avLst/>
            <a:gdLst>
              <a:gd name="textAreaLeft" fmla="*/ 205920 w 1407960"/>
              <a:gd name="textAreaRight" fmla="*/ 1202040 w 1407960"/>
              <a:gd name="textAreaTop" fmla="*/ 114120 h 780840"/>
              <a:gd name="textAreaBottom" fmla="*/ 666720 h 780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-34560" y="2925720"/>
            <a:ext cx="84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iends            </a:t>
            </a:r>
            <a:r>
              <a:rPr b="0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wa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25400" y="1855800"/>
            <a:ext cx="27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sent perf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359320" y="1852560"/>
            <a:ext cx="280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i="1" lang="en-US" sz="2800" spc="-1" strike="noStrike">
                <a:solidFill>
                  <a:srgbClr val="0101f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mple p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-34920" y="3633840"/>
            <a:ext cx="89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s play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sports  </a:t>
            </a:r>
            <a:r>
              <a:rPr b="0" i="1" lang="en-US" sz="28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trie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1495440" y="4795920"/>
            <a:ext cx="6670800" cy="11602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1716840" y="4795920"/>
            <a:ext cx="60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subject + simpl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679320" y="107640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293920" y="4943520"/>
            <a:ext cx="4552920" cy="11602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-50760" y="2654280"/>
            <a:ext cx="44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wor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844520" y="1166760"/>
            <a:ext cx="433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ve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six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most two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4348080" y="1233360"/>
            <a:ext cx="608040" cy="3436920"/>
          </a:xfrm>
          <a:custGeom>
            <a:avLst/>
            <a:gdLst>
              <a:gd name="textAreaLeft" fmla="*/ 388440 w 608040"/>
              <a:gd name="textAreaRight" fmla="*/ 608400 w 608040"/>
              <a:gd name="textAreaTop" fmla="*/ 89640 h 3436920"/>
              <a:gd name="textAreaBottom" fmla="*/ 3347280 h 34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487240" y="511344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095720" y="511344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78240" y="110484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324240" y="5424480"/>
            <a:ext cx="770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768040" y="3051000"/>
            <a:ext cx="616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has been playing the p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3541680" y="1235160"/>
            <a:ext cx="2967120" cy="1222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ho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017600" y="3538440"/>
            <a:ext cx="22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as 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2775960" y="4303800"/>
            <a:ext cx="616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has been playing the p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541680" y="479124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2" descr="shutterstock_2267881"/>
          <p:cNvPicPr/>
          <p:nvPr/>
        </p:nvPicPr>
        <p:blipFill>
          <a:blip r:embed="rId1"/>
          <a:stretch/>
        </p:blipFill>
        <p:spPr>
          <a:xfrm>
            <a:off x="210960" y="2303640"/>
            <a:ext cx="2508480" cy="34718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984760" y="3343320"/>
            <a:ext cx="56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jandro has studied Eng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3282840" y="1235160"/>
            <a:ext cx="3657600" cy="1222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arte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300200" y="383076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arted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2992680" y="4595760"/>
            <a:ext cx="564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jandro has studied Engl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113360" y="503856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een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shutterstock_3309548"/>
          <p:cNvPicPr/>
          <p:nvPr/>
        </p:nvPicPr>
        <p:blipFill>
          <a:blip r:embed="rId1"/>
          <a:stretch/>
        </p:blipFill>
        <p:spPr>
          <a:xfrm>
            <a:off x="270000" y="2711520"/>
            <a:ext cx="2320920" cy="35132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14200" y="2606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uncle has driven a taxi _____ </a:t>
            </a:r>
            <a:r>
              <a:rPr b="0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3486240" y="1247760"/>
            <a:ext cx="1730160" cy="1222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5125320" y="26208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16720" y="3325680"/>
            <a:ext cx="81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uncle has driven a taxi ____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5250960" y="3348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3" descr="shutterstock_244229"/>
          <p:cNvPicPr/>
          <p:nvPr/>
        </p:nvPicPr>
        <p:blipFill>
          <a:blip r:embed="rId1"/>
          <a:stretch/>
        </p:blipFill>
        <p:spPr>
          <a:xfrm>
            <a:off x="3052800" y="4214880"/>
            <a:ext cx="2643120" cy="24955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-272880" y="1685880"/>
            <a:ext cx="9903960" cy="76428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s he finished all hi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shutterstock_151774"/>
          <p:cNvPicPr/>
          <p:nvPr/>
        </p:nvPicPr>
        <p:blipFill>
          <a:blip r:embed="rId1"/>
          <a:stretch/>
        </p:blipFill>
        <p:spPr>
          <a:xfrm>
            <a:off x="1917720" y="2590920"/>
            <a:ext cx="5614920" cy="374940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420840" y="2050920"/>
            <a:ext cx="749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not (haven’t) gone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Fatima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not (hasn’t) gone</a:t>
            </a:r>
            <a:r>
              <a:rPr b="1" i="1" lang="en-US" sz="3200" spc="-1" strike="noStrike">
                <a:solidFill>
                  <a:srgbClr val="dc303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31840" y="1281240"/>
            <a:ext cx="33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303120" y="3790800"/>
            <a:ext cx="8434440" cy="26276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435320" y="393048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 partici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393840" y="4564080"/>
            <a:ext cx="68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494000" y="5100480"/>
            <a:ext cx="686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n’t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1" descr="shutterstock_3501316"/>
          <p:cNvPicPr/>
          <p:nvPr/>
        </p:nvPicPr>
        <p:blipFill>
          <a:blip r:embed="rId1"/>
          <a:stretch/>
        </p:blipFill>
        <p:spPr>
          <a:xfrm>
            <a:off x="2332080" y="3429000"/>
            <a:ext cx="4479840" cy="29908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243" name="AutoShape 8"/>
          <p:cNvSpPr/>
          <p:nvPr/>
        </p:nvSpPr>
        <p:spPr>
          <a:xfrm>
            <a:off x="235080" y="1324080"/>
            <a:ext cx="6207120" cy="885600"/>
          </a:xfrm>
          <a:prstGeom prst="wedgeRoundRectCallout">
            <a:avLst>
              <a:gd name="adj1" fmla="val -4550"/>
              <a:gd name="adj2" fmla="val 201791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392040" y="145080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you 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re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50360" y="2085840"/>
            <a:ext cx="8256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a _____ her dog.  His name __ Ma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a’s grandfather ____ Max to her. 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father _____ him at an animal shel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a _____ very good care her do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__ a great do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777320" y="211284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8"/>
          <p:cNvSpPr/>
          <p:nvPr/>
        </p:nvSpPr>
        <p:spPr>
          <a:xfrm>
            <a:off x="1751040" y="2160720"/>
            <a:ext cx="1136520" cy="4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754848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and P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45240" y="1131840"/>
            <a:ext cx="57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dc303d"/>
                </a:solidFill>
                <a:latin typeface="Arial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166640" y="301608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303d"/>
                </a:solidFill>
                <a:latin typeface="Arial"/>
              </a:rPr>
              <a:t>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681280" y="40622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303d"/>
                </a:solidFill>
                <a:latin typeface="Arial"/>
              </a:rPr>
              <a:t>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759320" y="50277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t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170000" y="6006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541920" y="2108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7547040" y="1281240"/>
            <a:ext cx="1081080" cy="46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6550200" y="2155680"/>
            <a:ext cx="436320" cy="4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4243320" y="3135240"/>
            <a:ext cx="895320" cy="4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2720880" y="4108320"/>
            <a:ext cx="1147680" cy="4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1751040" y="5076720"/>
            <a:ext cx="1133280" cy="41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1173240" y="6041880"/>
            <a:ext cx="444600" cy="41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367200" y="27655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Marcy g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754200" y="4768920"/>
            <a:ext cx="7375320" cy="15350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919800" y="4826160"/>
            <a:ext cx="70207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92040" y="193680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you 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re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351000" y="362592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How long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you wor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391680" y="1281240"/>
            <a:ext cx="25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281880" y="2994120"/>
            <a:ext cx="58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No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v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never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been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a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754200" y="4125960"/>
            <a:ext cx="7375320" cy="15350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464840" y="4183200"/>
            <a:ext cx="58590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Ever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in your entire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06360" y="2165400"/>
            <a:ext cx="80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ve you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ever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o Par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92400" y="1281240"/>
            <a:ext cx="38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V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NE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886320" y="4721400"/>
            <a:ext cx="7246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Never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for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2214720" y="5176800"/>
            <a:ext cx="507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3"/>
          <p:cNvSpPr/>
          <p:nvPr/>
        </p:nvSpPr>
        <p:spPr>
          <a:xfrm>
            <a:off x="153360" y="12319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4894200" y="3648240"/>
            <a:ext cx="3810240" cy="14904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5068080" y="3852720"/>
            <a:ext cx="3451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ANSW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n’t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C2S24_206226"/>
          <p:cNvPicPr/>
          <p:nvPr/>
        </p:nvPicPr>
        <p:blipFill>
          <a:blip r:embed="rId1"/>
          <a:stretch/>
        </p:blipFill>
        <p:spPr>
          <a:xfrm>
            <a:off x="1406520" y="3444840"/>
            <a:ext cx="2735280" cy="22748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265" name="AutoShape 7"/>
          <p:cNvSpPr/>
          <p:nvPr/>
        </p:nvSpPr>
        <p:spPr>
          <a:xfrm>
            <a:off x="4581360" y="1811160"/>
            <a:ext cx="3724560" cy="1203480"/>
          </a:xfrm>
          <a:prstGeom prst="wedgeRoundRectCallout">
            <a:avLst>
              <a:gd name="adj1" fmla="val -73574"/>
              <a:gd name="adj2" fmla="val 90500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read all of this arti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939960" y="1231920"/>
            <a:ext cx="3500280" cy="1746360"/>
          </a:xfrm>
          <a:prstGeom prst="wedgeRoundRectCallout">
            <a:avLst>
              <a:gd name="adj1" fmla="val -22879"/>
              <a:gd name="adj2" fmla="val 7736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I have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I have only read a few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3"/>
          <p:cNvSpPr/>
          <p:nvPr/>
        </p:nvSpPr>
        <p:spPr>
          <a:xfrm>
            <a:off x="19800" y="12319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4627440" y="3471840"/>
            <a:ext cx="4106880" cy="14540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917600" y="3726000"/>
            <a:ext cx="335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ANSW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n’t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C2S24_206226"/>
          <p:cNvPicPr/>
          <p:nvPr/>
        </p:nvPicPr>
        <p:blipFill>
          <a:blip r:embed="rId1"/>
          <a:stretch/>
        </p:blipFill>
        <p:spPr>
          <a:xfrm>
            <a:off x="1403280" y="3449520"/>
            <a:ext cx="2735280" cy="22748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272" name="AutoShape 7"/>
          <p:cNvSpPr/>
          <p:nvPr/>
        </p:nvSpPr>
        <p:spPr>
          <a:xfrm>
            <a:off x="4537080" y="1590840"/>
            <a:ext cx="4197240" cy="1203120"/>
          </a:xfrm>
          <a:prstGeom prst="wedgeRoundRectCallout">
            <a:avLst>
              <a:gd name="adj1" fmla="val -71106"/>
              <a:gd name="adj2" fmla="val 114643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Yes, she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he did it afte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789120" y="1405080"/>
            <a:ext cx="3205080" cy="1746000"/>
          </a:xfrm>
          <a:prstGeom prst="wedgeRoundRectCallout">
            <a:avLst>
              <a:gd name="adj1" fmla="val -11416"/>
              <a:gd name="adj2" fmla="val 79000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Kyung finished he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1162080" y="30492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 NEGATIVE, QUESTION, AND SHORT-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6"/>
          <p:cNvSpPr/>
          <p:nvPr/>
        </p:nvSpPr>
        <p:spPr>
          <a:xfrm>
            <a:off x="2702880" y="2832120"/>
            <a:ext cx="62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 a sn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09320" y="12272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746440" y="278748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tou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5340240" y="1227240"/>
            <a:ext cx="179568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2" descr="shutterstock_3085649"/>
          <p:cNvPicPr/>
          <p:nvPr/>
        </p:nvPicPr>
        <p:blipFill>
          <a:blip r:embed="rId1"/>
          <a:stretch/>
        </p:blipFill>
        <p:spPr>
          <a:xfrm>
            <a:off x="615960" y="3753000"/>
            <a:ext cx="373068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4026600" y="2476440"/>
            <a:ext cx="390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09320" y="12272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158720" y="2465280"/>
            <a:ext cx="34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ve never tou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5340240" y="1227240"/>
            <a:ext cx="1795680" cy="920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3223800" y="248112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245040" y="313524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n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1" descr="shutterstock_3085649"/>
          <p:cNvPicPr/>
          <p:nvPr/>
        </p:nvPicPr>
        <p:blipFill>
          <a:blip r:embed="rId1"/>
          <a:stretch/>
        </p:blipFill>
        <p:spPr>
          <a:xfrm>
            <a:off x="615960" y="3753000"/>
            <a:ext cx="373068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402120" y="2293920"/>
            <a:ext cx="56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 a sha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09320" y="12272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01760" y="2305080"/>
            <a:ext cx="39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Justin ever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6762600" y="1693800"/>
            <a:ext cx="179568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shutterstock_4935781"/>
          <p:cNvPicPr/>
          <p:nvPr/>
        </p:nvPicPr>
        <p:blipFill>
          <a:blip r:embed="rId1"/>
          <a:stretch/>
        </p:blipFill>
        <p:spPr>
          <a:xfrm>
            <a:off x="1924200" y="3211560"/>
            <a:ext cx="4537080" cy="30290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58200" y="1963800"/>
            <a:ext cx="80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he ___.  He saw one near Cape T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409320" y="12272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861560" y="19638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394560" y="257184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shutterstock_4935781"/>
          <p:cNvPicPr/>
          <p:nvPr/>
        </p:nvPicPr>
        <p:blipFill>
          <a:blip r:embed="rId1"/>
          <a:stretch/>
        </p:blipFill>
        <p:spPr>
          <a:xfrm>
            <a:off x="1919160" y="3214800"/>
            <a:ext cx="4537080" cy="30286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88800" y="1720800"/>
            <a:ext cx="3551400" cy="137376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ler has taken his first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160960" y="1709640"/>
            <a:ext cx="3132000" cy="137376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oe hasn’t walked by herself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DSC_0053"/>
          <p:cNvPicPr/>
          <p:nvPr/>
        </p:nvPicPr>
        <p:blipFill>
          <a:blip r:embed="rId1"/>
          <a:stretch/>
        </p:blipFill>
        <p:spPr>
          <a:xfrm>
            <a:off x="5081760" y="3095640"/>
            <a:ext cx="3224160" cy="23684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pic>
        <p:nvPicPr>
          <p:cNvPr id="305" name="Picture 8" descr="Ty in the Office"/>
          <p:cNvPicPr/>
          <p:nvPr/>
        </p:nvPicPr>
        <p:blipFill>
          <a:blip r:embed="rId2"/>
          <a:stretch/>
        </p:blipFill>
        <p:spPr>
          <a:xfrm>
            <a:off x="1162080" y="2911320"/>
            <a:ext cx="1749240" cy="343080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3"/>
          <p:cNvSpPr/>
          <p:nvPr/>
        </p:nvSpPr>
        <p:spPr>
          <a:xfrm>
            <a:off x="456840" y="1854360"/>
            <a:ext cx="7471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Micah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got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irst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Leah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recently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vis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940040" y="3798720"/>
            <a:ext cx="4924440" cy="19926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2204640" y="3962520"/>
            <a:ext cx="404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ivity occur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n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time in th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38200" y="1174680"/>
            <a:ext cx="729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1 PAST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-70920" y="1558800"/>
            <a:ext cx="9233280" cy="76428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has forgotten his na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1" descr="shutterstock_1586789"/>
          <p:cNvPicPr/>
          <p:nvPr/>
        </p:nvPicPr>
        <p:blipFill>
          <a:blip r:embed="rId1"/>
          <a:stretch/>
        </p:blipFill>
        <p:spPr>
          <a:xfrm>
            <a:off x="3370320" y="2844720"/>
            <a:ext cx="2432160" cy="36417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6"/>
          <p:cNvSpPr/>
          <p:nvPr/>
        </p:nvSpPr>
        <p:spPr>
          <a:xfrm>
            <a:off x="4616280" y="4143240"/>
            <a:ext cx="0" cy="240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2303640" y="5425920"/>
            <a:ext cx="427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215600" y="37209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2706840" y="4475160"/>
            <a:ext cx="1909440" cy="207504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 rot="16200000">
            <a:off x="2508120" y="577296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2833920" y="5132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709360" y="437976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4399200" y="5126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458640" y="1123920"/>
            <a:ext cx="827424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56840" y="1825560"/>
            <a:ext cx="7855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Micah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j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got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irst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Janelle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recently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vis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3"/>
          <p:cNvSpPr/>
          <p:nvPr/>
        </p:nvSpPr>
        <p:spPr>
          <a:xfrm>
            <a:off x="225360" y="1801800"/>
            <a:ext cx="842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pa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raits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 many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Her students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pa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raits</a:t>
            </a:r>
            <a:r>
              <a:rPr b="0" i="1" lang="en-US" sz="3200" spc="-1" strike="noStrike">
                <a:solidFill>
                  <a:srgbClr val="0101ff"/>
                </a:solidFill>
                <a:latin typeface="Arial"/>
              </a:rPr>
              <a:t> tw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1355760" y="4208400"/>
            <a:ext cx="6648480" cy="15606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2569680" y="431964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       rep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454400" y="4890960"/>
            <a:ext cx="64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n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specified pas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3986280" y="4540320"/>
            <a:ext cx="722160" cy="247680"/>
          </a:xfrm>
          <a:prstGeom prst="rightArrow">
            <a:avLst>
              <a:gd name="adj1" fmla="val 50000"/>
              <a:gd name="adj2" fmla="val 7289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8"/>
          <p:cNvSpPr/>
          <p:nvPr/>
        </p:nvSpPr>
        <p:spPr>
          <a:xfrm>
            <a:off x="4616280" y="4187880"/>
            <a:ext cx="0" cy="256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303640" y="5470560"/>
            <a:ext cx="427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230000" y="37368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2706840" y="4519440"/>
            <a:ext cx="1909440" cy="207504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2745000" y="5168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2709360" y="442440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4408560" y="5176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3052800" y="5176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3360960" y="5176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225360" y="1801800"/>
            <a:ext cx="842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pa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raits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 many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Her students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pai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rtraits</a:t>
            </a:r>
            <a:r>
              <a:rPr b="0" i="1" lang="en-US" sz="3200" spc="-1" strike="noStrike">
                <a:solidFill>
                  <a:srgbClr val="0101ff"/>
                </a:solidFill>
                <a:latin typeface="Arial"/>
              </a:rPr>
              <a:t> tw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454680" y="1854360"/>
            <a:ext cx="770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Tyler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irst st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ler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ta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irst steps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2095560" y="3976560"/>
            <a:ext cx="5033880" cy="15382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2644560" y="4186080"/>
            <a:ext cx="415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irmative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538200" y="1174680"/>
            <a:ext cx="729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38240" y="117468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RE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Ty in the Office"/>
          <p:cNvPicPr/>
          <p:nvPr/>
        </p:nvPicPr>
        <p:blipFill>
          <a:blip r:embed="rId1"/>
          <a:stretch/>
        </p:blipFill>
        <p:spPr>
          <a:xfrm>
            <a:off x="3610080" y="3440160"/>
            <a:ext cx="1479600" cy="29019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345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454680" y="1854360"/>
            <a:ext cx="6796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Zo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n’t wal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herself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538200" y="1174680"/>
            <a:ext cx="729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38240" y="117468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DSC_0053"/>
          <p:cNvPicPr/>
          <p:nvPr/>
        </p:nvPicPr>
        <p:blipFill>
          <a:blip r:embed="rId1"/>
          <a:stretch/>
        </p:blipFill>
        <p:spPr>
          <a:xfrm>
            <a:off x="3022560" y="3002040"/>
            <a:ext cx="3224160" cy="23684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350" name="AutoShape 4"/>
          <p:cNvSpPr/>
          <p:nvPr/>
        </p:nvSpPr>
        <p:spPr>
          <a:xfrm>
            <a:off x="2095560" y="3676680"/>
            <a:ext cx="5033880" cy="15382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14120" y="3886200"/>
            <a:ext cx="381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y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3"/>
          <p:cNvSpPr/>
          <p:nvPr/>
        </p:nvSpPr>
        <p:spPr>
          <a:xfrm>
            <a:off x="-153360" y="1854360"/>
            <a:ext cx="82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v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2125800" y="4570560"/>
            <a:ext cx="4537080" cy="10317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473400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ok i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38240" y="117468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READY and Y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073160" y="3389400"/>
            <a:ext cx="75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vi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073160" y="2617920"/>
            <a:ext cx="69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vi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alre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 PRESENT PERFECT WITH UNSPECIFI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627480" y="3336840"/>
            <a:ext cx="78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yung __________________the t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2973240" y="1609560"/>
            <a:ext cx="3529080" cy="789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, al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2335320" y="331632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s already t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3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637560" y="3639960"/>
            <a:ext cx="74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______________   _______  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2654280" y="2003400"/>
            <a:ext cx="1671480" cy="789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4759200" y="1609560"/>
            <a:ext cx="2235240" cy="1382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819000" y="3662280"/>
            <a:ext cx="37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 been stud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5228280" y="359568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4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24240" y="3481560"/>
            <a:ext cx="81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sa ___________ to Italy three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489480" y="1608120"/>
            <a:ext cx="1671480" cy="789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2145240" y="347328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s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4" descr="shutterstock_2436946"/>
          <p:cNvPicPr/>
          <p:nvPr/>
        </p:nvPicPr>
        <p:blipFill>
          <a:blip r:embed="rId1"/>
          <a:stretch/>
        </p:blipFill>
        <p:spPr>
          <a:xfrm>
            <a:off x="5234040" y="2817720"/>
            <a:ext cx="3452760" cy="3452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3" descr="shutterstock_2450410"/>
          <p:cNvPicPr/>
          <p:nvPr/>
        </p:nvPicPr>
        <p:blipFill>
          <a:blip r:embed="rId2"/>
          <a:stretch/>
        </p:blipFill>
        <p:spPr>
          <a:xfrm>
            <a:off x="3768840" y="2685960"/>
            <a:ext cx="3952800" cy="3610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2" descr="shutterstock_2513981"/>
          <p:cNvPicPr/>
          <p:nvPr/>
        </p:nvPicPr>
        <p:blipFill>
          <a:blip r:embed="rId3"/>
          <a:stretch/>
        </p:blipFill>
        <p:spPr>
          <a:xfrm>
            <a:off x="5011560" y="2819520"/>
            <a:ext cx="3483000" cy="32734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1160640" y="30168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SIMPLE PAST vs. 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-430920" y="1619280"/>
            <a:ext cx="5057640" cy="106884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d an angel f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I w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4154040" y="1622520"/>
            <a:ext cx="5301360" cy="106884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had many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h since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9" descr="shutterstock_2331036"/>
          <p:cNvPicPr/>
          <p:nvPr/>
        </p:nvPicPr>
        <p:blipFill>
          <a:blip r:embed="rId4"/>
          <a:stretch/>
        </p:blipFill>
        <p:spPr>
          <a:xfrm>
            <a:off x="817560" y="2825640"/>
            <a:ext cx="2409840" cy="36100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pic>
        <p:nvPicPr>
          <p:cNvPr id="381" name="Picture 21" descr="shutterstock_6565795"/>
          <p:cNvPicPr/>
          <p:nvPr/>
        </p:nvPicPr>
        <p:blipFill>
          <a:blip r:embed="rId5"/>
          <a:stretch/>
        </p:blipFill>
        <p:spPr>
          <a:xfrm>
            <a:off x="4019400" y="2987640"/>
            <a:ext cx="49323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9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92240" y="2060640"/>
            <a:ext cx="8783640" cy="1530360"/>
          </a:xfrm>
          <a:prstGeom prst="rect">
            <a:avLst/>
          </a:prstGeom>
          <a:solidFill>
            <a:srgbClr val="2b8525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00160" y="3735360"/>
            <a:ext cx="8783640" cy="1530360"/>
          </a:xfrm>
          <a:prstGeom prst="rect">
            <a:avLst/>
          </a:prstGeom>
          <a:solidFill>
            <a:srgbClr val="0101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1 PAST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96200" y="2309760"/>
            <a:ext cx="189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96560" y="4092480"/>
            <a:ext cx="22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GUL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17200" y="105264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558680" y="106056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698880" y="1030320"/>
            <a:ext cx="228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671560" y="2060640"/>
            <a:ext cx="112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679120" y="3724200"/>
            <a:ext cx="11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534560" y="2068560"/>
            <a:ext cx="162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543200" y="3732120"/>
            <a:ext cx="11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6723000" y="2057400"/>
            <a:ext cx="176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8525"/>
                </a:solidFill>
                <a:latin typeface="Arial"/>
              </a:rPr>
              <a:t>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8525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8525"/>
                </a:solidFill>
                <a:latin typeface="Arial"/>
              </a:rPr>
              <a:t>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6732360" y="3720960"/>
            <a:ext cx="124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2960" y="5396040"/>
            <a:ext cx="5445000" cy="11649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973160" y="5473800"/>
            <a:ext cx="517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t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168120" y="1262160"/>
            <a:ext cx="8136000" cy="116820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165240" y="3637080"/>
            <a:ext cx="8135640" cy="1168200"/>
          </a:xfrm>
          <a:prstGeom prst="rect">
            <a:avLst/>
          </a:prstGeom>
          <a:solidFill>
            <a:srgbClr val="0101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60640" y="30168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SIMPLE PAST vs. 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263520" y="12621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65960" y="1851120"/>
            <a:ext cx="71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The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com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at 4: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298440" y="362736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64880" y="4097160"/>
            <a:ext cx="82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They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ready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com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/>
          <p:cNvSpPr/>
          <p:nvPr/>
        </p:nvSpPr>
        <p:spPr>
          <a:xfrm>
            <a:off x="5629320" y="2541600"/>
            <a:ext cx="2671560" cy="8190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/>
          <p:cNvSpPr/>
          <p:nvPr/>
        </p:nvSpPr>
        <p:spPr>
          <a:xfrm>
            <a:off x="4770360" y="4960800"/>
            <a:ext cx="3530520" cy="8193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pecifi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168120" y="1262160"/>
            <a:ext cx="8526600" cy="116820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65240" y="3614760"/>
            <a:ext cx="8529480" cy="1168200"/>
          </a:xfrm>
          <a:prstGeom prst="rect">
            <a:avLst/>
          </a:prstGeom>
          <a:solidFill>
            <a:srgbClr val="0101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160640" y="30168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SIMPLE PAST vs. 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263520" y="12621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64880" y="1851120"/>
            <a:ext cx="83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Nigeri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I was five years 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298440" y="36050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65960" y="4075200"/>
            <a:ext cx="70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I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Nigeri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ee ti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>
            <a:off x="5629320" y="2541600"/>
            <a:ext cx="2671560" cy="8190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0"/>
          <p:cNvSpPr/>
          <p:nvPr/>
        </p:nvSpPr>
        <p:spPr>
          <a:xfrm>
            <a:off x="4770360" y="4938840"/>
            <a:ext cx="3530520" cy="8190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pecifi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AutoShape 17"/>
          <p:cNvSpPr/>
          <p:nvPr/>
        </p:nvSpPr>
        <p:spPr>
          <a:xfrm>
            <a:off x="372960" y="5087880"/>
            <a:ext cx="8390160" cy="8733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479520" y="1262160"/>
            <a:ext cx="8136000" cy="116820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476280" y="3736800"/>
            <a:ext cx="8136000" cy="1168560"/>
          </a:xfrm>
          <a:prstGeom prst="rect">
            <a:avLst/>
          </a:prstGeom>
          <a:solidFill>
            <a:srgbClr val="0101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160640" y="30168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SIMPLE PAST vs. 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74920" y="12621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475200" y="1851120"/>
            <a:ext cx="70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Jack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camp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France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for 9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609480" y="372744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477360" y="4197240"/>
            <a:ext cx="66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Eli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mping </a:t>
            </a:r>
            <a:r>
              <a:rPr b="0" i="1" lang="en-US" sz="3200" spc="-1" strike="noStrike">
                <a:solidFill>
                  <a:srgbClr val="0101ff"/>
                </a:solidFill>
                <a:latin typeface="Arial"/>
              </a:rPr>
              <a:t>for 9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484920" y="4183200"/>
            <a:ext cx="81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Eli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mping </a:t>
            </a:r>
            <a:r>
              <a:rPr b="0" i="1" lang="en-US" sz="3200" spc="-1" strike="noStrike">
                <a:solidFill>
                  <a:srgbClr val="0101ff"/>
                </a:solidFill>
                <a:latin typeface="Arial"/>
              </a:rPr>
              <a:t>since last Mo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2"/>
          <p:cNvSpPr/>
          <p:nvPr/>
        </p:nvSpPr>
        <p:spPr>
          <a:xfrm>
            <a:off x="365040" y="2602080"/>
            <a:ext cx="8390160" cy="8730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746280" y="2739960"/>
            <a:ext cx="74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activity began &amp; ended in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4"/>
          <p:cNvSpPr/>
          <p:nvPr/>
        </p:nvSpPr>
        <p:spPr>
          <a:xfrm>
            <a:off x="1644480" y="2895480"/>
            <a:ext cx="825840" cy="336600"/>
          </a:xfrm>
          <a:prstGeom prst="rightArrow">
            <a:avLst>
              <a:gd name="adj1" fmla="val 50000"/>
              <a:gd name="adj2" fmla="val 613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605880" y="5214960"/>
            <a:ext cx="805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 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activity began &amp; conti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6"/>
          <p:cNvSpPr/>
          <p:nvPr/>
        </p:nvSpPr>
        <p:spPr>
          <a:xfrm>
            <a:off x="2819520" y="5391000"/>
            <a:ext cx="825480" cy="336600"/>
          </a:xfrm>
          <a:prstGeom prst="rightArrow">
            <a:avLst>
              <a:gd name="adj1" fmla="val 50000"/>
              <a:gd name="adj2" fmla="val 613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852480" y="126216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4060440" y="12621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7847280" y="1017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c303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2054880" y="1932120"/>
            <a:ext cx="458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been to Toky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3069720" y="12826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0"/>
          <p:cNvSpPr/>
          <p:nvPr/>
        </p:nvSpPr>
        <p:spPr>
          <a:xfrm>
            <a:off x="2033640" y="2425680"/>
            <a:ext cx="2384280" cy="615960"/>
          </a:xfrm>
          <a:prstGeom prst="ellipse">
            <a:avLst/>
          </a:prstGeom>
          <a:noFill/>
          <a:ln w="28440">
            <a:solidFill>
              <a:srgbClr val="010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1628280" y="31780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2"/>
          <p:cNvSpPr/>
          <p:nvPr/>
        </p:nvSpPr>
        <p:spPr>
          <a:xfrm>
            <a:off x="4130640" y="3281400"/>
            <a:ext cx="595440" cy="326880"/>
          </a:xfrm>
          <a:prstGeom prst="rightArrow">
            <a:avLst>
              <a:gd name="adj1" fmla="val 50000"/>
              <a:gd name="adj2" fmla="val 4554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4796640" y="2975040"/>
            <a:ext cx="185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PRESENT</a:t>
            </a:r>
            <a:br>
              <a:rPr sz="2800"/>
            </a:b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tokyo sub"/>
          <p:cNvPicPr/>
          <p:nvPr/>
        </p:nvPicPr>
        <p:blipFill>
          <a:blip r:embed="rId1"/>
          <a:stretch/>
        </p:blipFill>
        <p:spPr>
          <a:xfrm>
            <a:off x="2576520" y="4033800"/>
            <a:ext cx="4002120" cy="26719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852480" y="126216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4127400" y="12621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8025120" y="1017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c303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622520" y="2004840"/>
            <a:ext cx="624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has never been to Toky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069720" y="12826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3448080" y="2038320"/>
            <a:ext cx="1220760" cy="573120"/>
          </a:xfrm>
          <a:prstGeom prst="ellipse">
            <a:avLst/>
          </a:prstGeom>
          <a:noFill/>
          <a:ln w="28440">
            <a:solidFill>
              <a:srgbClr val="010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630080" y="31798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4130640" y="3281400"/>
            <a:ext cx="595440" cy="326880"/>
          </a:xfrm>
          <a:prstGeom prst="rightArrow">
            <a:avLst>
              <a:gd name="adj1" fmla="val 50000"/>
              <a:gd name="adj2" fmla="val 4554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4793400" y="2970360"/>
            <a:ext cx="185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tokyo sub"/>
          <p:cNvPicPr/>
          <p:nvPr/>
        </p:nvPicPr>
        <p:blipFill>
          <a:blip r:embed="rId1"/>
          <a:stretch/>
        </p:blipFill>
        <p:spPr>
          <a:xfrm>
            <a:off x="2576520" y="4030560"/>
            <a:ext cx="4003560" cy="26733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0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5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852480" y="126216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4127400" y="12621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ff"/>
                </a:solidFill>
                <a:latin typeface="Arial"/>
              </a:rPr>
              <a:t>UNSPECIFIED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8025120" y="1017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c303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2308320" y="201456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a went to Toky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3069720" y="12826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9"/>
          <p:cNvSpPr/>
          <p:nvPr/>
        </p:nvSpPr>
        <p:spPr>
          <a:xfrm>
            <a:off x="2100240" y="2532240"/>
            <a:ext cx="2492280" cy="572760"/>
          </a:xfrm>
          <a:prstGeom prst="ellipse">
            <a:avLst/>
          </a:prstGeom>
          <a:noFill/>
          <a:ln w="28440">
            <a:solidFill>
              <a:srgbClr val="2b8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1843920" y="342900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1"/>
          <p:cNvSpPr/>
          <p:nvPr/>
        </p:nvSpPr>
        <p:spPr>
          <a:xfrm>
            <a:off x="4383000" y="3532320"/>
            <a:ext cx="595440" cy="326880"/>
          </a:xfrm>
          <a:prstGeom prst="rightArrow">
            <a:avLst>
              <a:gd name="adj1" fmla="val 50000"/>
              <a:gd name="adj2" fmla="val 4554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5049000" y="3429000"/>
            <a:ext cx="25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8525"/>
                </a:solidFill>
                <a:latin typeface="Arial"/>
              </a:rPr>
              <a:t>SIMPL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4" descr="tokyo sub"/>
          <p:cNvPicPr/>
          <p:nvPr/>
        </p:nvPicPr>
        <p:blipFill>
          <a:blip r:embed="rId1"/>
          <a:stretch/>
        </p:blipFill>
        <p:spPr>
          <a:xfrm>
            <a:off x="2576520" y="4030560"/>
            <a:ext cx="4003560" cy="26733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1183680" y="1266840"/>
            <a:ext cx="6886440" cy="143460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e has been 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en hou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shutterstock_1920675"/>
          <p:cNvPicPr/>
          <p:nvPr/>
        </p:nvPicPr>
        <p:blipFill>
          <a:blip r:embed="rId1"/>
          <a:stretch/>
        </p:blipFill>
        <p:spPr>
          <a:xfrm>
            <a:off x="3351240" y="2914560"/>
            <a:ext cx="2430360" cy="36403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133360" y="1552680"/>
            <a:ext cx="625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De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working</a:t>
            </a:r>
            <a:r>
              <a:rPr b="1" i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o’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Sh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working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1276200" y="4398840"/>
            <a:ext cx="6755040" cy="14464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1508760" y="4600440"/>
            <a:ext cx="545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-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9" descr="shutterstock_1920675"/>
          <p:cNvPicPr/>
          <p:nvPr/>
        </p:nvPicPr>
        <p:blipFill>
          <a:blip r:embed="rId1"/>
          <a:stretch/>
        </p:blipFill>
        <p:spPr>
          <a:xfrm>
            <a:off x="285840" y="1459080"/>
            <a:ext cx="1751040" cy="26222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1770840" y="2549520"/>
            <a:ext cx="70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How long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1" i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i="1" lang="en-US" sz="3200" spc="-1" strike="noStrike">
                <a:solidFill>
                  <a:srgbClr val="793b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wo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2359080" y="3602160"/>
            <a:ext cx="6477120" cy="12538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2460240" y="3670200"/>
            <a:ext cx="6288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FOR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-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7" descr="shutterstock_1920675"/>
          <p:cNvPicPr/>
          <p:nvPr/>
        </p:nvPicPr>
        <p:blipFill>
          <a:blip r:embed="rId1"/>
          <a:stretch/>
        </p:blipFill>
        <p:spPr>
          <a:xfrm>
            <a:off x="130320" y="1228680"/>
            <a:ext cx="1655640" cy="24796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222840" y="1401840"/>
            <a:ext cx="73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is pla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iano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620640" y="2668680"/>
            <a:ext cx="5322960" cy="15714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348560" y="2668680"/>
            <a:ext cx="39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798480" y="3081240"/>
            <a:ext cx="4997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gress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time not menti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381240" y="5253120"/>
            <a:ext cx="81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pla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iano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4"/>
          <p:cNvSpPr/>
          <p:nvPr/>
        </p:nvSpPr>
        <p:spPr>
          <a:xfrm>
            <a:off x="2003400" y="4795920"/>
            <a:ext cx="2014560" cy="1652400"/>
          </a:xfrm>
          <a:custGeom>
            <a:avLst/>
            <a:gdLst>
              <a:gd name="textAreaLeft" fmla="*/ 294840 w 2014560"/>
              <a:gd name="textAreaRight" fmla="*/ 1719720 w 2014560"/>
              <a:gd name="textAreaTop" fmla="*/ 241920 h 1652400"/>
              <a:gd name="textAreaBottom" fmla="*/ 141048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17" descr="shutterstock_2267881"/>
          <p:cNvPicPr/>
          <p:nvPr/>
        </p:nvPicPr>
        <p:blipFill>
          <a:blip r:embed="rId1"/>
          <a:stretch/>
        </p:blipFill>
        <p:spPr>
          <a:xfrm>
            <a:off x="6954840" y="2192400"/>
            <a:ext cx="1901880" cy="26319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1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39240" y="136368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36400" y="137160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832000" y="1341360"/>
            <a:ext cx="228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93600" y="2527200"/>
            <a:ext cx="103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212280" y="2535120"/>
            <a:ext cx="162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5827680" y="3008160"/>
            <a:ext cx="176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827320" y="2448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8525"/>
                </a:solidFill>
                <a:latin typeface="Arial"/>
              </a:rPr>
              <a:t>st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802480" y="3471840"/>
            <a:ext cx="178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5847120" y="29131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810400" y="3924360"/>
            <a:ext cx="177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855400" y="345456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5807160" y="4432320"/>
            <a:ext cx="178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"/>
          <p:cNvSpPr/>
          <p:nvPr/>
        </p:nvSpPr>
        <p:spPr>
          <a:xfrm>
            <a:off x="5807160" y="396252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ff"/>
                </a:solidFill>
                <a:latin typeface="Arial"/>
              </a:rPr>
              <a:t>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221400" y="1079640"/>
            <a:ext cx="72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playing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inc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384120" y="2523960"/>
            <a:ext cx="6104160" cy="197352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772200" y="2523960"/>
            <a:ext cx="54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721520" y="2867040"/>
            <a:ext cx="3487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in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ogress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ex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381960" y="5230800"/>
            <a:ext cx="70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is pla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iano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>
            <a:off x="1538280" y="4873680"/>
            <a:ext cx="1700280" cy="1431720"/>
          </a:xfrm>
          <a:custGeom>
            <a:avLst/>
            <a:gdLst>
              <a:gd name="textAreaLeft" fmla="*/ 248760 w 1700280"/>
              <a:gd name="textAreaRight" fmla="*/ 1451520 w 1700280"/>
              <a:gd name="textAreaTop" fmla="*/ 209520 h 1431720"/>
              <a:gd name="textAreaBottom" fmla="*/ 1222200 h 143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229320" y="1565280"/>
            <a:ext cx="71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Mar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playing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for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h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5" descr="shutterstock_2267881"/>
          <p:cNvPicPr/>
          <p:nvPr/>
        </p:nvPicPr>
        <p:blipFill>
          <a:blip r:embed="rId1"/>
          <a:stretch/>
        </p:blipFill>
        <p:spPr>
          <a:xfrm>
            <a:off x="6954840" y="2192400"/>
            <a:ext cx="1901880" cy="26319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PRESENT PERFECT PRO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86040" y="118116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   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CORRECT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belo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05120" y="180036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belo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95040" y="2544840"/>
            <a:ext cx="58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)    </a:t>
            </a:r>
            <a:r>
              <a:rPr b="0" lang="en-US" sz="2800" spc="-1" strike="noStrike">
                <a:solidFill>
                  <a:srgbClr val="2b8525"/>
                </a:solidFill>
                <a:latin typeface="Arial"/>
              </a:rPr>
              <a:t>CORRECT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has own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e mon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115200" y="3541680"/>
            <a:ext cx="63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been ow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1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for one mon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262080" y="5329080"/>
            <a:ext cx="6794280" cy="7304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260280" y="5378400"/>
            <a:ext cx="67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action verbs          progressive t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3073320" y="5562720"/>
            <a:ext cx="793800" cy="279360"/>
          </a:xfrm>
          <a:prstGeom prst="rightArrow">
            <a:avLst>
              <a:gd name="adj1" fmla="val 50000"/>
              <a:gd name="adj2" fmla="val 710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552760" y="4951440"/>
            <a:ext cx="1700280" cy="1431720"/>
          </a:xfrm>
          <a:custGeom>
            <a:avLst/>
            <a:gdLst>
              <a:gd name="textAreaLeft" fmla="*/ 248760 w 1700280"/>
              <a:gd name="textAreaRight" fmla="*/ 1451520 w 1700280"/>
              <a:gd name="textAreaTop" fmla="*/ 209520 h 1431720"/>
              <a:gd name="textAreaBottom" fmla="*/ 1222200 h 143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909960" y="3452760"/>
            <a:ext cx="852480" cy="671400"/>
          </a:xfrm>
          <a:custGeom>
            <a:avLst/>
            <a:gdLst>
              <a:gd name="textAreaLeft" fmla="*/ 124560 w 852480"/>
              <a:gd name="textAreaRight" fmla="*/ 727920 w 852480"/>
              <a:gd name="textAreaTop" fmla="*/ 98280 h 671400"/>
              <a:gd name="textAreaBottom" fmla="*/ 573120 h 6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3549600" y="1789200"/>
            <a:ext cx="852480" cy="671400"/>
          </a:xfrm>
          <a:custGeom>
            <a:avLst/>
            <a:gdLst>
              <a:gd name="textAreaLeft" fmla="*/ 124560 w 852480"/>
              <a:gd name="textAreaRight" fmla="*/ 727920 w 852480"/>
              <a:gd name="textAreaTop" fmla="*/ 98280 h 671400"/>
              <a:gd name="textAreaBottom" fmla="*/ 573120 h 6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7" descr="shutterstock_2554788"/>
          <p:cNvPicPr/>
          <p:nvPr/>
        </p:nvPicPr>
        <p:blipFill>
          <a:blip r:embed="rId1"/>
          <a:stretch/>
        </p:blipFill>
        <p:spPr>
          <a:xfrm>
            <a:off x="6796080" y="1500120"/>
            <a:ext cx="2068560" cy="268776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2687760" y="3094200"/>
            <a:ext cx="597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 _________ the ph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7313760" y="1285920"/>
            <a:ext cx="9921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4745880" y="304956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3597480" y="44560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been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187560" y="1177920"/>
            <a:ext cx="628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ROGRESS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6" descr="shutterstock_1005098"/>
          <p:cNvPicPr/>
          <p:nvPr/>
        </p:nvPicPr>
        <p:blipFill>
          <a:blip r:embed="rId1"/>
          <a:stretch/>
        </p:blipFill>
        <p:spPr>
          <a:xfrm>
            <a:off x="264960" y="3094200"/>
            <a:ext cx="2171880" cy="30160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496" name="Text Box 18"/>
          <p:cNvSpPr/>
          <p:nvPr/>
        </p:nvSpPr>
        <p:spPr>
          <a:xfrm>
            <a:off x="2744640" y="4513320"/>
            <a:ext cx="58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_____________ it fo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rs.  I need to make a c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21040" y="1177920"/>
            <a:ext cx="628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ROGRESS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2851560" y="3094200"/>
            <a:ext cx="537444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parent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 for over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7313760" y="1285920"/>
            <a:ext cx="1245960" cy="884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5101200" y="304956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3941640" y="402912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een 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14" descr="shutterstock_2753834"/>
          <p:cNvPicPr/>
          <p:nvPr/>
        </p:nvPicPr>
        <p:blipFill>
          <a:blip r:embed="rId1"/>
          <a:stretch/>
        </p:blipFill>
        <p:spPr>
          <a:xfrm>
            <a:off x="244440" y="3049560"/>
            <a:ext cx="2465280" cy="32623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6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265320" y="1177920"/>
            <a:ext cx="628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ROGRESS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20960" y="2849400"/>
            <a:ext cx="6135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you  _______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mer holi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______ to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______________ to the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7313760" y="1285920"/>
            <a:ext cx="1245960" cy="884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6007320" y="280512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900600" y="4253040"/>
            <a:ext cx="117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1"/>
          <p:cNvSpPr/>
          <p:nvPr/>
        </p:nvSpPr>
        <p:spPr>
          <a:xfrm>
            <a:off x="3237480" y="522936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een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14" descr="shutterstock_1344892"/>
          <p:cNvPicPr/>
          <p:nvPr/>
        </p:nvPicPr>
        <p:blipFill>
          <a:blip r:embed="rId1"/>
          <a:stretch/>
        </p:blipFill>
        <p:spPr>
          <a:xfrm>
            <a:off x="311040" y="3021120"/>
            <a:ext cx="2202120" cy="32986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  <p:sp>
        <p:nvSpPr>
          <p:cNvPr id="512" name="Text Box 17"/>
          <p:cNvSpPr/>
          <p:nvPr/>
        </p:nvSpPr>
        <p:spPr>
          <a:xfrm>
            <a:off x="2818080" y="582300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ummer since I w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-284400" y="1436760"/>
            <a:ext cx="9690480" cy="106884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ke, Bob, and Lee are hi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have been hiking for several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6" descr="shutterstock_2482094"/>
          <p:cNvPicPr/>
          <p:nvPr/>
        </p:nvPicPr>
        <p:blipFill>
          <a:blip r:embed="rId1"/>
          <a:stretch/>
        </p:blipFill>
        <p:spPr>
          <a:xfrm>
            <a:off x="2344680" y="2787480"/>
            <a:ext cx="4446720" cy="37436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225360" y="4264200"/>
            <a:ext cx="8585280" cy="1161720"/>
          </a:xfrm>
          <a:prstGeom prst="rect">
            <a:avLst/>
          </a:prstGeom>
          <a:solidFill>
            <a:srgbClr val="0101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228600" y="1314360"/>
            <a:ext cx="8585280" cy="1602000"/>
          </a:xfrm>
          <a:prstGeom prst="rect">
            <a:avLst/>
          </a:prstGeom>
          <a:solidFill>
            <a:srgbClr val="2b852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236880" y="1314360"/>
            <a:ext cx="62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 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321840" y="1849320"/>
            <a:ext cx="815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My cousin is hiking with his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been hi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several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2122560" y="5640480"/>
            <a:ext cx="4992480" cy="9460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2307600" y="5618160"/>
            <a:ext cx="467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pecified times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242640" y="431172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331560" y="484668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My cousin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hiked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2122560" y="3129120"/>
            <a:ext cx="4992480" cy="9460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2306520" y="3129120"/>
            <a:ext cx="47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present activit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3960" y="277344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cousi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has been hi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-12960" y="196992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My cousin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hik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8"/>
          <p:cNvSpPr/>
          <p:nvPr/>
        </p:nvSpPr>
        <p:spPr>
          <a:xfrm>
            <a:off x="5508720" y="2651040"/>
            <a:ext cx="1033200" cy="762120"/>
          </a:xfrm>
          <a:custGeom>
            <a:avLst/>
            <a:gdLst>
              <a:gd name="textAreaLeft" fmla="*/ 151200 w 1033200"/>
              <a:gd name="textAreaRight" fmla="*/ 882000 w 103320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0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35640" y="2965320"/>
            <a:ext cx="839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R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uy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have been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ther for ten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4680" y="1484280"/>
            <a:ext cx="76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The guys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known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ther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2122560" y="4425840"/>
            <a:ext cx="4992480" cy="9464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306520" y="4425840"/>
            <a:ext cx="47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present activit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action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5433840" y="2863800"/>
            <a:ext cx="1881360" cy="762120"/>
          </a:xfrm>
          <a:custGeom>
            <a:avLst/>
            <a:gdLst>
              <a:gd name="textAreaLeft" fmla="*/ 275400 w 1881360"/>
              <a:gd name="textAreaRight" fmla="*/ 1605960 w 188136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dc303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3"/>
          <p:cNvSpPr/>
          <p:nvPr/>
        </p:nvSpPr>
        <p:spPr>
          <a:xfrm>
            <a:off x="198360" y="1654200"/>
            <a:ext cx="88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been stud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cine for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I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ve stud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cine for one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3044880" y="4618080"/>
            <a:ext cx="2873160" cy="7300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3085200" y="46911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-667800" y="1646280"/>
            <a:ext cx="10330200" cy="76428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ve been here since 6: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shutterstock_1920675"/>
          <p:cNvPicPr/>
          <p:nvPr/>
        </p:nvPicPr>
        <p:blipFill>
          <a:blip r:embed="rId1"/>
          <a:stretch/>
        </p:blipFill>
        <p:spPr>
          <a:xfrm>
            <a:off x="3386160" y="2793960"/>
            <a:ext cx="2390760" cy="35798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99080" y="1120680"/>
            <a:ext cx="878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Rolf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 been run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day since 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f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has 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day since he w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2252520" y="4800600"/>
            <a:ext cx="4822920" cy="139392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2462400" y="4957920"/>
            <a:ext cx="446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, habitu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tense ok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6"/>
          <p:cNvSpPr/>
          <p:nvPr/>
        </p:nvSpPr>
        <p:spPr>
          <a:xfrm>
            <a:off x="2639880" y="5673600"/>
            <a:ext cx="739800" cy="262080"/>
          </a:xfrm>
          <a:prstGeom prst="rightArrow">
            <a:avLst>
              <a:gd name="adj1" fmla="val 50000"/>
              <a:gd name="adj2" fmla="val 705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03040" y="1231920"/>
            <a:ext cx="89409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 I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stud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nish ever since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ed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ve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tud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nish ever since I vis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PRESENT PERFECT PROGRESSIVE 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247840" y="4799160"/>
            <a:ext cx="4826160" cy="13888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2468880" y="4952880"/>
            <a:ext cx="446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, habitu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tense ok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/>
          <p:cNvSpPr/>
          <p:nvPr/>
        </p:nvSpPr>
        <p:spPr>
          <a:xfrm>
            <a:off x="2639880" y="5675400"/>
            <a:ext cx="739800" cy="261720"/>
          </a:xfrm>
          <a:prstGeom prst="rightArrow">
            <a:avLst>
              <a:gd name="adj1" fmla="val 50000"/>
              <a:gd name="adj2" fmla="val 70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nodeType="clickEffect" fill="hold">
                      <p:stCondLst>
                        <p:cond delay="0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396080" y="1228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PERFEC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95400" y="1949400"/>
            <a:ext cx="784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___ your family ______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 __________ here for te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"/>
          <p:cNvSpPr/>
          <p:nvPr/>
        </p:nvSpPr>
        <p:spPr>
          <a:xfrm>
            <a:off x="7937640" y="1216080"/>
            <a:ext cx="990360" cy="78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5011560" y="1957320"/>
            <a:ext cx="12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1154880" y="29401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ha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914400" y="1262160"/>
            <a:ext cx="4119480" cy="396720"/>
          </a:xfrm>
          <a:prstGeom prst="rect">
            <a:avLst/>
          </a:prstGeom>
          <a:noFill/>
          <a:ln w="28440">
            <a:solidFill>
              <a:srgbClr val="010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4"/>
          <p:cNvSpPr/>
          <p:nvPr/>
        </p:nvSpPr>
        <p:spPr>
          <a:xfrm>
            <a:off x="1898640" y="1962000"/>
            <a:ext cx="11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ff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6" descr="shutterstock_3309548"/>
          <p:cNvPicPr/>
          <p:nvPr/>
        </p:nvPicPr>
        <p:blipFill>
          <a:blip r:embed="rId1"/>
          <a:stretch/>
        </p:blipFill>
        <p:spPr>
          <a:xfrm>
            <a:off x="3362400" y="3722760"/>
            <a:ext cx="19209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7 LET’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250200" y="1228680"/>
            <a:ext cx="55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PERFECT PROGRESSI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95400" y="1949400"/>
            <a:ext cx="866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___ your family _________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 _____________ here for te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"/>
          <p:cNvSpPr/>
          <p:nvPr/>
        </p:nvSpPr>
        <p:spPr>
          <a:xfrm>
            <a:off x="7937640" y="1216080"/>
            <a:ext cx="990360" cy="78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795920" y="1903320"/>
            <a:ext cx="24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been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943920" y="288432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have been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246240" y="1157400"/>
            <a:ext cx="5600520" cy="608040"/>
          </a:xfrm>
          <a:prstGeom prst="rect">
            <a:avLst/>
          </a:prstGeom>
          <a:noFill/>
          <a:ln w="28440">
            <a:solidFill>
              <a:srgbClr val="2b8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1898640" y="1962000"/>
            <a:ext cx="11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1" descr="shutterstock_3309548"/>
          <p:cNvPicPr/>
          <p:nvPr/>
        </p:nvPicPr>
        <p:blipFill>
          <a:blip r:embed="rId1"/>
          <a:stretch/>
        </p:blipFill>
        <p:spPr>
          <a:xfrm>
            <a:off x="3363840" y="3719520"/>
            <a:ext cx="19209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-720720" y="2144880"/>
            <a:ext cx="7221600" cy="2104920"/>
          </a:xfrm>
          <a:prstGeom prst="rect">
            <a:avLst/>
          </a:prstGeom>
          <a:solidFill>
            <a:srgbClr val="3300eb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they arriv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 the store, it h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ready clo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shutterstock_361790"/>
          <p:cNvPicPr/>
          <p:nvPr/>
        </p:nvPicPr>
        <p:blipFill>
          <a:blip r:embed="rId1"/>
          <a:stretch/>
        </p:blipFill>
        <p:spPr>
          <a:xfrm>
            <a:off x="5829480" y="1706400"/>
            <a:ext cx="3227040" cy="418320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303120" y="1582560"/>
            <a:ext cx="83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When they arrived at the store, it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cl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4"/>
          <p:cNvSpPr/>
          <p:nvPr/>
        </p:nvSpPr>
        <p:spPr>
          <a:xfrm>
            <a:off x="1574640" y="3075120"/>
            <a:ext cx="5916600" cy="210348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2517120" y="30798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ven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2313000" y="3692520"/>
            <a:ext cx="5767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  -  Past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nt – Simpl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668160" y="1654200"/>
            <a:ext cx="80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The store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cl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r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1697040" y="3246480"/>
            <a:ext cx="5707080" cy="5792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860840" y="3246480"/>
            <a:ext cx="54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: 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668160" y="1241280"/>
            <a:ext cx="8002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It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s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ne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880920" y="4564080"/>
            <a:ext cx="7425000" cy="142884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 flipH="1">
            <a:off x="1160640" y="4646520"/>
            <a:ext cx="673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/ you / she / he / it / we / they  +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d</a:t>
            </a:r>
            <a:r>
              <a:rPr b="0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9"/>
          <p:cNvSpPr/>
          <p:nvPr/>
        </p:nvSpPr>
        <p:spPr>
          <a:xfrm>
            <a:off x="1407960" y="4122720"/>
            <a:ext cx="6897960" cy="227340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3805200" y="1859040"/>
            <a:ext cx="13572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9"/>
          <p:cNvSpPr/>
          <p:nvPr/>
        </p:nvSpPr>
        <p:spPr>
          <a:xfrm>
            <a:off x="135000" y="195912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  Andrea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fi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nner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ris go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0"/>
          <p:cNvSpPr/>
          <p:nvPr/>
        </p:nvSpPr>
        <p:spPr>
          <a:xfrm>
            <a:off x="158760" y="135396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d fi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nner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ris go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1"/>
          <p:cNvSpPr/>
          <p:nvPr/>
        </p:nvSpPr>
        <p:spPr>
          <a:xfrm>
            <a:off x="139680" y="2806560"/>
            <a:ext cx="89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  Kris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had gott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me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rea finished 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2"/>
          <p:cNvSpPr/>
          <p:nvPr/>
        </p:nvSpPr>
        <p:spPr>
          <a:xfrm>
            <a:off x="149400" y="339264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 Kris </a:t>
            </a:r>
            <a:r>
              <a:rPr b="1" i="1" lang="en-US" sz="2800" spc="-1" strike="noStrike">
                <a:solidFill>
                  <a:srgbClr val="2b8525"/>
                </a:solidFill>
                <a:latin typeface="Arial"/>
              </a:rPr>
              <a:t>g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me </a:t>
            </a:r>
            <a:r>
              <a:rPr b="1" i="1" lang="en-US" sz="2800" spc="-1" strike="noStrike">
                <a:solidFill>
                  <a:srgbClr val="0101ff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rea finished 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4"/>
          <p:cNvSpPr/>
          <p:nvPr/>
        </p:nvSpPr>
        <p:spPr>
          <a:xfrm>
            <a:off x="1843200" y="4383000"/>
            <a:ext cx="146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5"/>
          <p:cNvSpPr/>
          <p:nvPr/>
        </p:nvSpPr>
        <p:spPr>
          <a:xfrm>
            <a:off x="3019320" y="4703760"/>
            <a:ext cx="4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6"/>
          <p:cNvSpPr/>
          <p:nvPr/>
        </p:nvSpPr>
        <p:spPr>
          <a:xfrm>
            <a:off x="3467160" y="4557600"/>
            <a:ext cx="246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tim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7"/>
          <p:cNvSpPr/>
          <p:nvPr/>
        </p:nvSpPr>
        <p:spPr>
          <a:xfrm>
            <a:off x="6324480" y="4383000"/>
            <a:ext cx="21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 tense not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8"/>
          <p:cNvSpPr/>
          <p:nvPr/>
        </p:nvSpPr>
        <p:spPr>
          <a:xfrm>
            <a:off x="5457960" y="5079960"/>
            <a:ext cx="866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7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6359400" y="2230560"/>
            <a:ext cx="1762200" cy="1441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258840" y="1163520"/>
            <a:ext cx="86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d already gone to bed when it started sn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377640" y="2228760"/>
            <a:ext cx="503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it started snowing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I went to bed       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4392000" y="32209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4403520" y="22604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3" descr="shutterstock_2499536"/>
          <p:cNvPicPr/>
          <p:nvPr/>
        </p:nvPicPr>
        <p:blipFill>
          <a:blip r:embed="rId1"/>
          <a:stretch/>
        </p:blipFill>
        <p:spPr>
          <a:xfrm>
            <a:off x="3048120" y="3936960"/>
            <a:ext cx="3895560" cy="260208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23920" y="1320840"/>
            <a:ext cx="8648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 I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 6:00 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play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oli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six 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9"/>
          <p:cNvSpPr/>
          <p:nvPr/>
        </p:nvSpPr>
        <p:spPr>
          <a:xfrm>
            <a:off x="1407960" y="4030560"/>
            <a:ext cx="6667560" cy="232596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0"/>
          <p:cNvSpPr/>
          <p:nvPr/>
        </p:nvSpPr>
        <p:spPr>
          <a:xfrm>
            <a:off x="1950840" y="4249800"/>
            <a:ext cx="33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perfect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2"/>
          <p:cNvSpPr/>
          <p:nvPr/>
        </p:nvSpPr>
        <p:spPr>
          <a:xfrm>
            <a:off x="5297400" y="4205160"/>
            <a:ext cx="363600" cy="657360"/>
          </a:xfrm>
          <a:custGeom>
            <a:avLst/>
            <a:gdLst>
              <a:gd name="textAreaLeft" fmla="*/ 0 w 363600"/>
              <a:gd name="textAreaRight" fmla="*/ 131400 w 363600"/>
              <a:gd name="textAreaTop" fmla="*/ 16920 h 657360"/>
              <a:gd name="textAreaBottom" fmla="*/ 640440 h 6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3"/>
          <p:cNvSpPr/>
          <p:nvPr/>
        </p:nvSpPr>
        <p:spPr>
          <a:xfrm>
            <a:off x="5814360" y="4030560"/>
            <a:ext cx="121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5"/>
          <p:cNvSpPr/>
          <p:nvPr/>
        </p:nvSpPr>
        <p:spPr>
          <a:xfrm>
            <a:off x="1991520" y="54658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6"/>
          <p:cNvSpPr/>
          <p:nvPr/>
        </p:nvSpPr>
        <p:spPr>
          <a:xfrm>
            <a:off x="4416840" y="546588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7"/>
          <p:cNvSpPr/>
          <p:nvPr/>
        </p:nvSpPr>
        <p:spPr>
          <a:xfrm>
            <a:off x="2079720" y="5432400"/>
            <a:ext cx="316872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8"/>
          <p:cNvSpPr/>
          <p:nvPr/>
        </p:nvSpPr>
        <p:spPr>
          <a:xfrm>
            <a:off x="5248440" y="5432400"/>
            <a:ext cx="1641240" cy="119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3"/>
          <p:cNvSpPr/>
          <p:nvPr/>
        </p:nvSpPr>
        <p:spPr>
          <a:xfrm>
            <a:off x="990720" y="2435400"/>
            <a:ext cx="1761840" cy="1441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433440" y="1482840"/>
            <a:ext cx="80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tried to go shopping, but the store had cl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33440" y="3990960"/>
            <a:ext cx="54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tore closed            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ried to go shopping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4924080" y="39924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4875120" y="49658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0" descr="shutterstock_361790"/>
          <p:cNvPicPr/>
          <p:nvPr/>
        </p:nvPicPr>
        <p:blipFill>
          <a:blip r:embed="rId1"/>
          <a:stretch/>
        </p:blipFill>
        <p:spPr>
          <a:xfrm>
            <a:off x="6004080" y="3254400"/>
            <a:ext cx="2460600" cy="318924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116208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8  PAS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/>
          <p:cNvSpPr/>
          <p:nvPr/>
        </p:nvSpPr>
        <p:spPr>
          <a:xfrm>
            <a:off x="2232000" y="2359080"/>
            <a:ext cx="1762200" cy="1441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36440" y="1181160"/>
            <a:ext cx="883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riend called to suggest a good movie.  She had seen it last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12680" y="3732120"/>
            <a:ext cx="620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he friend saw the movie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he friend called             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5349240" y="37465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5344920" y="47196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1" descr="shutterstock_2655555"/>
          <p:cNvPicPr/>
          <p:nvPr/>
        </p:nvPicPr>
        <p:blipFill>
          <a:blip r:embed="rId1"/>
          <a:stretch/>
        </p:blipFill>
        <p:spPr>
          <a:xfrm>
            <a:off x="6359400" y="3672000"/>
            <a:ext cx="2259000" cy="2923920"/>
          </a:xfrm>
          <a:prstGeom prst="rect">
            <a:avLst/>
          </a:prstGeom>
          <a:ln w="28440">
            <a:solidFill>
              <a:srgbClr val="2b852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2"/>
          <p:cNvSpPr/>
          <p:nvPr/>
        </p:nvSpPr>
        <p:spPr>
          <a:xfrm>
            <a:off x="7010280" y="6534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"/>
          <p:cNvSpPr/>
          <p:nvPr/>
        </p:nvSpPr>
        <p:spPr>
          <a:xfrm>
            <a:off x="463680" y="1585800"/>
            <a:ext cx="544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used under license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terstock, In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0" y="15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0"/>
          <p:cNvSpPr/>
          <p:nvPr/>
        </p:nvSpPr>
        <p:spPr>
          <a:xfrm>
            <a:off x="2193840" y="2351160"/>
            <a:ext cx="5205600" cy="21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2354400" y="2173320"/>
            <a:ext cx="4171680" cy="4116240"/>
          </a:xfrm>
          <a:prstGeom prst="ellipse">
            <a:avLst/>
          </a:prstGeom>
          <a:solidFill>
            <a:srgbClr val="2b8525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4483080" y="3603600"/>
            <a:ext cx="2573280" cy="31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193840" y="2081160"/>
            <a:ext cx="5205600" cy="21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3"/>
          <p:cNvSpPr/>
          <p:nvPr/>
        </p:nvSpPr>
        <p:spPr>
          <a:xfrm>
            <a:off x="2201760" y="419400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4"/>
          <p:cNvSpPr/>
          <p:nvPr/>
        </p:nvSpPr>
        <p:spPr>
          <a:xfrm>
            <a:off x="4471920" y="2617920"/>
            <a:ext cx="0" cy="384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805200" y="2646360"/>
            <a:ext cx="13572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4278240" y="3817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2163600" y="3817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4278240" y="59040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 rot="16200000">
            <a:off x="1863000" y="3303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 rot="16200000">
            <a:off x="3990240" y="2665440"/>
            <a:ext cx="833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41"/>
          <p:cNvSpPr/>
          <p:nvPr/>
        </p:nvSpPr>
        <p:spPr>
          <a:xfrm flipV="1">
            <a:off x="4471920" y="4193280"/>
            <a:ext cx="2054160" cy="2095560"/>
          </a:xfrm>
          <a:custGeom>
            <a:avLst/>
            <a:gdLst>
              <a:gd name="textAreaLeft" fmla="*/ 0 w 2054160"/>
              <a:gd name="textAreaRight" fmla="*/ 2054520 w 2054160"/>
              <a:gd name="textAreaTop" fmla="*/ -360 h 2095560"/>
              <a:gd name="textAreaBottom" fmla="*/ 2095560 h 2095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63160" y="1368360"/>
            <a:ext cx="65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’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1" i="1" lang="en-US" sz="3200" spc="-1" strike="noStrike">
                <a:solidFill>
                  <a:srgbClr val="0101ff"/>
                </a:solidFill>
                <a:latin typeface="Arial"/>
              </a:rPr>
              <a:t>since</a:t>
            </a:r>
            <a:r>
              <a:rPr b="0" i="1" lang="en-US" sz="3200" spc="-1" strike="noStrike">
                <a:solidFill>
                  <a:srgbClr val="2b8525"/>
                </a:solidFill>
                <a:latin typeface="Arial"/>
              </a:rPr>
              <a:t> 6:00 a.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160640" y="30492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62080" y="3049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-2  PRESENT PERFECT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31840" y="1365120"/>
            <a:ext cx="4257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    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, He, 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649440" y="4230720"/>
            <a:ext cx="7834320" cy="1165320"/>
          </a:xfrm>
          <a:prstGeom prst="roundRect">
            <a:avLst>
              <a:gd name="adj" fmla="val 16667"/>
            </a:avLst>
          </a:prstGeom>
          <a:solidFill>
            <a:srgbClr val="ffb665"/>
          </a:solidFill>
          <a:ln w="28440">
            <a:solidFill>
              <a:srgbClr val="358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829440" y="4505400"/>
            <a:ext cx="74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632480" y="2324160"/>
            <a:ext cx="4568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b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1" i="1" lang="en-US" sz="3200" spc="-1" strike="noStrike">
                <a:solidFill>
                  <a:srgbClr val="2b8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917880" y="1365120"/>
            <a:ext cx="657360" cy="2529000"/>
          </a:xfrm>
          <a:custGeom>
            <a:avLst/>
            <a:gdLst>
              <a:gd name="textAreaLeft" fmla="*/ 0 w 657360"/>
              <a:gd name="textAreaRight" fmla="*/ 237240 w 657360"/>
              <a:gd name="textAreaTop" fmla="*/ 65880 h 2529000"/>
              <a:gd name="textAreaBottom" fmla="*/ 2463120 h 25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7"/>
                </a:lnTo>
                <a:cubicBezTo>
                  <a:pt x="10800" y="9907"/>
                  <a:pt x="16200" y="10807"/>
                  <a:pt x="21600" y="10807"/>
                </a:cubicBezTo>
                <a:cubicBezTo>
                  <a:pt x="16200" y="10807"/>
                  <a:pt x="10800" y="11707"/>
                  <a:pt x="10800" y="1260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6:24:56Z</dcterms:created>
  <dc:creator>ulaneth</dc:creator>
  <dc:description/>
  <dc:language>en-US</dc:language>
  <cp:lastModifiedBy>Morgan Bondelid</cp:lastModifiedBy>
  <dcterms:modified xsi:type="dcterms:W3CDTF">2011-09-14T23:44:37Z</dcterms:modified>
  <cp:revision>172</cp:revision>
  <dc:subject/>
  <dc:title>Chapter 4 - FEG</dc:title>
</cp:coreProperties>
</file>