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371-CDCD-4C4F-9D18-07F6D9CFF4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44F1-413F-4B84-ADD9-9F72197A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27D-9803-452F-8058-A90E8077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50E-07CF-4FA8-811B-2B97D005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0203-274B-47A2-9DFD-CEA96284B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8B97-6E92-4595-B44F-B5F66E22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507B-A571-4B5B-B02B-4CF375A3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1257-D00B-4422-BCFD-F8C96536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B5D-F783-469D-ACB1-33A63245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90F-35F9-432D-9E67-35BB3FE7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799D-8274-4B9D-B7CA-CA75F429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56B0-AF6C-4E90-A7F2-D6F7256E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CEB-7998-46A3-A04F-49B3148A5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BF4C-EEFE-428E-BF79-ED0E7184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4E0-C8FB-4A6E-AB3A-79517615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70F-7C61-43D3-850C-C4CD7565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7FC7-F8E1-4606-9BA7-F5924130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3C3-7D85-40EB-A2A6-E072F9DB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63A-F8D6-4C21-8F7D-2D3A5F7AB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72E2-C391-420B-ADAC-B263608A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B7AC-39B9-4D4E-B6A5-E49781B5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D5F-F4EE-4D8A-B1ED-537E18F8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0F2-3165-493A-9E80-A92EA0F7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9D1-9166-42FF-88FE-E7D20FA1B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A6D-5D9E-44F1-91E0-6E642A79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A5C9-8BBA-4067-84A8-6F2DB90F0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3FEF-AE2B-4732-87E2-7D66F836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3DD1-B3D1-428E-BCDC-4E9D7722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830A-C13B-4254-B0B3-B08BA102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61E-05FC-487A-843E-95B42619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4C08-74C0-4582-A71E-47348334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F0C8-7BC8-4C5A-A582-A68EB30C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61E-8391-4C68-A38B-540041FA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A55-55E4-4156-8653-B87E3B190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BE8-96EE-4C42-87D7-A8BFE4F6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A51-0283-4B84-A243-38B64119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E033-7A8F-444E-AA7D-17A30E3F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CE2-2527-4DB3-ACAC-AC2C85692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95B-6E4F-4DC5-9C9F-BE394A57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09DA-BEA0-4590-B20D-E1039469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D244-4D88-4D3F-8E79-911936EC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578F-37E4-46B8-A11E-468B74DA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42A2-9B71-4EF5-88F6-236BF210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531-90D3-458A-BEEF-A8419C2C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30C1-C7DA-4E20-8532-74C8DD84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25C-617C-4E9C-AC84-1F3EC52E2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DB8-9609-4E6B-AC2B-9ADC96C5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F45A-8711-4876-8F41-24A3E4F4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E2FE-9034-41E2-90F5-A07FE17E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83E9-33DD-446E-B38E-16A38109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E48-99F4-4E47-8564-9C547571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94E8-9E7A-4707-8E4C-3FB71AEB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EF9-290C-4639-8B33-9041181D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493-0AB0-4F99-87C3-9DA75974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2D2-8CF5-4B04-BC34-F9F959F3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677-4CEF-47CE-95C9-BFEBAFD4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3199-3E95-446A-955D-6D8B06E3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1499-47C3-4B72-93D2-445F4B71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A63-1323-41D8-959F-D29DA0AD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2A3-20A6-4009-A904-512A416DC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1BCB-F078-469A-AB67-87EAB4F2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C1F-EE1C-4C37-98BD-4EA1CCC3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D35A-90A1-446F-8734-3D1DDCCA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39B-4748-43B1-81B2-27E2A879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304-1B78-4609-9E17-4661CCB71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4725-5605-43F9-84CC-1C02774C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C05E-EC43-4AA5-A1A6-6F271E68F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34F2-061F-4BFF-AD08-48DF594D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6912-2990-461A-ACEF-52D08597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BB3-1554-4E5F-AD2D-11AC0371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36B-1B81-44B5-A4C7-B37213FD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A24-0223-46A6-BE7A-90F8D253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41A-21D9-43EC-AF4B-5065A3E4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0CB-3BEA-41DE-A450-AC10AAE1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2D2-DF91-41EB-B9F5-C6352884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eginewbanner2 copy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1076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n_chapter_content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62840" y="185760"/>
            <a:ext cx="990720" cy="333360"/>
          </a:xfrm>
          <a:prstGeom prst="rect">
            <a:avLst/>
          </a:prstGeom>
          <a:ln w="0">
            <a:noFill/>
          </a:ln>
        </p:spPr>
      </p:pic>
      <p:sp>
        <p:nvSpPr>
          <p:cNvPr id="2" name="Text Box 5"/>
          <p:cNvSpPr/>
          <p:nvPr/>
        </p:nvSpPr>
        <p:spPr>
          <a:xfrm>
            <a:off x="845820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705D-3E35-4818-B4A5-7815796113D3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feginewbanner2 copy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1076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btn_course_contents"/>
          <p:cNvPicPr/>
          <p:nvPr/>
        </p:nvPicPr>
        <p:blipFill>
          <a:blip r:embed="rId3"/>
          <a:stretch/>
        </p:blipFill>
        <p:spPr>
          <a:xfrm>
            <a:off x="7961400" y="182520"/>
            <a:ext cx="9903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74.xml"/><Relationship Id="rId8" Type="http://schemas.openxmlformats.org/officeDocument/2006/relationships/slide" Target="slide28.xml"/><Relationship Id="rId9" Type="http://schemas.openxmlformats.org/officeDocument/2006/relationships/slide" Target="slide39.xml"/><Relationship Id="rId10" Type="http://schemas.openxmlformats.org/officeDocument/2006/relationships/slide" Target="slide39.xml"/><Relationship Id="rId11" Type="http://schemas.openxmlformats.org/officeDocument/2006/relationships/slide" Target="slide46.xml"/><Relationship Id="rId12" Type="http://schemas.openxmlformats.org/officeDocument/2006/relationships/slide" Target="slide55.xml"/><Relationship Id="rId13" Type="http://schemas.openxmlformats.org/officeDocument/2006/relationships/slide" Target="slide64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hapter-4new"/>
          <p:cNvPicPr/>
          <p:nvPr/>
        </p:nvPicPr>
        <p:blipFill>
          <a:blip r:embed="rId1"/>
          <a:stretch/>
        </p:blipFill>
        <p:spPr>
          <a:xfrm>
            <a:off x="1406520" y="54000"/>
            <a:ext cx="5127480" cy="841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55760" y="2001960"/>
            <a:ext cx="886428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943c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2" action="ppaction://hlinksldjump"/>
              </a:rPr>
              <a:t>Review</a:t>
            </a: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1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3" action="ppaction://hlinksldjump"/>
              </a:rPr>
              <a:t>Past 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2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4" action="ppaction://hlinksldjump"/>
              </a:rPr>
              <a:t>Present perfect with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5" action="ppaction://hlinksldjump"/>
              </a:rPr>
              <a:t>since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6" action="ppaction://hlinksldjump"/>
              </a:rPr>
              <a:t> and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7" action="ppaction://hlinksldjump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3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8" action="ppaction://hlinksldjump"/>
              </a:rPr>
              <a:t>Negatives, questions, and short answ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4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9" action="ppaction://hlinksldjump"/>
              </a:rPr>
              <a:t>Present perfect with unspecifi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5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0" action="ppaction://hlinksldjump"/>
              </a:rPr>
              <a:t>Simple past vs.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6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1" action="ppaction://hlinksldjump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7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2" action="ppaction://hlinksldjump"/>
              </a:rPr>
              <a:t>Present perfect progressive vs.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8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3" action="ppaction://hlinksldjump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15"/>
          <p:cNvSpPr/>
          <p:nvPr/>
        </p:nvSpPr>
        <p:spPr>
          <a:xfrm>
            <a:off x="1170000" y="4932360"/>
            <a:ext cx="6700680" cy="11606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1360" y="26542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356080" y="1166760"/>
            <a:ext cx="367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ff5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9,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748040" y="1233360"/>
            <a:ext cx="608040" cy="3436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89640 h 3436920"/>
              <a:gd name="textAreaBottom" fmla="*/ 3347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402920" y="4954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175200" y="4943520"/>
            <a:ext cx="437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ur, day, mont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2668680" y="5297400"/>
            <a:ext cx="507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-27000" y="162864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2b8525"/>
                </a:solidFill>
                <a:latin typeface="Arial"/>
              </a:rPr>
              <a:t>ORRECT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stu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lish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-32040" y="2219400"/>
            <a:ext cx="84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2b8525"/>
                </a:solidFill>
                <a:latin typeface="Arial"/>
              </a:rPr>
              <a:t>ORRECT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mput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4440" y="3000240"/>
            <a:ext cx="81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am studying English since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379680" y="2887560"/>
            <a:ext cx="1408320" cy="781200"/>
          </a:xfrm>
          <a:custGeom>
            <a:avLst/>
            <a:gdLst>
              <a:gd name="textAreaLeft" fmla="*/ 206280 w 1408320"/>
              <a:gd name="textAreaRight" fmla="*/ 1202040 w 140832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" y="3632040"/>
            <a:ext cx="70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tudy English since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080" y="4314960"/>
            <a:ext cx="73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tudied English sinc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82800" y="5037120"/>
            <a:ext cx="77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was study English sinc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3184560" y="3537000"/>
            <a:ext cx="1407960" cy="78084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0840"/>
              <a:gd name="textAreaBottom" fmla="*/ 666720 h 780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979720" y="4243320"/>
            <a:ext cx="1407960" cy="78120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2979720" y="4965840"/>
            <a:ext cx="1407960" cy="78084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0840"/>
              <a:gd name="textAreaBottom" fmla="*/ 666720 h 780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-34560" y="2925720"/>
            <a:ext cx="84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iends            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wa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25400" y="1855800"/>
            <a:ext cx="27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sent per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359320" y="1852560"/>
            <a:ext cx="280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mple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-34920" y="3633840"/>
            <a:ext cx="89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s play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sports  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tri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1495440" y="4795920"/>
            <a:ext cx="6670800" cy="1160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716840" y="4795920"/>
            <a:ext cx="60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subject + simpl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79320" y="10764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293920" y="4943520"/>
            <a:ext cx="4552920" cy="1160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-50760" y="26542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844520" y="1166760"/>
            <a:ext cx="433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v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six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mos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4348080" y="1233360"/>
            <a:ext cx="608040" cy="3436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89640 h 3436920"/>
              <a:gd name="textAreaBottom" fmla="*/ 3347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487240" y="51134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095720" y="511344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78240" y="11048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324240" y="5424480"/>
            <a:ext cx="770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768040" y="3051000"/>
            <a:ext cx="61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has been playing the p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3541680" y="1235160"/>
            <a:ext cx="2967120" cy="1222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h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017600" y="35384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775960" y="4303800"/>
            <a:ext cx="61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has been playing the p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541680" y="47912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shutterstock_2267881"/>
          <p:cNvPicPr/>
          <p:nvPr/>
        </p:nvPicPr>
        <p:blipFill>
          <a:blip r:embed="rId1"/>
          <a:stretch/>
        </p:blipFill>
        <p:spPr>
          <a:xfrm>
            <a:off x="210960" y="2303640"/>
            <a:ext cx="2508480" cy="3471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984760" y="334332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jandro has studied 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3282840" y="1235160"/>
            <a:ext cx="3657600" cy="1222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rte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300200" y="383076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rte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992680" y="459576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jandro has studied 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113360" y="50385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shutterstock_3309548"/>
          <p:cNvPicPr/>
          <p:nvPr/>
        </p:nvPicPr>
        <p:blipFill>
          <a:blip r:embed="rId1"/>
          <a:stretch/>
        </p:blipFill>
        <p:spPr>
          <a:xfrm>
            <a:off x="270000" y="2711520"/>
            <a:ext cx="2320920" cy="3513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14200" y="2606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has driven a taxi _____ </a:t>
            </a:r>
            <a:r>
              <a:rPr b="0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486240" y="1247760"/>
            <a:ext cx="1730160" cy="1222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125320" y="26208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16720" y="3325680"/>
            <a:ext cx="81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has driven a taxi ____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5250960" y="3348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shutterstock_244229"/>
          <p:cNvPicPr/>
          <p:nvPr/>
        </p:nvPicPr>
        <p:blipFill>
          <a:blip r:embed="rId1"/>
          <a:stretch/>
        </p:blipFill>
        <p:spPr>
          <a:xfrm>
            <a:off x="3052800" y="4214880"/>
            <a:ext cx="2643120" cy="24955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-272880" y="1685880"/>
            <a:ext cx="990396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s he finished all hi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shutterstock_151774"/>
          <p:cNvPicPr/>
          <p:nvPr/>
        </p:nvPicPr>
        <p:blipFill>
          <a:blip r:embed="rId1"/>
          <a:stretch/>
        </p:blipFill>
        <p:spPr>
          <a:xfrm>
            <a:off x="1917720" y="2590920"/>
            <a:ext cx="5614920" cy="37494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420840" y="2050920"/>
            <a:ext cx="749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not (haven’t) gone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Fatima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not (hasn’t) gone</a:t>
            </a:r>
            <a:r>
              <a:rPr b="1" i="1" lang="en-US" sz="3200" spc="-1" strike="noStrike">
                <a:solidFill>
                  <a:srgbClr val="dc303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31840" y="1281240"/>
            <a:ext cx="33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303120" y="3790800"/>
            <a:ext cx="8434440" cy="26276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435320" y="393048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93840" y="4564080"/>
            <a:ext cx="68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494000" y="5100480"/>
            <a:ext cx="686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1" descr="shutterstock_3501316"/>
          <p:cNvPicPr/>
          <p:nvPr/>
        </p:nvPicPr>
        <p:blipFill>
          <a:blip r:embed="rId1"/>
          <a:stretch/>
        </p:blipFill>
        <p:spPr>
          <a:xfrm>
            <a:off x="2332080" y="3429000"/>
            <a:ext cx="4479840" cy="29908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43" name="AutoShape 8"/>
          <p:cNvSpPr/>
          <p:nvPr/>
        </p:nvSpPr>
        <p:spPr>
          <a:xfrm>
            <a:off x="235080" y="1324080"/>
            <a:ext cx="6207120" cy="885600"/>
          </a:xfrm>
          <a:prstGeom prst="wedgeRoundRectCallout">
            <a:avLst>
              <a:gd name="adj1" fmla="val -4550"/>
              <a:gd name="adj2" fmla="val 201791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92040" y="145080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50360" y="2085840"/>
            <a:ext cx="8256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 _____ her dog.  His name __ Ma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’s grandfather ____ Max to her. 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father _____ him at an animal shel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 _____ very good care her do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__ a great do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777320" y="211284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1751040" y="2160720"/>
            <a:ext cx="113652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754848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nd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45240" y="1131840"/>
            <a:ext cx="57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166640" y="301608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681280" y="40622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759320" y="50277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170000" y="6006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541920" y="2108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6550200" y="2155680"/>
            <a:ext cx="436320" cy="4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4243320" y="3135240"/>
            <a:ext cx="89532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720880" y="4108320"/>
            <a:ext cx="114768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751040" y="5076720"/>
            <a:ext cx="113328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1173240" y="6041880"/>
            <a:ext cx="444600" cy="4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367200" y="27655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Marcy g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754200" y="4768920"/>
            <a:ext cx="7375320" cy="1535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19800" y="4826160"/>
            <a:ext cx="7020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2040" y="193680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51000" y="362592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How long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391680" y="1281240"/>
            <a:ext cx="25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281880" y="2994120"/>
            <a:ext cx="58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No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nev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54200" y="4125960"/>
            <a:ext cx="7375320" cy="1535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464840" y="4183200"/>
            <a:ext cx="58590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Eve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in your entire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06360" y="2165400"/>
            <a:ext cx="80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ve you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ev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Par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92400" y="1281240"/>
            <a:ext cx="38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V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NE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86320" y="4721400"/>
            <a:ext cx="724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Never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or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2214720" y="5176800"/>
            <a:ext cx="507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153360" y="1231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4894200" y="3648240"/>
            <a:ext cx="3810240" cy="1490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068080" y="3852720"/>
            <a:ext cx="3451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n’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C2S24_206226"/>
          <p:cNvPicPr/>
          <p:nvPr/>
        </p:nvPicPr>
        <p:blipFill>
          <a:blip r:embed="rId1"/>
          <a:stretch/>
        </p:blipFill>
        <p:spPr>
          <a:xfrm>
            <a:off x="1406520" y="3444840"/>
            <a:ext cx="2735280" cy="2274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65" name="AutoShape 7"/>
          <p:cNvSpPr/>
          <p:nvPr/>
        </p:nvSpPr>
        <p:spPr>
          <a:xfrm>
            <a:off x="4581360" y="1811160"/>
            <a:ext cx="3724560" cy="1203480"/>
          </a:xfrm>
          <a:prstGeom prst="wedgeRoundRectCallout">
            <a:avLst>
              <a:gd name="adj1" fmla="val -73574"/>
              <a:gd name="adj2" fmla="val 9050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read all of this arti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939960" y="1231920"/>
            <a:ext cx="3500280" cy="1746360"/>
          </a:xfrm>
          <a:prstGeom prst="wedgeRoundRectCallout">
            <a:avLst>
              <a:gd name="adj1" fmla="val -22879"/>
              <a:gd name="adj2" fmla="val 7736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 have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 have only read a few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19800" y="1231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27440" y="3471840"/>
            <a:ext cx="4106880" cy="1454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917600" y="3726000"/>
            <a:ext cx="335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SW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C2S24_206226"/>
          <p:cNvPicPr/>
          <p:nvPr/>
        </p:nvPicPr>
        <p:blipFill>
          <a:blip r:embed="rId1"/>
          <a:stretch/>
        </p:blipFill>
        <p:spPr>
          <a:xfrm>
            <a:off x="1403280" y="3449520"/>
            <a:ext cx="2735280" cy="2274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72" name="AutoShape 7"/>
          <p:cNvSpPr/>
          <p:nvPr/>
        </p:nvSpPr>
        <p:spPr>
          <a:xfrm>
            <a:off x="4537080" y="1590840"/>
            <a:ext cx="4197240" cy="1203120"/>
          </a:xfrm>
          <a:prstGeom prst="wedgeRoundRectCallout">
            <a:avLst>
              <a:gd name="adj1" fmla="val -71106"/>
              <a:gd name="adj2" fmla="val 11464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Yes, sh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he did it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789120" y="1405080"/>
            <a:ext cx="3205080" cy="1746000"/>
          </a:xfrm>
          <a:prstGeom prst="wedgeRoundRectCallout">
            <a:avLst>
              <a:gd name="adj1" fmla="val -11416"/>
              <a:gd name="adj2" fmla="val 7900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Kyung finished he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6"/>
          <p:cNvSpPr/>
          <p:nvPr/>
        </p:nvSpPr>
        <p:spPr>
          <a:xfrm>
            <a:off x="2702880" y="2832120"/>
            <a:ext cx="62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 a sn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746440" y="278748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5340240" y="1227240"/>
            <a:ext cx="17956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shutterstock_3085649"/>
          <p:cNvPicPr/>
          <p:nvPr/>
        </p:nvPicPr>
        <p:blipFill>
          <a:blip r:embed="rId1"/>
          <a:stretch/>
        </p:blipFill>
        <p:spPr>
          <a:xfrm>
            <a:off x="615960" y="3753000"/>
            <a:ext cx="373068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4026600" y="2476440"/>
            <a:ext cx="390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158720" y="246528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never 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5340240" y="1227240"/>
            <a:ext cx="1795680" cy="920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223800" y="24811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245040" y="3135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shutterstock_3085649"/>
          <p:cNvPicPr/>
          <p:nvPr/>
        </p:nvPicPr>
        <p:blipFill>
          <a:blip r:embed="rId1"/>
          <a:stretch/>
        </p:blipFill>
        <p:spPr>
          <a:xfrm>
            <a:off x="615960" y="3753000"/>
            <a:ext cx="373068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402120" y="2293920"/>
            <a:ext cx="56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 a sh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01760" y="23050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Justin ever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6762600" y="1693800"/>
            <a:ext cx="17956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shutterstock_4935781"/>
          <p:cNvPicPr/>
          <p:nvPr/>
        </p:nvPicPr>
        <p:blipFill>
          <a:blip r:embed="rId1"/>
          <a:stretch/>
        </p:blipFill>
        <p:spPr>
          <a:xfrm>
            <a:off x="1924200" y="3211560"/>
            <a:ext cx="4537080" cy="30290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58200" y="1963800"/>
            <a:ext cx="80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e ___.  He saw one near Cape T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861560" y="19638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394560" y="257184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shutterstock_4935781"/>
          <p:cNvPicPr/>
          <p:nvPr/>
        </p:nvPicPr>
        <p:blipFill>
          <a:blip r:embed="rId1"/>
          <a:stretch/>
        </p:blipFill>
        <p:spPr>
          <a:xfrm>
            <a:off x="1919160" y="3214800"/>
            <a:ext cx="4537080" cy="3028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88800" y="1720800"/>
            <a:ext cx="3551400" cy="137376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ler has taken his first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160960" y="1709640"/>
            <a:ext cx="3132000" cy="137376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oe hasn’t walked by herself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DSC_0053"/>
          <p:cNvPicPr/>
          <p:nvPr/>
        </p:nvPicPr>
        <p:blipFill>
          <a:blip r:embed="rId1"/>
          <a:stretch/>
        </p:blipFill>
        <p:spPr>
          <a:xfrm>
            <a:off x="5081760" y="3095640"/>
            <a:ext cx="3224160" cy="23684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pic>
        <p:nvPicPr>
          <p:cNvPr id="305" name="Picture 8" descr="Ty in the Office"/>
          <p:cNvPicPr/>
          <p:nvPr/>
        </p:nvPicPr>
        <p:blipFill>
          <a:blip r:embed="rId2"/>
          <a:stretch/>
        </p:blipFill>
        <p:spPr>
          <a:xfrm>
            <a:off x="1162080" y="2911320"/>
            <a:ext cx="1749240" cy="34308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456840" y="1854360"/>
            <a:ext cx="7471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ic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got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Le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recently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940040" y="3798720"/>
            <a:ext cx="4924440" cy="19926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204640" y="3962520"/>
            <a:ext cx="404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vity occ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ime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-70920" y="1558800"/>
            <a:ext cx="923328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has forgotten his na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1" descr="shutterstock_1586789"/>
          <p:cNvPicPr/>
          <p:nvPr/>
        </p:nvPicPr>
        <p:blipFill>
          <a:blip r:embed="rId1"/>
          <a:stretch/>
        </p:blipFill>
        <p:spPr>
          <a:xfrm>
            <a:off x="3370320" y="2844720"/>
            <a:ext cx="2432160" cy="36417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6"/>
          <p:cNvSpPr/>
          <p:nvPr/>
        </p:nvSpPr>
        <p:spPr>
          <a:xfrm>
            <a:off x="4616280" y="4143240"/>
            <a:ext cx="0" cy="240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303640" y="5425920"/>
            <a:ext cx="427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215600" y="3720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2706840" y="4475160"/>
            <a:ext cx="1909440" cy="207504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 rot="16200000">
            <a:off x="2508120" y="577296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833920" y="5132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709360" y="437976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399200" y="5126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458640" y="1123920"/>
            <a:ext cx="827424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6840" y="1825560"/>
            <a:ext cx="785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ic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got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Janell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recently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225360" y="1801800"/>
            <a:ext cx="842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Her student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 tw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355760" y="4208400"/>
            <a:ext cx="6648480" cy="15606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569680" y="431964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      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454400" y="4890960"/>
            <a:ext cx="64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specified pas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3986280" y="4540320"/>
            <a:ext cx="722160" cy="247680"/>
          </a:xfrm>
          <a:prstGeom prst="rightArrow">
            <a:avLst>
              <a:gd name="adj1" fmla="val 50000"/>
              <a:gd name="adj2" fmla="val 728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4616280" y="4187880"/>
            <a:ext cx="0" cy="256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303640" y="5470560"/>
            <a:ext cx="427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230000" y="37368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706840" y="4519440"/>
            <a:ext cx="1909440" cy="207504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2745000" y="5168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709360" y="4424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440856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05280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336096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225360" y="1801800"/>
            <a:ext cx="842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Her student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 tw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454680" y="1854360"/>
            <a:ext cx="770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Tyl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l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steps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2095560" y="3976560"/>
            <a:ext cx="5033880" cy="1538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2644560" y="418608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ativ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RE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Ty in the Office"/>
          <p:cNvPicPr/>
          <p:nvPr/>
        </p:nvPicPr>
        <p:blipFill>
          <a:blip r:embed="rId1"/>
          <a:stretch/>
        </p:blipFill>
        <p:spPr>
          <a:xfrm>
            <a:off x="3610080" y="3440160"/>
            <a:ext cx="1479600" cy="290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34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454680" y="1854360"/>
            <a:ext cx="6796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Zo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 wal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herself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DSC_0053"/>
          <p:cNvPicPr/>
          <p:nvPr/>
        </p:nvPicPr>
        <p:blipFill>
          <a:blip r:embed="rId1"/>
          <a:stretch/>
        </p:blipFill>
        <p:spPr>
          <a:xfrm>
            <a:off x="3022560" y="3002040"/>
            <a:ext cx="3224160" cy="23684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350" name="AutoShape 4"/>
          <p:cNvSpPr/>
          <p:nvPr/>
        </p:nvSpPr>
        <p:spPr>
          <a:xfrm>
            <a:off x="2095560" y="3676680"/>
            <a:ext cx="5033880" cy="1538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14120" y="3886200"/>
            <a:ext cx="381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y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-153360" y="1854360"/>
            <a:ext cx="82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2125800" y="4570560"/>
            <a:ext cx="4537080" cy="10317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47340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k i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READY and Y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73160" y="338940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073160" y="261792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627480" y="333684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yung __________________the 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2973240" y="1609560"/>
            <a:ext cx="35290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,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2335320" y="331632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s already t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37560" y="3639960"/>
            <a:ext cx="74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______________   _______ 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2654280" y="2003400"/>
            <a:ext cx="16714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4759200" y="1609560"/>
            <a:ext cx="2235240" cy="1382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819000" y="366228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 been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5228280" y="35956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4240" y="348156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sa ___________ to Italy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489480" y="1608120"/>
            <a:ext cx="16714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2145240" y="3473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s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4" descr="shutterstock_2436946"/>
          <p:cNvPicPr/>
          <p:nvPr/>
        </p:nvPicPr>
        <p:blipFill>
          <a:blip r:embed="rId1"/>
          <a:stretch/>
        </p:blipFill>
        <p:spPr>
          <a:xfrm>
            <a:off x="5234040" y="2817720"/>
            <a:ext cx="3452760" cy="3452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3" descr="shutterstock_2450410"/>
          <p:cNvPicPr/>
          <p:nvPr/>
        </p:nvPicPr>
        <p:blipFill>
          <a:blip r:embed="rId2"/>
          <a:stretch/>
        </p:blipFill>
        <p:spPr>
          <a:xfrm>
            <a:off x="3768840" y="2685960"/>
            <a:ext cx="3952800" cy="3610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shutterstock_2513981"/>
          <p:cNvPicPr/>
          <p:nvPr/>
        </p:nvPicPr>
        <p:blipFill>
          <a:blip r:embed="rId3"/>
          <a:stretch/>
        </p:blipFill>
        <p:spPr>
          <a:xfrm>
            <a:off x="5011560" y="2819520"/>
            <a:ext cx="3483000" cy="32734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-430920" y="1619280"/>
            <a:ext cx="505764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an angel f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4154040" y="1622520"/>
            <a:ext cx="530136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had many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since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9" descr="shutterstock_2331036"/>
          <p:cNvPicPr/>
          <p:nvPr/>
        </p:nvPicPr>
        <p:blipFill>
          <a:blip r:embed="rId4"/>
          <a:stretch/>
        </p:blipFill>
        <p:spPr>
          <a:xfrm>
            <a:off x="817560" y="2825640"/>
            <a:ext cx="2409840" cy="3610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pic>
        <p:nvPicPr>
          <p:cNvPr id="381" name="Picture 21" descr="shutterstock_6565795"/>
          <p:cNvPicPr/>
          <p:nvPr/>
        </p:nvPicPr>
        <p:blipFill>
          <a:blip r:embed="rId5"/>
          <a:stretch/>
        </p:blipFill>
        <p:spPr>
          <a:xfrm>
            <a:off x="4019400" y="2987640"/>
            <a:ext cx="4932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9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92240" y="2060640"/>
            <a:ext cx="8783640" cy="1530360"/>
          </a:xfrm>
          <a:prstGeom prst="rect">
            <a:avLst/>
          </a:prstGeom>
          <a:solidFill>
            <a:srgbClr val="2b8525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0160" y="3735360"/>
            <a:ext cx="8783640" cy="1530360"/>
          </a:xfrm>
          <a:prstGeom prst="rect">
            <a:avLst/>
          </a:prstGeom>
          <a:solidFill>
            <a:srgbClr val="0101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96200" y="2309760"/>
            <a:ext cx="189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96560" y="4092480"/>
            <a:ext cx="22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G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17200" y="105264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558680" y="106056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698880" y="103032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671560" y="2060640"/>
            <a:ext cx="112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679120" y="3724200"/>
            <a:ext cx="11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534560" y="2068560"/>
            <a:ext cx="162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543200" y="3732120"/>
            <a:ext cx="11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6723000" y="2057400"/>
            <a:ext cx="17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732360" y="3720960"/>
            <a:ext cx="12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2960" y="5396040"/>
            <a:ext cx="5445000" cy="11649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973160" y="5473800"/>
            <a:ext cx="51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168120" y="1262160"/>
            <a:ext cx="81360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165240" y="3637080"/>
            <a:ext cx="8135640" cy="116820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635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65960" y="185112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The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at 4: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98440" y="36273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64880" y="4097160"/>
            <a:ext cx="82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y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ready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5629320" y="2541600"/>
            <a:ext cx="267156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4770360" y="4960800"/>
            <a:ext cx="3530520" cy="8193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pecifi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68120" y="1262160"/>
            <a:ext cx="85266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65240" y="3614760"/>
            <a:ext cx="8529480" cy="116820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635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64880" y="1851120"/>
            <a:ext cx="83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Nig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I was five years 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98440" y="36050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65960" y="4075200"/>
            <a:ext cx="70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ig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5629320" y="2541600"/>
            <a:ext cx="267156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>
            <a:off x="4770360" y="4938840"/>
            <a:ext cx="353052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pecifi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17"/>
          <p:cNvSpPr/>
          <p:nvPr/>
        </p:nvSpPr>
        <p:spPr>
          <a:xfrm>
            <a:off x="372960" y="5087880"/>
            <a:ext cx="8390160" cy="8733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479520" y="1262160"/>
            <a:ext cx="81360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76280" y="3736800"/>
            <a:ext cx="8136000" cy="116856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749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75200" y="1851120"/>
            <a:ext cx="70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Jack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cam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anc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for 9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609480" y="37274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77360" y="4197240"/>
            <a:ext cx="66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El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ping 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for 9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484920" y="4183200"/>
            <a:ext cx="81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El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ping 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since last 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365040" y="2602080"/>
            <a:ext cx="8390160" cy="873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746280" y="2739960"/>
            <a:ext cx="74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activity began &amp; ended i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1644480" y="2895480"/>
            <a:ext cx="825840" cy="336600"/>
          </a:xfrm>
          <a:prstGeom prst="rightArrow">
            <a:avLst>
              <a:gd name="adj1" fmla="val 50000"/>
              <a:gd name="adj2" fmla="val 613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605880" y="5214960"/>
            <a:ext cx="80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activity began &amp;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6"/>
          <p:cNvSpPr/>
          <p:nvPr/>
        </p:nvSpPr>
        <p:spPr>
          <a:xfrm>
            <a:off x="2819520" y="5391000"/>
            <a:ext cx="825480" cy="336600"/>
          </a:xfrm>
          <a:prstGeom prst="rightArrow">
            <a:avLst>
              <a:gd name="adj1" fmla="val 50000"/>
              <a:gd name="adj2" fmla="val 61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06044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784728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2054880" y="193212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been to Tok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2033640" y="2425680"/>
            <a:ext cx="2384280" cy="615960"/>
          </a:xfrm>
          <a:prstGeom prst="ellipse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628280" y="31780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4130640" y="328140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4796640" y="2975040"/>
            <a:ext cx="185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RESENT</a:t>
            </a:r>
            <a:br>
              <a:rPr sz="2800"/>
            </a:b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tokyo sub"/>
          <p:cNvPicPr/>
          <p:nvPr/>
        </p:nvPicPr>
        <p:blipFill>
          <a:blip r:embed="rId1"/>
          <a:stretch/>
        </p:blipFill>
        <p:spPr>
          <a:xfrm>
            <a:off x="2576520" y="4033800"/>
            <a:ext cx="4002120" cy="26719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12740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802512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622520" y="2004840"/>
            <a:ext cx="624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has never been to Toky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3448080" y="2038320"/>
            <a:ext cx="1220760" cy="573120"/>
          </a:xfrm>
          <a:prstGeom prst="ellipse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630080" y="31798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4130640" y="328140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4793400" y="2970360"/>
            <a:ext cx="185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tokyo sub"/>
          <p:cNvPicPr/>
          <p:nvPr/>
        </p:nvPicPr>
        <p:blipFill>
          <a:blip r:embed="rId1"/>
          <a:stretch/>
        </p:blipFill>
        <p:spPr>
          <a:xfrm>
            <a:off x="2576520" y="4030560"/>
            <a:ext cx="4003560" cy="26733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0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12740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802512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308320" y="201456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went to Tok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2100240" y="2532240"/>
            <a:ext cx="2492280" cy="572760"/>
          </a:xfrm>
          <a:prstGeom prst="ellipse">
            <a:avLst/>
          </a:prstGeom>
          <a:noFill/>
          <a:ln w="28440">
            <a:solidFill>
              <a:srgbClr val="2b8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843920" y="342900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4383000" y="353232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5049000" y="342900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4" descr="tokyo sub"/>
          <p:cNvPicPr/>
          <p:nvPr/>
        </p:nvPicPr>
        <p:blipFill>
          <a:blip r:embed="rId1"/>
          <a:stretch/>
        </p:blipFill>
        <p:spPr>
          <a:xfrm>
            <a:off x="2576520" y="4030560"/>
            <a:ext cx="4003560" cy="26733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183680" y="1266840"/>
            <a:ext cx="6886440" cy="143460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e has been 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en hou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shutterstock_1920675"/>
          <p:cNvPicPr/>
          <p:nvPr/>
        </p:nvPicPr>
        <p:blipFill>
          <a:blip r:embed="rId1"/>
          <a:stretch/>
        </p:blipFill>
        <p:spPr>
          <a:xfrm>
            <a:off x="3351240" y="2914560"/>
            <a:ext cx="2430360" cy="36403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133360" y="1552680"/>
            <a:ext cx="625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De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working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Sh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working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1276200" y="4398840"/>
            <a:ext cx="6755040" cy="14464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508760" y="4600440"/>
            <a:ext cx="545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shutterstock_1920675"/>
          <p:cNvPicPr/>
          <p:nvPr/>
        </p:nvPicPr>
        <p:blipFill>
          <a:blip r:embed="rId1"/>
          <a:stretch/>
        </p:blipFill>
        <p:spPr>
          <a:xfrm>
            <a:off x="285840" y="1459080"/>
            <a:ext cx="1751040" cy="2622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770840" y="2549520"/>
            <a:ext cx="70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How long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wo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2359080" y="3602160"/>
            <a:ext cx="6477120" cy="12538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460240" y="3670200"/>
            <a:ext cx="6288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7" descr="shutterstock_1920675"/>
          <p:cNvPicPr/>
          <p:nvPr/>
        </p:nvPicPr>
        <p:blipFill>
          <a:blip r:embed="rId1"/>
          <a:stretch/>
        </p:blipFill>
        <p:spPr>
          <a:xfrm>
            <a:off x="130320" y="1228680"/>
            <a:ext cx="1655640" cy="2479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22840" y="1401840"/>
            <a:ext cx="73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s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620640" y="2668680"/>
            <a:ext cx="5322960" cy="1571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348560" y="26686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798480" y="3081240"/>
            <a:ext cx="4997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time not men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381240" y="5253120"/>
            <a:ext cx="81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4"/>
          <p:cNvSpPr/>
          <p:nvPr/>
        </p:nvSpPr>
        <p:spPr>
          <a:xfrm>
            <a:off x="2003400" y="4795920"/>
            <a:ext cx="2014560" cy="1652400"/>
          </a:xfrm>
          <a:custGeom>
            <a:avLst/>
            <a:gdLst>
              <a:gd name="textAreaLeft" fmla="*/ 294840 w 2014560"/>
              <a:gd name="textAreaRight" fmla="*/ 1719720 w 2014560"/>
              <a:gd name="textAreaTop" fmla="*/ 241920 h 1652400"/>
              <a:gd name="textAreaBottom" fmla="*/ 141048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7" descr="shutterstock_2267881"/>
          <p:cNvPicPr/>
          <p:nvPr/>
        </p:nvPicPr>
        <p:blipFill>
          <a:blip r:embed="rId1"/>
          <a:stretch/>
        </p:blipFill>
        <p:spPr>
          <a:xfrm>
            <a:off x="6954840" y="2192400"/>
            <a:ext cx="1901880" cy="263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39240" y="13636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36400" y="137160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832000" y="134136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93600" y="2527200"/>
            <a:ext cx="103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12280" y="2535120"/>
            <a:ext cx="162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827680" y="3008160"/>
            <a:ext cx="176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827320" y="2448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802480" y="3471840"/>
            <a:ext cx="178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847120" y="2913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810400" y="3924360"/>
            <a:ext cx="177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855400" y="34545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807160" y="4432320"/>
            <a:ext cx="178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807160" y="39625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221400" y="107964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384120" y="2523960"/>
            <a:ext cx="6104160" cy="19735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772200" y="252396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721520" y="2867040"/>
            <a:ext cx="3487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in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81960" y="5230800"/>
            <a:ext cx="70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s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1538280" y="4873680"/>
            <a:ext cx="1700280" cy="1431720"/>
          </a:xfrm>
          <a:custGeom>
            <a:avLst/>
            <a:gdLst>
              <a:gd name="textAreaLeft" fmla="*/ 248760 w 1700280"/>
              <a:gd name="textAreaRight" fmla="*/ 1451520 w 1700280"/>
              <a:gd name="textAreaTop" fmla="*/ 209520 h 1431720"/>
              <a:gd name="textAreaBottom" fmla="*/ 122220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229320" y="1565280"/>
            <a:ext cx="71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for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5" descr="shutterstock_2267881"/>
          <p:cNvPicPr/>
          <p:nvPr/>
        </p:nvPicPr>
        <p:blipFill>
          <a:blip r:embed="rId1"/>
          <a:stretch/>
        </p:blipFill>
        <p:spPr>
          <a:xfrm>
            <a:off x="6954840" y="2192400"/>
            <a:ext cx="1901880" cy="263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6040" y="118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ORREC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lo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05120" y="180036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belo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95040" y="2544840"/>
            <a:ext cx="58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)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ORREC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has ow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e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115200" y="3541680"/>
            <a:ext cx="63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been ow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or one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62080" y="5329080"/>
            <a:ext cx="6794280" cy="7304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60280" y="53784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ction verbs          progressive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073320" y="5562720"/>
            <a:ext cx="793800" cy="279360"/>
          </a:xfrm>
          <a:prstGeom prst="rightArrow">
            <a:avLst>
              <a:gd name="adj1" fmla="val 50000"/>
              <a:gd name="adj2" fmla="val 71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552760" y="4951440"/>
            <a:ext cx="1700280" cy="1431720"/>
          </a:xfrm>
          <a:custGeom>
            <a:avLst/>
            <a:gdLst>
              <a:gd name="textAreaLeft" fmla="*/ 248760 w 1700280"/>
              <a:gd name="textAreaRight" fmla="*/ 1451520 w 1700280"/>
              <a:gd name="textAreaTop" fmla="*/ 209520 h 1431720"/>
              <a:gd name="textAreaBottom" fmla="*/ 122220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909960" y="3452760"/>
            <a:ext cx="852480" cy="671400"/>
          </a:xfrm>
          <a:custGeom>
            <a:avLst/>
            <a:gdLst>
              <a:gd name="textAreaLeft" fmla="*/ 124560 w 852480"/>
              <a:gd name="textAreaRight" fmla="*/ 727920 w 852480"/>
              <a:gd name="textAreaTop" fmla="*/ 98280 h 671400"/>
              <a:gd name="textAreaBottom" fmla="*/ 5731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49600" y="1789200"/>
            <a:ext cx="852480" cy="671400"/>
          </a:xfrm>
          <a:custGeom>
            <a:avLst/>
            <a:gdLst>
              <a:gd name="textAreaLeft" fmla="*/ 124560 w 852480"/>
              <a:gd name="textAreaRight" fmla="*/ 727920 w 852480"/>
              <a:gd name="textAreaTop" fmla="*/ 98280 h 671400"/>
              <a:gd name="textAreaBottom" fmla="*/ 5731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7" descr="shutterstock_2554788"/>
          <p:cNvPicPr/>
          <p:nvPr/>
        </p:nvPicPr>
        <p:blipFill>
          <a:blip r:embed="rId1"/>
          <a:stretch/>
        </p:blipFill>
        <p:spPr>
          <a:xfrm>
            <a:off x="6796080" y="1500120"/>
            <a:ext cx="2068560" cy="26877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687760" y="3094200"/>
            <a:ext cx="597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_________ th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7313760" y="1285920"/>
            <a:ext cx="9921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4745880" y="30495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597480" y="4456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8756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6" descr="shutterstock_1005098"/>
          <p:cNvPicPr/>
          <p:nvPr/>
        </p:nvPicPr>
        <p:blipFill>
          <a:blip r:embed="rId1"/>
          <a:stretch/>
        </p:blipFill>
        <p:spPr>
          <a:xfrm>
            <a:off x="264960" y="3094200"/>
            <a:ext cx="2171880" cy="3016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496" name="Text Box 18"/>
          <p:cNvSpPr/>
          <p:nvPr/>
        </p:nvSpPr>
        <p:spPr>
          <a:xfrm>
            <a:off x="2744640" y="4513320"/>
            <a:ext cx="58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_____________ it fo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s.  I need to make a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2104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851560" y="3094200"/>
            <a:ext cx="53744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parent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for over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7313760" y="1285920"/>
            <a:ext cx="1245960" cy="8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5101200" y="304956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941640" y="402912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4" descr="shutterstock_2753834"/>
          <p:cNvPicPr/>
          <p:nvPr/>
        </p:nvPicPr>
        <p:blipFill>
          <a:blip r:embed="rId1"/>
          <a:stretch/>
        </p:blipFill>
        <p:spPr>
          <a:xfrm>
            <a:off x="244440" y="3049560"/>
            <a:ext cx="2465280" cy="32623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26532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20960" y="2849400"/>
            <a:ext cx="6135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you  _______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mer hol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______ to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______________ to the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7313760" y="1285920"/>
            <a:ext cx="1245960" cy="8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007320" y="280512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900600" y="425304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3237480" y="522936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4" descr="shutterstock_1344892"/>
          <p:cNvPicPr/>
          <p:nvPr/>
        </p:nvPicPr>
        <p:blipFill>
          <a:blip r:embed="rId1"/>
          <a:stretch/>
        </p:blipFill>
        <p:spPr>
          <a:xfrm>
            <a:off x="311040" y="3021120"/>
            <a:ext cx="2202120" cy="3298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512" name="Text Box 17"/>
          <p:cNvSpPr/>
          <p:nvPr/>
        </p:nvSpPr>
        <p:spPr>
          <a:xfrm>
            <a:off x="2818080" y="58230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ummer since I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-284400" y="1436760"/>
            <a:ext cx="969048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ke, Bob, and Lee are hi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been hiking for several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shutterstock_2482094"/>
          <p:cNvPicPr/>
          <p:nvPr/>
        </p:nvPicPr>
        <p:blipFill>
          <a:blip r:embed="rId1"/>
          <a:stretch/>
        </p:blipFill>
        <p:spPr>
          <a:xfrm>
            <a:off x="2344680" y="2787480"/>
            <a:ext cx="4446720" cy="37436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225360" y="4264200"/>
            <a:ext cx="8585280" cy="116172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228600" y="1314360"/>
            <a:ext cx="8585280" cy="16020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36880" y="1314360"/>
            <a:ext cx="62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21840" y="1849320"/>
            <a:ext cx="81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y cousin is hiking with his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been hi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everal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122560" y="5640480"/>
            <a:ext cx="4992480" cy="946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307600" y="5618160"/>
            <a:ext cx="467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pecified times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242640" y="431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331560" y="48466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My cousin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hiked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122560" y="3129120"/>
            <a:ext cx="4992480" cy="946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2306520" y="3129120"/>
            <a:ext cx="47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present activi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3960" y="277344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usi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s been hi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-12960" y="196992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My cousin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hik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8"/>
          <p:cNvSpPr/>
          <p:nvPr/>
        </p:nvSpPr>
        <p:spPr>
          <a:xfrm>
            <a:off x="5508720" y="2651040"/>
            <a:ext cx="1033200" cy="762120"/>
          </a:xfrm>
          <a:custGeom>
            <a:avLst/>
            <a:gdLst>
              <a:gd name="textAreaLeft" fmla="*/ 151200 w 1033200"/>
              <a:gd name="textAreaRight" fmla="*/ 882000 w 10332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5640" y="2965320"/>
            <a:ext cx="83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uy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ve bee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ther for ten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4680" y="1484280"/>
            <a:ext cx="76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The guy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known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ther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2122560" y="4425840"/>
            <a:ext cx="4992480" cy="9464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306520" y="4425840"/>
            <a:ext cx="47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present activi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ction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5433840" y="2863800"/>
            <a:ext cx="1881360" cy="762120"/>
          </a:xfrm>
          <a:custGeom>
            <a:avLst/>
            <a:gdLst>
              <a:gd name="textAreaLeft" fmla="*/ 275400 w 1881360"/>
              <a:gd name="textAreaRight" fmla="*/ 1605960 w 188136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198360" y="1654200"/>
            <a:ext cx="88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been stu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cine fo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cine fo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3044880" y="4618080"/>
            <a:ext cx="2873160" cy="730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3085200" y="4691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-667800" y="1646280"/>
            <a:ext cx="1033020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been here since 6: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hutterstock_1920675"/>
          <p:cNvPicPr/>
          <p:nvPr/>
        </p:nvPicPr>
        <p:blipFill>
          <a:blip r:embed="rId1"/>
          <a:stretch/>
        </p:blipFill>
        <p:spPr>
          <a:xfrm>
            <a:off x="3386160" y="2793960"/>
            <a:ext cx="2390760" cy="3579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99080" y="112068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Rolf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ru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day since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f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day since he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2252520" y="4800600"/>
            <a:ext cx="4822920" cy="13939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462400" y="4957920"/>
            <a:ext cx="446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, habitu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ense ok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2639880" y="5673600"/>
            <a:ext cx="739800" cy="262080"/>
          </a:xfrm>
          <a:prstGeom prst="rightArrow">
            <a:avLst>
              <a:gd name="adj1" fmla="val 50000"/>
              <a:gd name="adj2" fmla="val 705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03040" y="1231920"/>
            <a:ext cx="8940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stu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nish ever sinc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d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nish ever since I 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247840" y="4799160"/>
            <a:ext cx="4826160" cy="13888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2468880" y="4952880"/>
            <a:ext cx="446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, habitu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ense ok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639880" y="5675400"/>
            <a:ext cx="739800" cy="261720"/>
          </a:xfrm>
          <a:prstGeom prst="rightArrow">
            <a:avLst>
              <a:gd name="adj1" fmla="val 50000"/>
              <a:gd name="adj2" fmla="val 70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nodeType="clickEffect" fill="hold">
                      <p:stCondLst>
                        <p:cond delay="0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396080" y="1228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95400" y="1949400"/>
            <a:ext cx="784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___ your family ______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 __________ here for te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7937640" y="1216080"/>
            <a:ext cx="990360" cy="78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5011560" y="1957320"/>
            <a:ext cx="12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154880" y="29401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914400" y="1262160"/>
            <a:ext cx="4119480" cy="396720"/>
          </a:xfrm>
          <a:prstGeom prst="rect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1898640" y="1962000"/>
            <a:ext cx="11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6" descr="shutterstock_3309548"/>
          <p:cNvPicPr/>
          <p:nvPr/>
        </p:nvPicPr>
        <p:blipFill>
          <a:blip r:embed="rId1"/>
          <a:stretch/>
        </p:blipFill>
        <p:spPr>
          <a:xfrm>
            <a:off x="3362400" y="3722760"/>
            <a:ext cx="19209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250200" y="122868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PROGRESS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5400" y="1949400"/>
            <a:ext cx="866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___ your family _________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 _____________ here for te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7937640" y="1216080"/>
            <a:ext cx="990360" cy="78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795920" y="1903320"/>
            <a:ext cx="24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bee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943920" y="288432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have bee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246240" y="1157400"/>
            <a:ext cx="5600520" cy="608040"/>
          </a:xfrm>
          <a:prstGeom prst="rect">
            <a:avLst/>
          </a:prstGeom>
          <a:noFill/>
          <a:ln w="28440">
            <a:solidFill>
              <a:srgbClr val="2b8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1898640" y="1962000"/>
            <a:ext cx="11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shutterstock_3309548"/>
          <p:cNvPicPr/>
          <p:nvPr/>
        </p:nvPicPr>
        <p:blipFill>
          <a:blip r:embed="rId1"/>
          <a:stretch/>
        </p:blipFill>
        <p:spPr>
          <a:xfrm>
            <a:off x="3363840" y="3719520"/>
            <a:ext cx="19209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-720720" y="2144880"/>
            <a:ext cx="7221600" cy="210492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they arri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the store, it h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ready clo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shutterstock_361790"/>
          <p:cNvPicPr/>
          <p:nvPr/>
        </p:nvPicPr>
        <p:blipFill>
          <a:blip r:embed="rId1"/>
          <a:stretch/>
        </p:blipFill>
        <p:spPr>
          <a:xfrm>
            <a:off x="5829480" y="1706400"/>
            <a:ext cx="3227040" cy="41832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03120" y="1582560"/>
            <a:ext cx="83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When they arrived at the store, it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574640" y="3075120"/>
            <a:ext cx="5916600" cy="21034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2517120" y="30798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ven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2313000" y="3692520"/>
            <a:ext cx="576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  - 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 – Simpl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68160" y="1654200"/>
            <a:ext cx="80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 stor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1697040" y="3246480"/>
            <a:ext cx="5707080" cy="5792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860840" y="3246480"/>
            <a:ext cx="54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668160" y="1241280"/>
            <a:ext cx="800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It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880920" y="4564080"/>
            <a:ext cx="7425000" cy="14288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 flipH="1">
            <a:off x="1160640" y="4646520"/>
            <a:ext cx="673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/ you / she / he / it / we / they 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9"/>
          <p:cNvSpPr/>
          <p:nvPr/>
        </p:nvSpPr>
        <p:spPr>
          <a:xfrm>
            <a:off x="1407960" y="4122720"/>
            <a:ext cx="6897960" cy="2273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3805200" y="1859040"/>
            <a:ext cx="1357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9"/>
          <p:cNvSpPr/>
          <p:nvPr/>
        </p:nvSpPr>
        <p:spPr>
          <a:xfrm>
            <a:off x="135000" y="19591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 Andrea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fi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n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ris go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0"/>
          <p:cNvSpPr/>
          <p:nvPr/>
        </p:nvSpPr>
        <p:spPr>
          <a:xfrm>
            <a:off x="158760" y="135396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d fi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n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ris go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1"/>
          <p:cNvSpPr/>
          <p:nvPr/>
        </p:nvSpPr>
        <p:spPr>
          <a:xfrm>
            <a:off x="139680" y="2806560"/>
            <a:ext cx="89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  Kris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d got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rea finished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2"/>
          <p:cNvSpPr/>
          <p:nvPr/>
        </p:nvSpPr>
        <p:spPr>
          <a:xfrm>
            <a:off x="149400" y="339264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Kris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rea finished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1843200" y="4383000"/>
            <a:ext cx="146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3019320" y="4703760"/>
            <a:ext cx="4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3467160" y="4557600"/>
            <a:ext cx="246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im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6324480" y="4383000"/>
            <a:ext cx="21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tense not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8"/>
          <p:cNvSpPr/>
          <p:nvPr/>
        </p:nvSpPr>
        <p:spPr>
          <a:xfrm>
            <a:off x="5457960" y="5079960"/>
            <a:ext cx="866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6359400" y="2230560"/>
            <a:ext cx="176220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258840" y="1163520"/>
            <a:ext cx="86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already gone to bed when it started sn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377640" y="2228760"/>
            <a:ext cx="503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it started snowing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I went to bed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392000" y="32209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4403520" y="22604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3" descr="shutterstock_2499536"/>
          <p:cNvPicPr/>
          <p:nvPr/>
        </p:nvPicPr>
        <p:blipFill>
          <a:blip r:embed="rId1"/>
          <a:stretch/>
        </p:blipFill>
        <p:spPr>
          <a:xfrm>
            <a:off x="3048120" y="3936960"/>
            <a:ext cx="3895560" cy="2602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23920" y="1320840"/>
            <a:ext cx="8648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6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play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oli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x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9"/>
          <p:cNvSpPr/>
          <p:nvPr/>
        </p:nvSpPr>
        <p:spPr>
          <a:xfrm>
            <a:off x="1407960" y="4030560"/>
            <a:ext cx="6667560" cy="23259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0"/>
          <p:cNvSpPr/>
          <p:nvPr/>
        </p:nvSpPr>
        <p:spPr>
          <a:xfrm>
            <a:off x="1950840" y="4249800"/>
            <a:ext cx="33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erfect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2"/>
          <p:cNvSpPr/>
          <p:nvPr/>
        </p:nvSpPr>
        <p:spPr>
          <a:xfrm>
            <a:off x="5297400" y="4205160"/>
            <a:ext cx="363600" cy="657360"/>
          </a:xfrm>
          <a:custGeom>
            <a:avLst/>
            <a:gdLst>
              <a:gd name="textAreaLeft" fmla="*/ 0 w 363600"/>
              <a:gd name="textAreaRight" fmla="*/ 131400 w 36360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3"/>
          <p:cNvSpPr/>
          <p:nvPr/>
        </p:nvSpPr>
        <p:spPr>
          <a:xfrm>
            <a:off x="5814360" y="4030560"/>
            <a:ext cx="121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5"/>
          <p:cNvSpPr/>
          <p:nvPr/>
        </p:nvSpPr>
        <p:spPr>
          <a:xfrm>
            <a:off x="1991520" y="54658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6"/>
          <p:cNvSpPr/>
          <p:nvPr/>
        </p:nvSpPr>
        <p:spPr>
          <a:xfrm>
            <a:off x="4416840" y="546588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7"/>
          <p:cNvSpPr/>
          <p:nvPr/>
        </p:nvSpPr>
        <p:spPr>
          <a:xfrm>
            <a:off x="2079720" y="5432400"/>
            <a:ext cx="316872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8"/>
          <p:cNvSpPr/>
          <p:nvPr/>
        </p:nvSpPr>
        <p:spPr>
          <a:xfrm>
            <a:off x="5248440" y="5432400"/>
            <a:ext cx="1641240" cy="11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/>
          <p:cNvSpPr/>
          <p:nvPr/>
        </p:nvSpPr>
        <p:spPr>
          <a:xfrm>
            <a:off x="990720" y="2435400"/>
            <a:ext cx="176184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433440" y="1482840"/>
            <a:ext cx="80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tried to go shopping, but the store had 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33440" y="3990960"/>
            <a:ext cx="54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ore closed     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ried to go shopping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4924080" y="3992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4875120" y="49658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0" descr="shutterstock_361790"/>
          <p:cNvPicPr/>
          <p:nvPr/>
        </p:nvPicPr>
        <p:blipFill>
          <a:blip r:embed="rId1"/>
          <a:stretch/>
        </p:blipFill>
        <p:spPr>
          <a:xfrm>
            <a:off x="6004080" y="3254400"/>
            <a:ext cx="2460600" cy="3189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2232000" y="2359080"/>
            <a:ext cx="176220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36440" y="1181160"/>
            <a:ext cx="883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iend called to suggest a good movie.  She had seen it last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12680" y="3732120"/>
            <a:ext cx="620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 friend saw the movi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he friend called      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5349240" y="37465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5344920" y="47196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1" descr="shutterstock_2655555"/>
          <p:cNvPicPr/>
          <p:nvPr/>
        </p:nvPicPr>
        <p:blipFill>
          <a:blip r:embed="rId1"/>
          <a:stretch/>
        </p:blipFill>
        <p:spPr>
          <a:xfrm>
            <a:off x="6359400" y="3672000"/>
            <a:ext cx="2259000" cy="29239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63680" y="1585800"/>
            <a:ext cx="544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used under license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erstock, In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0"/>
          <p:cNvSpPr/>
          <p:nvPr/>
        </p:nvSpPr>
        <p:spPr>
          <a:xfrm>
            <a:off x="2193840" y="2351160"/>
            <a:ext cx="5205600" cy="21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2354400" y="2173320"/>
            <a:ext cx="4171680" cy="4116240"/>
          </a:xfrm>
          <a:prstGeom prst="ellipse">
            <a:avLst/>
          </a:prstGeom>
          <a:solidFill>
            <a:srgbClr val="2b8525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4483080" y="3603600"/>
            <a:ext cx="2573280" cy="31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193840" y="2081160"/>
            <a:ext cx="5205600" cy="21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01760" y="419400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4471920" y="2617920"/>
            <a:ext cx="0" cy="384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805200" y="2646360"/>
            <a:ext cx="1357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4278240" y="3817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2163600" y="3817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4278240" y="59040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 rot="16200000">
            <a:off x="1863000" y="3303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 rot="16200000">
            <a:off x="3990240" y="2665440"/>
            <a:ext cx="83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41"/>
          <p:cNvSpPr/>
          <p:nvPr/>
        </p:nvSpPr>
        <p:spPr>
          <a:xfrm flipV="1">
            <a:off x="4471920" y="4193280"/>
            <a:ext cx="2054160" cy="2095560"/>
          </a:xfrm>
          <a:custGeom>
            <a:avLst/>
            <a:gdLst>
              <a:gd name="textAreaLeft" fmla="*/ 0 w 2054160"/>
              <a:gd name="textAreaRight" fmla="*/ 2054520 w 2054160"/>
              <a:gd name="textAreaTop" fmla="*/ -360 h 2095560"/>
              <a:gd name="textAreaBottom" fmla="*/ 2095560 h 2095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63160" y="1368360"/>
            <a:ext cx="65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6:00 a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1840" y="1365120"/>
            <a:ext cx="42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, He, 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49440" y="4230720"/>
            <a:ext cx="7834320" cy="11653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829440" y="4505400"/>
            <a:ext cx="74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632480" y="2324160"/>
            <a:ext cx="4568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917880" y="1365120"/>
            <a:ext cx="657360" cy="2529000"/>
          </a:xfrm>
          <a:custGeom>
            <a:avLst/>
            <a:gdLst>
              <a:gd name="textAreaLeft" fmla="*/ 0 w 657360"/>
              <a:gd name="textAreaRight" fmla="*/ 237240 w 657360"/>
              <a:gd name="textAreaTop" fmla="*/ 65880 h 2529000"/>
              <a:gd name="textAreaBottom" fmla="*/ 2463120 h 25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16200" y="10807"/>
                  <a:pt x="21600" y="10807"/>
                </a:cubicBezTo>
                <a:cubicBezTo>
                  <a:pt x="162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6:24:56Z</dcterms:created>
  <dc:creator>ulaneth</dc:creator>
  <dc:description/>
  <dc:language>en-US</dc:language>
  <cp:lastModifiedBy>Morgan Bondelid</cp:lastModifiedBy>
  <dcterms:modified xsi:type="dcterms:W3CDTF">2011-09-14T23:44:37Z</dcterms:modified>
  <cp:revision>172</cp:revision>
  <dc:subject/>
  <dc:title>Chapter 4 - FEG</dc:title>
</cp:coreProperties>
</file>