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6CADC-D1F5-4B60-ACA3-D4CADEA6A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15301-B4FB-4D41-80DC-4F2BD7FE0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DF95D-3904-4F3E-91F4-1F374F60E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3CA53-05A8-486F-B159-3900B3184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054D0-9655-4F7F-9151-FA7298FEA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58F90-D5E5-40BA-991D-9E0EE049A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AD363-2F10-43AF-817A-9D4BCBB75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CC192-A144-445A-BC20-05DBE8866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964AD-71C1-4AB8-9FEE-19967F603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84E8F-2FB0-4356-80DE-39D376B32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8B3B8-9BB2-4079-A632-8096E9475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5B393-F5CD-4609-88F6-D1ABF9B25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A33A-64CD-4B1B-981E-7EEADEFE6CC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fr.wikipedia.org/wiki/Fichier:Gabion.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57200" y="1600200"/>
            <a:ext cx="82296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00"/>
                </a:solidFill>
                <a:latin typeface="Arial"/>
              </a:rPr>
              <a:t> </a:t>
            </a:r>
            <a:r>
              <a:rPr b="0" lang="fr-FR" sz="5400" spc="-1" strike="noStrike">
                <a:solidFill>
                  <a:srgbClr val="000000"/>
                </a:solidFill>
                <a:latin typeface="Arial"/>
              </a:rPr>
              <a:t>Mur de soutènemen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4"/>
          <p:cNvGrpSpPr/>
          <p:nvPr/>
        </p:nvGrpSpPr>
        <p:grpSpPr>
          <a:xfrm>
            <a:off x="539640" y="1197000"/>
            <a:ext cx="8136000" cy="4032000"/>
            <a:chOff x="539640" y="1197000"/>
            <a:chExt cx="8136000" cy="4032000"/>
          </a:xfrm>
        </p:grpSpPr>
        <p:pic>
          <p:nvPicPr>
            <p:cNvPr id="63" name="Picture 5" descr=""/>
            <p:cNvPicPr/>
            <p:nvPr/>
          </p:nvPicPr>
          <p:blipFill>
            <a:blip r:embed="rId1"/>
            <a:stretch/>
          </p:blipFill>
          <p:spPr>
            <a:xfrm>
              <a:off x="539640" y="1481040"/>
              <a:ext cx="8136000" cy="3747960"/>
            </a:xfrm>
            <a:prstGeom prst="rect">
              <a:avLst/>
            </a:prstGeom>
            <a:ln w="0">
              <a:noFill/>
            </a:ln>
          </p:spPr>
        </p:pic>
        <p:sp>
          <p:nvSpPr>
            <p:cNvPr id="64" name="Text Box 6"/>
            <p:cNvSpPr/>
            <p:nvPr/>
          </p:nvSpPr>
          <p:spPr>
            <a:xfrm>
              <a:off x="1530720" y="1197000"/>
              <a:ext cx="1982160" cy="425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n. 2O a 30 cm</a:t>
              </a:r>
              <a:endParaRPr b="0" lang="en-US" sz="1200" spc="-1" strike="noStrike">
                <a:solidFill>
                  <a:srgbClr val="000000"/>
                </a:solidFill>
                <a:latin typeface="Arial"/>
              </a:endParaRPr>
            </a:p>
          </p:txBody>
        </p:sp>
      </p:grpSp>
      <p:sp>
        <p:nvSpPr>
          <p:cNvPr id="65" name="Rectangle 7"/>
          <p:cNvSpPr/>
          <p:nvPr/>
        </p:nvSpPr>
        <p:spPr>
          <a:xfrm>
            <a:off x="4788000" y="5341320"/>
            <a:ext cx="4356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mensions  courantes  d'un   mur lesté en béton armé.</a:t>
            </a:r>
            <a:endParaRPr b="0" lang="en-US" sz="1800" spc="-1" strike="noStrike">
              <a:solidFill>
                <a:srgbClr val="000000"/>
              </a:solidFill>
              <a:latin typeface="Arial"/>
            </a:endParaRPr>
          </a:p>
        </p:txBody>
      </p:sp>
      <p:sp>
        <p:nvSpPr>
          <p:cNvPr id="66" name="Rectangle 8"/>
          <p:cNvSpPr/>
          <p:nvPr/>
        </p:nvSpPr>
        <p:spPr>
          <a:xfrm>
            <a:off x="255240" y="5444280"/>
            <a:ext cx="4117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mensions courantes d'un mur  poi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tretch/>
        </p:blipFill>
        <p:spPr>
          <a:xfrm>
            <a:off x="539640" y="574560"/>
            <a:ext cx="8064720" cy="4124520"/>
          </a:xfrm>
          <a:prstGeom prst="rect">
            <a:avLst/>
          </a:prstGeom>
          <a:ln w="0">
            <a:noFill/>
          </a:ln>
        </p:spPr>
      </p:pic>
      <p:sp>
        <p:nvSpPr>
          <p:cNvPr id="68" name="Rectangle 5"/>
          <p:cNvSpPr/>
          <p:nvPr/>
        </p:nvSpPr>
        <p:spPr>
          <a:xfrm>
            <a:off x="3205440" y="5299920"/>
            <a:ext cx="2593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ur   de   soutèn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img102"/>
          <p:cNvPicPr/>
          <p:nvPr/>
        </p:nvPicPr>
        <p:blipFill>
          <a:blip r:embed="rId1"/>
          <a:stretch/>
        </p:blipFill>
        <p:spPr>
          <a:xfrm>
            <a:off x="611280" y="1052640"/>
            <a:ext cx="8064360" cy="3638520"/>
          </a:xfrm>
          <a:prstGeom prst="rect">
            <a:avLst/>
          </a:prstGeom>
          <a:ln w="0">
            <a:noFill/>
          </a:ln>
        </p:spPr>
      </p:pic>
      <p:sp>
        <p:nvSpPr>
          <p:cNvPr id="70" name="Text Box 5"/>
          <p:cNvSpPr/>
          <p:nvPr/>
        </p:nvSpPr>
        <p:spPr>
          <a:xfrm>
            <a:off x="3564000" y="5013360"/>
            <a:ext cx="205740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ur et remblai</a:t>
            </a:r>
            <a:r>
              <a:rPr b="0" lang="fr-FR"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u="sng">
                <a:solidFill>
                  <a:srgbClr val="000000"/>
                </a:solidFill>
                <a:uFillTx/>
                <a:latin typeface="Arial"/>
              </a:rPr>
              <a:t>Présentation</a:t>
            </a:r>
            <a:r>
              <a:rPr b="0" lang="fr-FR" sz="4400" spc="-1" strike="noStrike">
                <a:solidFill>
                  <a:srgbClr val="000000"/>
                </a:solidFill>
                <a:latin typeface="Arial"/>
              </a:rPr>
              <a:t>:</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AROUR NAB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IDJET LAHC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HAMDI RI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ALMI MUSTAPH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AZOUZ NOURDIN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AHEOUG NASSI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468360" y="1558440"/>
            <a:ext cx="820728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La stabilité d'un glissement de terrain en peut être envisagée sans une étude, préalable, minutieuse</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Quelle que soit : la surface de glissement, il est de plus grande importance, de connaître ses dimensions et d'avoir une idée sur son origine : surcharge, écoulement d'eau, altération des sols ou simplement ruissellement exceptionnel. Le choix de ma méthode. De confortation en dépend.</a:t>
            </a:r>
            <a:endParaRPr b="0" lang="en-US" sz="2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On peut agir sur un glissement de terrain par action mécanique, ou par surpression de l'influence de l'eau.</a:t>
            </a:r>
            <a:endParaRPr b="0" lang="en-US" sz="2800" spc="-1" strike="noStrike">
              <a:solidFill>
                <a:srgbClr val="000000"/>
              </a:solidFill>
              <a:latin typeface="Arial"/>
            </a:endParaRPr>
          </a:p>
        </p:txBody>
      </p:sp>
      <p:sp>
        <p:nvSpPr>
          <p:cNvPr id="45" name="Text Box 5"/>
          <p:cNvSpPr/>
          <p:nvPr/>
        </p:nvSpPr>
        <p:spPr>
          <a:xfrm>
            <a:off x="2124000" y="33336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omic"/>
              </a:rPr>
              <a:t>INTRODUC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468360" y="1125360"/>
            <a:ext cx="802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 mur de soutènement est destiné comme son nom l’indique à soutenir de la terre ou plus précisément retenir de la ter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C’est certainement l’ouvrage en béton armé que l’on voit le plus souvent "bouger " ce qui veut dire que la poussée est plus forte que ce que le mur peut en supporter.</a:t>
            </a:r>
            <a:endParaRPr b="0" lang="en-US" sz="1800" spc="-1" strike="noStrike">
              <a:solidFill>
                <a:srgbClr val="000000"/>
              </a:solidFill>
              <a:latin typeface="Arial"/>
            </a:endParaRPr>
          </a:p>
        </p:txBody>
      </p:sp>
      <p:sp>
        <p:nvSpPr>
          <p:cNvPr id="47" name="Text Box 5"/>
          <p:cNvSpPr/>
          <p:nvPr/>
        </p:nvSpPr>
        <p:spPr>
          <a:xfrm>
            <a:off x="1547640" y="333360"/>
            <a:ext cx="576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a:rPr>
              <a:t>Définition  mur de soutènement</a:t>
            </a:r>
            <a:r>
              <a:rPr b="1" lang="fr-FR" sz="1800" spc="-1" strike="noStrike">
                <a:solidFill>
                  <a:srgbClr val="000000"/>
                </a:solidFill>
                <a:latin typeface="Arial"/>
              </a:rPr>
              <a:t> :</a:t>
            </a:r>
            <a:endParaRPr b="0" lang="en-US" sz="1800" spc="-1" strike="noStrike">
              <a:solidFill>
                <a:srgbClr val="000000"/>
              </a:solidFill>
              <a:latin typeface="Arial"/>
            </a:endParaRPr>
          </a:p>
        </p:txBody>
      </p:sp>
      <p:pic>
        <p:nvPicPr>
          <p:cNvPr id="48" name="Picture 6" descr="C:\Users\NASSIM\Desktop\Les murs de soutènements_fichiers\coupe%20mur%20de%20soutenement%20jpeg.jpg"/>
          <p:cNvPicPr/>
          <p:nvPr/>
        </p:nvPicPr>
        <p:blipFill>
          <a:blip r:embed="rId1"/>
          <a:stretch/>
        </p:blipFill>
        <p:spPr>
          <a:xfrm>
            <a:off x="2268360" y="2708280"/>
            <a:ext cx="4610160" cy="3905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68360" y="620640"/>
            <a:ext cx="80643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Le principe est le suiva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terre et la surcharge qu'elle supporte exercent une poussée oblique (incliné) sur le mu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e poids de celui-ci produit une force verticale, ces deux forces se composent et donnent une résultante oblique qui doit tomber dans le tiers central du massif afin qu'il soit stable et soumis à aucune traction.</a:t>
            </a:r>
            <a:endParaRPr b="0" lang="en-US" sz="1800" spc="-1" strike="noStrike">
              <a:solidFill>
                <a:srgbClr val="000000"/>
              </a:solidFill>
              <a:latin typeface="Arial"/>
            </a:endParaRPr>
          </a:p>
        </p:txBody>
      </p:sp>
      <p:sp>
        <p:nvSpPr>
          <p:cNvPr id="50" name="Text Box 5"/>
          <p:cNvSpPr/>
          <p:nvPr/>
        </p:nvSpPr>
        <p:spPr>
          <a:xfrm>
            <a:off x="468360" y="2997360"/>
            <a:ext cx="64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On utilise principalement deux types de murs de soutè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826920" y="907920"/>
            <a:ext cx="777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5"/>
          <p:cNvSpPr/>
          <p:nvPr/>
        </p:nvSpPr>
        <p:spPr>
          <a:xfrm>
            <a:off x="468360" y="981000"/>
            <a:ext cx="828036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Pour le calcul du mur de soutènement, il faut connaître les paramètres suivant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ussée du matériau de remblai, en fonction de sa densité, son angle de talus naturel, sa compacité et sa surf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poussée hydrostatique éventuell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surcharges sur le remblai et lors de l'exécution des travaux</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nature du sol de fondati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6"/>
          <p:cNvSpPr/>
          <p:nvPr/>
        </p:nvSpPr>
        <p:spPr>
          <a:xfrm>
            <a:off x="684360" y="3213000"/>
            <a:ext cx="7416720" cy="3003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mur de soutènement est un ouvrage qui ne pardonne pas les erreurs de conception ou d'exécu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projeteur doit vérifier la stabilité en tenant compte des hypothèses les plus défavorab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nsité des terres de remblai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ature du sol de fond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rcharge sur le rembla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ussée d'eau éventuelle,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468360" y="1268280"/>
            <a:ext cx="741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Un mur de soutènement est normalement calculé pour résister à la poussée des terres. La stabilité du mur est donc à considérer sous le triple 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1- Résistance du sol de fond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2- Basculement du mur r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3- Glissement du mur sur sa 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Ces 3 paramètres classiques conditionnent la stabilité dans la mesure ou les cercles de glissement ne passent pas sous l'assise du mur. -</a:t>
            </a:r>
            <a:r>
              <a:rPr b="0" lang="fr-FR"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5" name="Text Box 6"/>
          <p:cNvSpPr/>
          <p:nvPr/>
        </p:nvSpPr>
        <p:spPr>
          <a:xfrm>
            <a:off x="1547640" y="18900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a:rPr>
              <a:t>Les ouvrages de soutènement :</a:t>
            </a:r>
            <a:endParaRPr b="0" lang="en-US" sz="1800" spc="-1" strike="noStrike">
              <a:solidFill>
                <a:srgbClr val="000000"/>
              </a:solidFill>
              <a:latin typeface="Arial"/>
            </a:endParaRPr>
          </a:p>
        </p:txBody>
      </p:sp>
      <p:sp>
        <p:nvSpPr>
          <p:cNvPr id="56" name="Text Box 7"/>
          <p:cNvSpPr/>
          <p:nvPr/>
        </p:nvSpPr>
        <p:spPr>
          <a:xfrm>
            <a:off x="684360" y="4365720"/>
            <a:ext cx="7488000" cy="133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murs en béton armé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Munis d'une bêche de pied de façon à mobiliser une certaine butée du terrain d'assise.</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684360" y="476280"/>
            <a:ext cx="792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murs en gab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Qui sont des ouvrages poids : parallèle pipé des en grillages remplis d'enrochements ou de tout venant de carrière (60.120.90 cm).</a:t>
            </a:r>
            <a:endParaRPr b="0" lang="en-US" sz="1800" spc="-1" strike="noStrike">
              <a:solidFill>
                <a:srgbClr val="000000"/>
              </a:solidFill>
              <a:latin typeface="Arial"/>
            </a:endParaRPr>
          </a:p>
        </p:txBody>
      </p:sp>
      <p:pic>
        <p:nvPicPr>
          <p:cNvPr id="58" name="Picture 6" descr="200px-Gabion">
            <a:hlinkClick r:id="rId1"/>
          </p:cNvPr>
          <p:cNvPicPr/>
          <p:nvPr/>
        </p:nvPicPr>
        <p:blipFill>
          <a:blip r:embed="rId2"/>
          <a:stretch/>
        </p:blipFill>
        <p:spPr>
          <a:xfrm>
            <a:off x="3348000" y="1557360"/>
            <a:ext cx="1905120" cy="1467000"/>
          </a:xfrm>
          <a:prstGeom prst="rect">
            <a:avLst/>
          </a:prstGeom>
          <a:ln w="0">
            <a:noFill/>
          </a:ln>
        </p:spPr>
      </p:pic>
      <p:sp>
        <p:nvSpPr>
          <p:cNvPr id="59" name="Text Box 7"/>
          <p:cNvSpPr/>
          <p:nvPr/>
        </p:nvSpPr>
        <p:spPr>
          <a:xfrm>
            <a:off x="900000" y="3357720"/>
            <a:ext cx="7488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ea typeface="Times New Roman"/>
              </a:rPr>
              <a:t>murs cellulair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De plus  en plus  employés   ils   sont  constitués  par des   éléments préfabriqués,   en béton  armé  en  acier,  assemblés  sur place  pour constituer un réseau parallèle dont les alvéoles sont en suite remplies d'élément rocheu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Le profilage général de la pente des tal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II convient de rappeler les deux règles d'or à respec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Ne pas changer le glissement, en particulier en tê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Ne pas décharger en pied de glissement.</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9" descr=""/>
          <p:cNvPicPr/>
          <p:nvPr/>
        </p:nvPicPr>
        <p:blipFill>
          <a:blip r:embed="rId1"/>
          <a:stretch/>
        </p:blipFill>
        <p:spPr>
          <a:xfrm>
            <a:off x="250920" y="1052640"/>
            <a:ext cx="8642160" cy="4752720"/>
          </a:xfrm>
          <a:prstGeom prst="rect">
            <a:avLst/>
          </a:prstGeom>
          <a:ln w="0">
            <a:noFill/>
          </a:ln>
        </p:spPr>
      </p:pic>
      <p:sp>
        <p:nvSpPr>
          <p:cNvPr id="61" name="Rectangle 10"/>
          <p:cNvSpPr/>
          <p:nvPr/>
        </p:nvSpPr>
        <p:spPr>
          <a:xfrm>
            <a:off x="2273760" y="6092280"/>
            <a:ext cx="3932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mensionnement pour avant-proj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16:23:30Z</dcterms:created>
  <dc:creator>NASSIM</dc:creator>
  <dc:description/>
  <dc:language>en-US</dc:language>
  <cp:lastModifiedBy> </cp:lastModifiedBy>
  <dcterms:modified xsi:type="dcterms:W3CDTF">2009-05-19T06:31:26Z</dcterms:modified>
  <cp:revision>7</cp:revision>
  <dc:subject/>
  <dc:title>Diapositive 1</dc:title>
</cp:coreProperties>
</file>