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895500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1436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439A-0396-4EAB-B901-5F37FADB6F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 Líder tem como missão conseguir resultado através das pesso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D097-16AC-4B41-B254-E7025B347B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 desempenho de um líder é avaliado através da formação de equipes de suces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AA8-26BE-4BA7-A3E7-B5CA1DFBA6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 o perfil de uma equipe de alta performance é ter um líder que desenvolv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934-F2D9-4128-A756-9F4C74D623B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 consegue resultados através da equ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26A1-E0B1-4CEF-A442-AAD5BC123F9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s pessoas mudam a sociedade muda mas, os valores ... Tudo isso sempre será muito cobr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372E-EE55-4181-990F-5649A1E32E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tualmente, ouvimos falar muito em Líder e Gestor. Qual a diferenç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D25B-3B75-4442-ADE4-03EA81C8E27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is na ferramenta e não nas pesso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F48E-5AC3-4F1B-8CD5-95850BBF8EC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 líder pode s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ço Reservado para Número de Slide 3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16E-53B0-4E47-A2EA-5C79558083A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2AF-E8BA-4AD5-B03A-9E88E4F2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289-DE43-4B04-8814-826F6FE4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6FD-D03D-4FD0-B80D-9A00C5D2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4E4-8F13-41B8-B45D-46D4A025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ACA-15DC-48C3-A0A0-340C52CB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5C3B-9164-49FE-A990-FE1D2E97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48F2-AE39-48F8-9275-A6DF9C22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9165-6A32-4732-A5AA-FC80E27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394D-911D-490C-85FC-0DE341E9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BFF8-3941-431A-BAEB-ABA7EF6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DAD7-16C2-4545-98F3-1629DBD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1B1-19AF-4152-8C0E-50FB6126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10CB-5F51-48BD-98D1-7F94718A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4914-8080-4DD3-88F4-2C4410CF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0A38-4B7D-4C87-9C69-3627F59F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BC8-759A-4059-8B5D-A41016DA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29FF-CCEB-4BE2-B7A6-B42FDAD3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0C9C-4B10-4226-B6B0-F4722AA3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1303-5E3E-4497-8F38-1E02947F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537B-A216-40C1-9061-B9256535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14F3-9532-4212-B3D0-796BA6A1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DDC2-2C5C-4AA4-8176-3D98773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5CC-E841-423C-914E-223879E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7E70-18F8-42F6-90B4-613B520F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F339-858E-406F-AE53-317BEF9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03F2-7849-43FC-B073-9465860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E807-F625-4FB7-959F-956FB1D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650B-F296-4CA3-9D07-1CE6F80B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F7DA-3DD5-4ED8-896A-646ED321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6769-E4C6-4340-A71C-4B91A865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28B-79A3-45B6-8966-97FD5768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1B7-4FC2-46E0-8280-9ACDEF1C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B76-884B-4F96-AD03-BC6B4CD2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386-1A8A-4308-BF2D-D70C3732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D83-5097-4651-904B-9997010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63A-6195-45BF-8CFF-85E6B5E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06CC-C053-44A0-99AC-1FBA7895C5B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192.168.0.244\temp\joao\bos_template_ppt\01ppt_apresentacao2.jpg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9CF3-BA2C-47B8-AC59-92CF506ED7D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\\192.168.0.244\temp\joao\bos_template_ppt\01ppt2.jpg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4DC4-0FF9-4CF7-BD2B-7F718CCDA5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edil.vidal@bos.org.br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Administração de um serviço de Oftalmologia de referência: Como o administrador desenvolve o seu trabalh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6000" y="6021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dil Vidal de Sou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aixaDeTexto 1"/>
          <p:cNvSpPr/>
          <p:nvPr/>
        </p:nvSpPr>
        <p:spPr>
          <a:xfrm>
            <a:off x="2357280" y="142920"/>
            <a:ext cx="4214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Missã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ess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eta para a direita 2"/>
          <p:cNvSpPr/>
          <p:nvPr/>
        </p:nvSpPr>
        <p:spPr>
          <a:xfrm>
            <a:off x="428760" y="2571840"/>
            <a:ext cx="5786280" cy="30718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4"/>
          <p:cNvSpPr/>
          <p:nvPr/>
        </p:nvSpPr>
        <p:spPr>
          <a:xfrm>
            <a:off x="571680" y="3714840"/>
            <a:ext cx="1928520" cy="7858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LÍ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5"/>
          <p:cNvSpPr/>
          <p:nvPr/>
        </p:nvSpPr>
        <p:spPr>
          <a:xfrm>
            <a:off x="2857680" y="3571920"/>
            <a:ext cx="2000160" cy="10000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6"/>
          <p:cNvSpPr/>
          <p:nvPr/>
        </p:nvSpPr>
        <p:spPr>
          <a:xfrm>
            <a:off x="6429240" y="3214800"/>
            <a:ext cx="2500560" cy="192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0253f"/>
                </a:solidFill>
                <a:latin typeface="Calibri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ixaDeTexto 3"/>
          <p:cNvSpPr/>
          <p:nvPr/>
        </p:nvSpPr>
        <p:spPr>
          <a:xfrm>
            <a:off x="285840" y="150012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 grande Líder é um formador de equipes de suces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m 3" descr="a2eD6.tmp"/>
          <p:cNvPicPr/>
          <p:nvPr/>
        </p:nvPicPr>
        <p:blipFill>
          <a:blip r:embed="rId1"/>
          <a:stretch/>
        </p:blipFill>
        <p:spPr>
          <a:xfrm>
            <a:off x="2071800" y="2786040"/>
            <a:ext cx="4143240" cy="364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em 2" descr="a2eD9.tmp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70" name="CaixaDeTexto 1"/>
          <p:cNvSpPr/>
          <p:nvPr/>
        </p:nvSpPr>
        <p:spPr>
          <a:xfrm>
            <a:off x="2357280" y="142920"/>
            <a:ext cx="4214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quipes de A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2"/>
          <p:cNvSpPr/>
          <p:nvPr/>
        </p:nvSpPr>
        <p:spPr>
          <a:xfrm>
            <a:off x="1053000" y="1357200"/>
            <a:ext cx="190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nfianç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ixaDeTexto 3"/>
          <p:cNvSpPr/>
          <p:nvPr/>
        </p:nvSpPr>
        <p:spPr>
          <a:xfrm>
            <a:off x="1031760" y="1785960"/>
            <a:ext cx="79693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efinição clara da responsabilidade de cada 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4"/>
          <p:cNvSpPr/>
          <p:nvPr/>
        </p:nvSpPr>
        <p:spPr>
          <a:xfrm>
            <a:off x="1025640" y="2286000"/>
            <a:ext cx="73324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95400" indent="-95400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spírito de equipe - a equipe é a estr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ncentração - foco no resul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ts val="3175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promet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ixaDeTexto 5"/>
          <p:cNvSpPr/>
          <p:nvPr/>
        </p:nvSpPr>
        <p:spPr>
          <a:xfrm>
            <a:off x="1046160" y="3571920"/>
            <a:ext cx="7669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Busca pela qualidade - melhoria contí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isciplina quanto a proced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rseverança e esforç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ixaDeTexto 6"/>
          <p:cNvSpPr/>
          <p:nvPr/>
        </p:nvSpPr>
        <p:spPr>
          <a:xfrm>
            <a:off x="1072800" y="4857840"/>
            <a:ext cx="2638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uto Motiv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7"/>
          <p:cNvSpPr/>
          <p:nvPr/>
        </p:nvSpPr>
        <p:spPr>
          <a:xfrm>
            <a:off x="1011960" y="5284800"/>
            <a:ext cx="2842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Metas e desaf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8"/>
          <p:cNvSpPr/>
          <p:nvPr/>
        </p:nvSpPr>
        <p:spPr>
          <a:xfrm>
            <a:off x="1000080" y="5643720"/>
            <a:ext cx="5415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lanejamento e Organ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Lideranç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2787480" y="1886040"/>
            <a:ext cx="4278600" cy="799920"/>
          </a:xfrm>
          <a:prstGeom prst="roundRect">
            <a:avLst>
              <a:gd name="adj" fmla="val 16667"/>
            </a:avLst>
          </a:prstGeom>
          <a:solidFill>
            <a:srgbClr val="202f5e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000"/>
                </a:solidFill>
                <a:latin typeface="Calibri"/>
              </a:rPr>
              <a:t>FINANC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793960" y="2766960"/>
            <a:ext cx="4278240" cy="801720"/>
          </a:xfrm>
          <a:prstGeom prst="roundRect">
            <a:avLst>
              <a:gd name="adj" fmla="val 16667"/>
            </a:avLst>
          </a:prstGeom>
          <a:solidFill>
            <a:srgbClr val="202f5e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000"/>
                </a:solidFill>
                <a:latin typeface="Calibri"/>
              </a:rPr>
              <a:t>CLIENTE 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2793960" y="3648240"/>
            <a:ext cx="4278240" cy="801360"/>
          </a:xfrm>
          <a:prstGeom prst="roundRect">
            <a:avLst>
              <a:gd name="adj" fmla="val 16667"/>
            </a:avLst>
          </a:prstGeom>
          <a:solidFill>
            <a:srgbClr val="202f5e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000"/>
                </a:solidFill>
                <a:latin typeface="Calibri"/>
              </a:rPr>
              <a:t>PROCESSOS IN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787480" y="4546440"/>
            <a:ext cx="4278600" cy="800280"/>
          </a:xfrm>
          <a:prstGeom prst="roundRect">
            <a:avLst>
              <a:gd name="adj" fmla="val 16667"/>
            </a:avLst>
          </a:prstGeom>
          <a:solidFill>
            <a:srgbClr val="202f5e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000"/>
                </a:solidFill>
                <a:latin typeface="Calibri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2787480" y="5445000"/>
            <a:ext cx="4278600" cy="800280"/>
          </a:xfrm>
          <a:prstGeom prst="roundRect">
            <a:avLst>
              <a:gd name="adj" fmla="val 16667"/>
            </a:avLst>
          </a:prstGeom>
          <a:solidFill>
            <a:srgbClr val="202f5e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000"/>
                </a:solidFill>
                <a:latin typeface="Calibri"/>
              </a:rPr>
              <a:t>CRESCIMENTO/ APREND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40000" y="61920"/>
            <a:ext cx="43927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PLANEJAMENTO ESTRATÉG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a 3" descr=""/>
          <p:cNvPicPr/>
          <p:nvPr/>
        </p:nvPicPr>
        <p:blipFill>
          <a:blip r:embed="rId2"/>
          <a:stretch/>
        </p:blipFill>
        <p:spPr>
          <a:xfrm>
            <a:off x="171360" y="1554120"/>
            <a:ext cx="8728200" cy="5322960"/>
          </a:xfrm>
          <a:prstGeom prst="rect">
            <a:avLst/>
          </a:prstGeom>
          <a:ln w="0">
            <a:noFill/>
          </a:ln>
        </p:spPr>
      </p:pic>
      <p:sp>
        <p:nvSpPr>
          <p:cNvPr id="186" name="Elipse 4"/>
          <p:cNvSpPr/>
          <p:nvPr/>
        </p:nvSpPr>
        <p:spPr>
          <a:xfrm>
            <a:off x="250920" y="1773360"/>
            <a:ext cx="1800000" cy="100800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5"/>
          <p:cNvSpPr/>
          <p:nvPr/>
        </p:nvSpPr>
        <p:spPr>
          <a:xfrm>
            <a:off x="179280" y="2060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SUSTEN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ipse 6"/>
          <p:cNvSpPr/>
          <p:nvPr/>
        </p:nvSpPr>
        <p:spPr>
          <a:xfrm>
            <a:off x="324000" y="5373720"/>
            <a:ext cx="1800000" cy="100800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7"/>
          <p:cNvSpPr/>
          <p:nvPr/>
        </p:nvSpPr>
        <p:spPr>
          <a:xfrm>
            <a:off x="428760" y="5392800"/>
            <a:ext cx="169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PLANEJAMENTO ESTRATÉG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lipse 8"/>
          <p:cNvSpPr/>
          <p:nvPr/>
        </p:nvSpPr>
        <p:spPr>
          <a:xfrm>
            <a:off x="7020000" y="1628640"/>
            <a:ext cx="1800000" cy="100836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lipse 9"/>
          <p:cNvSpPr/>
          <p:nvPr/>
        </p:nvSpPr>
        <p:spPr>
          <a:xfrm>
            <a:off x="7020000" y="5516640"/>
            <a:ext cx="1800000" cy="100800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16"/>
          <p:cNvSpPr/>
          <p:nvPr/>
        </p:nvSpPr>
        <p:spPr>
          <a:xfrm>
            <a:off x="7093080" y="20606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QUA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11"/>
          <p:cNvSpPr/>
          <p:nvPr/>
        </p:nvSpPr>
        <p:spPr>
          <a:xfrm>
            <a:off x="7020000" y="5950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GESTÃO 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28760" y="300024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Calibri"/>
              </a:rPr>
              <a:t>Obrigado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tângulo 3"/>
          <p:cNvSpPr/>
          <p:nvPr/>
        </p:nvSpPr>
        <p:spPr>
          <a:xfrm>
            <a:off x="2357280" y="557208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dil.vidal@bos.org.br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8"/>
          <p:cNvSpPr/>
          <p:nvPr/>
        </p:nvSpPr>
        <p:spPr>
          <a:xfrm>
            <a:off x="2357280" y="142920"/>
            <a:ext cx="4214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que era exigido de um Líd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tângulo 11" descr=""/>
          <p:cNvPicPr/>
          <p:nvPr/>
        </p:nvPicPr>
        <p:blipFill>
          <a:blip r:embed="rId1"/>
          <a:stretch/>
        </p:blipFill>
        <p:spPr>
          <a:xfrm>
            <a:off x="-347760" y="1663560"/>
            <a:ext cx="5297760" cy="1854360"/>
          </a:xfrm>
          <a:prstGeom prst="rect">
            <a:avLst/>
          </a:prstGeom>
          <a:ln w="0">
            <a:noFill/>
          </a:ln>
        </p:spPr>
      </p:pic>
      <p:pic>
        <p:nvPicPr>
          <p:cNvPr id="136" name="Retângulo 12" descr=""/>
          <p:cNvPicPr/>
          <p:nvPr/>
        </p:nvPicPr>
        <p:blipFill>
          <a:blip r:embed="rId2"/>
          <a:stretch/>
        </p:blipFill>
        <p:spPr>
          <a:xfrm>
            <a:off x="-219240" y="4316400"/>
            <a:ext cx="5040360" cy="1846440"/>
          </a:xfrm>
          <a:prstGeom prst="rect">
            <a:avLst/>
          </a:prstGeom>
          <a:ln w="0">
            <a:noFill/>
          </a:ln>
        </p:spPr>
      </p:pic>
      <p:pic>
        <p:nvPicPr>
          <p:cNvPr id="137" name="Retângulo 13" descr=""/>
          <p:cNvPicPr/>
          <p:nvPr/>
        </p:nvPicPr>
        <p:blipFill>
          <a:blip r:embed="rId3"/>
          <a:stretch/>
        </p:blipFill>
        <p:spPr>
          <a:xfrm>
            <a:off x="2724120" y="3029040"/>
            <a:ext cx="6816600" cy="1847880"/>
          </a:xfrm>
          <a:prstGeom prst="rect">
            <a:avLst/>
          </a:prstGeom>
          <a:ln w="0">
            <a:noFill/>
          </a:ln>
        </p:spPr>
      </p:pic>
      <p:pic>
        <p:nvPicPr>
          <p:cNvPr id="138" name="Retângulo 14" descr=""/>
          <p:cNvPicPr/>
          <p:nvPr/>
        </p:nvPicPr>
        <p:blipFill>
          <a:blip r:embed="rId4"/>
          <a:stretch/>
        </p:blipFill>
        <p:spPr>
          <a:xfrm>
            <a:off x="5389560" y="5162400"/>
            <a:ext cx="3943440" cy="185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ixaDeTexto 1"/>
          <p:cNvSpPr/>
          <p:nvPr/>
        </p:nvSpPr>
        <p:spPr>
          <a:xfrm>
            <a:off x="2357280" y="142920"/>
            <a:ext cx="4214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Líd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Mod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tângulo 2" descr=""/>
          <p:cNvPicPr/>
          <p:nvPr/>
        </p:nvPicPr>
        <p:blipFill>
          <a:blip r:embed="rId1"/>
          <a:stretch/>
        </p:blipFill>
        <p:spPr>
          <a:xfrm>
            <a:off x="171360" y="1695600"/>
            <a:ext cx="8948880" cy="538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aixaDeTexto 1"/>
          <p:cNvSpPr/>
          <p:nvPr/>
        </p:nvSpPr>
        <p:spPr>
          <a:xfrm>
            <a:off x="2357280" y="142920"/>
            <a:ext cx="4214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o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onsegu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eta para a direita 2"/>
          <p:cNvSpPr/>
          <p:nvPr/>
        </p:nvSpPr>
        <p:spPr>
          <a:xfrm>
            <a:off x="428760" y="3000240"/>
            <a:ext cx="4143240" cy="2143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Calibri"/>
              </a:rPr>
              <a:t>EQUIP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tângulo 3" descr=""/>
          <p:cNvPicPr/>
          <p:nvPr/>
        </p:nvPicPr>
        <p:blipFill>
          <a:blip r:embed="rId1"/>
          <a:stretch/>
        </p:blipFill>
        <p:spPr>
          <a:xfrm>
            <a:off x="4334040" y="2316240"/>
            <a:ext cx="520668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aixaDeTexto 1"/>
          <p:cNvSpPr/>
          <p:nvPr/>
        </p:nvSpPr>
        <p:spPr>
          <a:xfrm>
            <a:off x="2357280" y="142920"/>
            <a:ext cx="42148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Pa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Do Líder 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14"/>
          <p:cNvSpPr/>
          <p:nvPr/>
        </p:nvSpPr>
        <p:spPr>
          <a:xfrm>
            <a:off x="142920" y="1725480"/>
            <a:ext cx="91440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9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 uma visão de onde quer cheg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nder esta visão para a equi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r e organiz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15"/>
          <p:cNvSpPr/>
          <p:nvPr/>
        </p:nvSpPr>
        <p:spPr>
          <a:xfrm>
            <a:off x="142920" y="2868480"/>
            <a:ext cx="9144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indicadores e mostrar o desempe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car e melhorar a maturidade técnica e psic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ixar claro qual é o papel de cada um e o que é espe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 ambiente motivad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17"/>
          <p:cNvSpPr/>
          <p:nvPr/>
        </p:nvSpPr>
        <p:spPr>
          <a:xfrm>
            <a:off x="142920" y="4368960"/>
            <a:ext cx="9144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nhar o prestígio perante a equ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 um grande comunic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r feed back assertivo e constr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r os processos de mudanç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aixaDeTexto 1"/>
          <p:cNvSpPr/>
          <p:nvPr/>
        </p:nvSpPr>
        <p:spPr>
          <a:xfrm>
            <a:off x="2357280" y="142920"/>
            <a:ext cx="4214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não mu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2"/>
          <p:cNvSpPr/>
          <p:nvPr/>
        </p:nvSpPr>
        <p:spPr>
          <a:xfrm>
            <a:off x="714240" y="1928880"/>
            <a:ext cx="581976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92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IPAÇÃO D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TIV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3"/>
          <p:cNvSpPr/>
          <p:nvPr/>
        </p:nvSpPr>
        <p:spPr>
          <a:xfrm>
            <a:off x="730800" y="3571920"/>
            <a:ext cx="4316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IA CONTÍ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4"/>
          <p:cNvSpPr/>
          <p:nvPr/>
        </p:nvSpPr>
        <p:spPr>
          <a:xfrm>
            <a:off x="714240" y="4071960"/>
            <a:ext cx="62359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ENDIMENTO PERSONALIZADO. • NOVAS MUDANÇ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ixaDeTexto 3"/>
          <p:cNvSpPr/>
          <p:nvPr/>
        </p:nvSpPr>
        <p:spPr>
          <a:xfrm>
            <a:off x="500040" y="3429000"/>
            <a:ext cx="217656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Arial"/>
              </a:rPr>
              <a:t>Lí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ixaDeTexto 4"/>
          <p:cNvSpPr/>
          <p:nvPr/>
        </p:nvSpPr>
        <p:spPr>
          <a:xfrm>
            <a:off x="5143680" y="3214800"/>
            <a:ext cx="335736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Arial"/>
              </a:rPr>
              <a:t>Capacidade de influenciar pessoas em  direção ao alcance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ta para a direita 7"/>
          <p:cNvSpPr/>
          <p:nvPr/>
        </p:nvSpPr>
        <p:spPr>
          <a:xfrm>
            <a:off x="2571840" y="3214800"/>
            <a:ext cx="2000160" cy="13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8"/>
          <p:cNvSpPr/>
          <p:nvPr/>
        </p:nvSpPr>
        <p:spPr>
          <a:xfrm>
            <a:off x="2357280" y="142920"/>
            <a:ext cx="4214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íder x Ge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aixaDeTexto 3"/>
          <p:cNvSpPr/>
          <p:nvPr/>
        </p:nvSpPr>
        <p:spPr>
          <a:xfrm>
            <a:off x="500040" y="3429000"/>
            <a:ext cx="217656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Arial"/>
              </a:rPr>
              <a:t>Ge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4"/>
          <p:cNvSpPr/>
          <p:nvPr/>
        </p:nvSpPr>
        <p:spPr>
          <a:xfrm>
            <a:off x="5143680" y="3214800"/>
            <a:ext cx="33573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Arial"/>
              </a:rPr>
              <a:t>Planejamento e Administração dos Recursos e Monitoramento dos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ta para a direita 7"/>
          <p:cNvSpPr/>
          <p:nvPr/>
        </p:nvSpPr>
        <p:spPr>
          <a:xfrm>
            <a:off x="2571840" y="3214800"/>
            <a:ext cx="2000160" cy="13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8"/>
          <p:cNvSpPr/>
          <p:nvPr/>
        </p:nvSpPr>
        <p:spPr>
          <a:xfrm>
            <a:off x="2357280" y="142920"/>
            <a:ext cx="4214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íder x Ge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aixaDeTexto 1"/>
          <p:cNvSpPr/>
          <p:nvPr/>
        </p:nvSpPr>
        <p:spPr>
          <a:xfrm>
            <a:off x="2357280" y="142920"/>
            <a:ext cx="4214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Desenvolvimento do Lí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Diagrama 2" descr=""/>
          <p:cNvPicPr/>
          <p:nvPr/>
        </p:nvPicPr>
        <p:blipFill>
          <a:blip r:embed="rId1"/>
          <a:stretch/>
        </p:blipFill>
        <p:spPr>
          <a:xfrm>
            <a:off x="633240" y="1798560"/>
            <a:ext cx="7877520" cy="413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1:55:11Z</dcterms:created>
  <dc:creator>clayton</dc:creator>
  <dc:description/>
  <dc:language>en-US</dc:language>
  <cp:lastModifiedBy>evidal</cp:lastModifiedBy>
  <dcterms:modified xsi:type="dcterms:W3CDTF">2011-09-08T11:25:11Z</dcterms:modified>
  <cp:revision>103</cp:revision>
  <dc:subject/>
  <dc:title>Slide 1</dc:title>
</cp:coreProperties>
</file>