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28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47B-2376-4F5B-8984-951AB08C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E40-C681-49D0-A4AB-348ECB22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015-070E-4A0A-8AE8-391E15CA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215-E9E7-4512-9596-AF722CF8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A09-9582-4E45-B597-A9AC6632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A0E-E5ED-4FCB-9F78-DE439AD5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249-FB28-46D0-BD6B-BFD475E5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AA9-3B3F-4CE8-BCCA-0B68208B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3C1-5431-40ED-8E7E-AE7FB11B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C71-994C-4656-9DD2-3FF42DF9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FC8-D16C-44D9-95E6-FB0672AC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98B-7BAB-4727-B8C9-4F03EE8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64BA-124B-4831-8A48-A0EEF4FDB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cc"/>
                </a:solidFill>
                <a:latin typeface="Arial"/>
              </a:rPr>
              <a:t>J grapjes (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79280" y="981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lie vrouwen 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1989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997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IQ test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005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rijd te sn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5013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Jez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5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6000" spc="-1" strike="noStrike">
                <a:solidFill>
                  <a:srgbClr val="ffffff"/>
                </a:solidFill>
                <a:latin typeface="Arial"/>
              </a:rPr>
              <a:t>Justine Henin-Harden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600" spc="-1" strike="noStrike">
                <a:solidFill>
                  <a:srgbClr val="000000"/>
                </a:solidFill>
                <a:latin typeface="Arial"/>
              </a:rPr>
              <a:t>NAAK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60609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k 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9600" spc="-1" strike="noStrike">
                <a:solidFill>
                  <a:srgbClr val="000000"/>
                </a:solidFill>
                <a:latin typeface="Arial"/>
              </a:rPr>
              <a:t>Zedde gij ZOT!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76360" y="333360"/>
            <a:ext cx="590400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lias"/>
              </a:rPr>
              <a:t>welkom bij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lias"/>
              <a:ea typeface="Alia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00000" y="5157720"/>
            <a:ext cx="741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Alias"/>
              </a:rPr>
              <a:t>de iq test 20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Alias"/>
              <a:ea typeface="Alia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19640" y="3176640"/>
            <a:ext cx="201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Alias"/>
              </a:rPr>
              <a:t>ST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Alias"/>
              <a:ea typeface="Alia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5414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51" dur="32094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lias"/>
              </a:rPr>
              <a:t>wat is een ko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een soort broodje keb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een ander woord voor melkproductie d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kun je kaas eten met je ten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lias"/>
              </a:rPr>
              <a:t>wat is de lichtsnelhei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300.000 kilometer per secon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0.000003 meter per ja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lias"/>
              </a:rPr>
              <a:t>wat een jan hamming het minst graa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aardbeien met haring en een apenha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een slagroomsoes met pindaka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wat is geen filosofische vraag?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is er leven in een jukbeen van een be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wat eet bin laden als ontbij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hoeveel is 50 x 40 x 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lias"/>
              </a:rPr>
              <a:t>waar zit je leplazeru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lepa wat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op een klein eiland 50</a:t>
            </a:r>
            <a:r>
              <a:rPr b="0" lang="en-US" sz="2800" spc="-1" strike="noStrike">
                <a:solidFill>
                  <a:srgbClr val="000000"/>
                </a:solidFill>
                <a:latin typeface="Alias"/>
              </a:rPr>
              <a:t>° ten noorden van de maled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JULIE VROUWE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49228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NEEN TE SE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989000"/>
            <a:ext cx="2160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welke kanarie brak zijn been tijden het volkslied van ko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de kanarie van kees g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er wonen geen kanaries in ko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wat is een kaketo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een soort pingu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een zeldzaam soort papaga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lias"/>
              </a:rPr>
              <a:t>je bent echt net zo dom als deze aap. je iq is 7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337080" cy="475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4941720"/>
            <a:ext cx="8136000" cy="1434600"/>
          </a:xfrm>
          <a:prstGeom prst="rect">
            <a:avLst/>
          </a:prstGeom>
          <a:solidFill>
            <a:srgbClr val="ff99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lias"/>
              </a:rPr>
              <a:t>je bent de slimste mens die ik ken. je iq is 25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519000" y="1052640"/>
            <a:ext cx="472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Je rijdt te snel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als !!!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rcRect l="2496" t="2507" r="24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26668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JÉSUS UN PEU NO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0000"/>
                </a:solidFill>
                <a:latin typeface="Verdana"/>
              </a:rPr>
              <a:t>JEZUS – EEN BEETJE SIM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26744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3666960" cy="2673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43200" y="4648320"/>
            <a:ext cx="3733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ria-Magdalena, ik zou je een dienst willen vragen … ik maak me zorgen over mijn zoon Jezus, hij is bijna 30 en heeft nog nooit een vrouw gek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ijn God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305160" cy="268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56386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648320"/>
            <a:ext cx="33530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Kan ik op jou rekenen om hem, hoe zal ik het zeggen, te ontmaagde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at zou ik niet voor u doen, mevrouw Maria !  Ik vlieg 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1916280"/>
            <a:ext cx="252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NEEN TE SERI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698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3052800" cy="3500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8120" y="5410080"/>
            <a:ext cx="30477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Sta je mij toe dat ik je wat gezelschap hou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 kinderen van mijn Vader zijn mijn kindere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419720" cy="269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722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4005360" cy="3019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43200" y="4952880"/>
            <a:ext cx="3962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at is er gebeurd, mijn zoo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Zij heeft haar hand op mijn knie gelegd, dus heb ik ook mijn hand op haar knie gele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3276720" cy="3652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8120" y="55627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Zij heeft haar hand op mijn bil gelegd, dus heb ik ook mijn hand op haar bil gele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3200400" cy="3558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24080" y="548640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Zij heeft haar hand tussen mijn benen gelegd, dus heb ik ook mijn hand tussen haar benen gele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5181840" cy="383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-53352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4724280"/>
            <a:ext cx="502920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an heb ik mij gerealiseerd dat zij daar geamputeerd was, 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heb ik haar genez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8920" y="1844640"/>
            <a:ext cx="23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KLASS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184464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OPVALL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1844640"/>
            <a:ext cx="194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AGRESS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16000" y="184464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AFGEZAA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191628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1844640"/>
            <a:ext cx="208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SPOR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84360" y="191628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THUNDER PRODUKTIES</a:t>
            </a: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10-04-27T03:39:50Z</dcterms:modified>
  <cp:revision>67</cp:revision>
  <dc:subject/>
  <dc:title>Dia 1</dc:title>
</cp:coreProperties>
</file>