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9DE-BEE3-4395-80B0-4AB395B1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216-DE19-4513-B891-B54224C8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FA8-4CC5-4B48-9808-9EF68CD6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52E-4F98-4E84-8FAA-C04D531C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91F-E002-45B9-AC78-8C9E5F52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85D-A89F-4BEB-A953-ECBB4E0A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3F5-F185-40FD-90AC-2008A950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AEA-09DB-46B7-BA4B-66C7F57D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661-ABA7-405B-9446-66BABCC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7A0-A58A-49CA-B035-73F11DE2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E61-F7E1-4E17-813C-F0290964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5C5-5DB8-4A8B-951C-160F9C49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8C56-C1C9-44BB-AC89-5335F9557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87480" y="-77760"/>
            <a:ext cx="9320400" cy="7014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9280" y="4292640"/>
            <a:ext cx="57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Sometimes in our lives, we all have pain, we all have sorrow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But if we are wise, we know that there's always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7680" cy="7015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407664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Lean on me, when you're not strong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and I'll be your friend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I'll help you carry on, for it won't be long 'til I'm gonna need somebody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to lea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87480" y="-87480"/>
            <a:ext cx="9320400" cy="703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3120" y="326880"/>
            <a:ext cx="60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Please swallow your pride, if have things you need to borrow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For no one can fill those needs that you won't let s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61920"/>
            <a:ext cx="9320040" cy="699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494172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You just call on me brother 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when you need a hand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We all need somebody to lea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941720"/>
            <a:ext cx="67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I just might have a problem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that you'll understand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We all need somebody to lea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06200" y="-87480"/>
            <a:ext cx="9356400" cy="7032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333360"/>
            <a:ext cx="59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Lean on me when you't not strong, and I'll be your friend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I'll help you carry on, for it won't be long until I'm gonna' need somebody to lea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57320"/>
            <a:ext cx="9337680" cy="701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040" y="4924440"/>
            <a:ext cx="37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68800" y="0"/>
            <a:ext cx="497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You just call on me brother if you need a friend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We all need somebody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to lea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06200" y="-87480"/>
            <a:ext cx="9356400" cy="7032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4365720"/>
            <a:ext cx="61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If there is a load you have to bear that you can't carry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I'm right up the road, I'll share your load if you just call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06200" y="-77760"/>
            <a:ext cx="9356400" cy="7014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600" y="476280"/>
            <a:ext cx="5101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Call me  if you need a friend</a:t>
            </a:r>
            <a:br>
              <a:rPr sz="32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Call me . . .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5800" y="63086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ccff"/>
                </a:solidFill>
                <a:latin typeface="Times New Roman"/>
              </a:rPr>
              <a:t>Don_Alfr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79840" y="625788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ff"/>
                </a:solidFill>
                <a:latin typeface="Times New Roman"/>
              </a:rPr>
              <a:t>…</a:t>
            </a:r>
            <a:r>
              <a:rPr b="1" lang="de-DE" sz="1800" spc="-1" strike="noStrike">
                <a:solidFill>
                  <a:srgbClr val="99ccff"/>
                </a:solidFill>
                <a:latin typeface="Times New Roman"/>
              </a:rPr>
              <a:t>für meine Freundin Sil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1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100"/>
                            </p:stCondLst>
                            <p:childTnLst>
                              <p:par>
                                <p:cTn id="8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7:09:28Z</dcterms:created>
  <dc:creator>Don_Alfredo</dc:creator>
  <dc:description>...für meine beste Freundin und Kammeradin
.......................................................
Funny-Powerpoints.net Download</dc:description>
  <dc:language>en-US</dc:language>
  <cp:lastModifiedBy>Smets</cp:lastModifiedBy>
  <dcterms:modified xsi:type="dcterms:W3CDTF">2008-09-21T05:35:27Z</dcterms:modified>
  <cp:revision>6</cp:revision>
  <dc:subject/>
  <dc:title>Lean on me</dc:title>
</cp:coreProperties>
</file>