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jpeg" ContentType="image/jpeg"/>
  <Override PartName="/ppt/media/Helmut-Zacharias-La-Vie-En-Rose.wav" ContentType="audio/x-wav"/>
  <Override PartName="/ppt/media/image13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54C-405B-4E18-8F5A-AE1C19B1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F84-B04D-4ACB-A3DD-D1D00F4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8A8-8800-4658-8BE5-FBF313E2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A3B-A52A-47A5-AE92-36B0377E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EDE-7CD1-4BCA-8371-30EC7EF1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173-5A99-4F9D-AA3C-B1FD4ABE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266-F1AA-4481-AEE1-6ED1E9C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843-DAD1-4266-9F5D-D3B169B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6D7-1B64-4693-B4FA-765183F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044-CE86-462B-8E73-0C00FE8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06B-36ED-4308-9CDA-C3DD57A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926-78ED-4058-A825-8D10D5B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778-B304-4DB4-B5CD-237D6FC140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lmut-Zacharias-La-Vie-En-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25080" cy="734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Helmut-Zacharias-La-Vie-En-Ro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00" y="-603360"/>
            <a:ext cx="10839600" cy="79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-243000"/>
            <a:ext cx="7129440" cy="74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-171360"/>
            <a:ext cx="5112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0520" y="-243000"/>
            <a:ext cx="856296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250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7885080" y="5950080"/>
            <a:ext cx="457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9900ff"/>
                  </a:solidFill>
                  <a:miter/>
                </a:ln>
                <a:solidFill>
                  <a:srgbClr val="9900ff"/>
                </a:solidFill>
                <a:latin typeface="Lucida Handwriting"/>
              </a:rPr>
              <a:t>END</a:t>
            </a:r>
            <a:endParaRPr b="0" lang="en-US" sz="1600" spc="1" strike="noStrike">
              <a:ln w="9360">
                <a:solidFill>
                  <a:srgbClr val="9900ff"/>
                </a:solidFill>
                <a:miter/>
              </a:ln>
              <a:solidFill>
                <a:srgbClr val="9900ff"/>
              </a:solidFill>
              <a:latin typeface="Lucida Handwriting"/>
              <a:ea typeface="Lucida Handwriting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5877000"/>
            <a:ext cx="1619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9900ff"/>
                  </a:solidFill>
                  <a:miter/>
                </a:ln>
                <a:solidFill>
                  <a:srgbClr val="9900ff"/>
                </a:solidFill>
                <a:latin typeface="Lucida Handwriting"/>
              </a:rPr>
              <a:t>03-MAYO-2012</a:t>
            </a:r>
            <a:endParaRPr b="0" lang="en-US" sz="1600" spc="1" strike="noStrike">
              <a:ln w="9360">
                <a:solidFill>
                  <a:srgbClr val="9900ff"/>
                </a:solidFill>
                <a:miter/>
              </a:ln>
              <a:solidFill>
                <a:srgbClr val="9900ff"/>
              </a:soli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250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-316080"/>
            <a:ext cx="7129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17:00Z</dcterms:created>
  <dc:creator>Illusion V2</dc:creator>
  <dc:description/>
  <dc:language>en-US</dc:language>
  <cp:lastModifiedBy>Illusion V2</cp:lastModifiedBy>
  <dcterms:modified xsi:type="dcterms:W3CDTF">2012-05-03T13:18:44Z</dcterms:modified>
  <cp:revision>1</cp:revision>
  <dc:subject/>
  <dc:title>Diapositiva 1</dc:title>
</cp:coreProperties>
</file>