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png" ContentType="image/pn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0.jpeg" ContentType="image/jpeg"/>
  <Override PartName="/ppt/media/Helmut-Zacharias-La-Vie-En-Rose.wav" ContentType="audio/x-wav"/>
  <Override PartName="/ppt/media/image13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4DF1-9D18-467F-A774-34161741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5BB5-D975-440C-AE20-EC2DD4DC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BF73-5CAD-4484-BD3D-674804AF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6CA5-322E-4B63-8FED-2E96D7F4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6EB9-644B-49EF-A8D9-B7374C61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68DD-638A-4918-A521-85F125C0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BA4D-9360-4357-B8BF-4CCB222D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7C52-AE40-4766-97D5-8088FFC7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6BE3-3F63-4893-91CE-CA5BFE0A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BFBC-DAC3-4167-BAC4-D6AC6702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2573-8A5F-49E5-83C3-39F4864C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284A-6F2B-4C86-AC8E-CB3380C6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AE4A-5683-4D0E-B60F-4A2B7BC2DB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elmut-Zacharias-La-Vie-En-Rose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325080" cy="7344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Helmut-Zacharias-La-Vie-En-Ro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20072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20072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7592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20072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20072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116000" y="-603360"/>
            <a:ext cx="10839600" cy="79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-243000"/>
            <a:ext cx="7129440" cy="741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35344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20072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50920" y="-171360"/>
            <a:ext cx="5112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32508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90520" y="-243000"/>
            <a:ext cx="8562960" cy="73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20072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32508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7885080" y="5950080"/>
            <a:ext cx="4572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9900ff"/>
                  </a:solidFill>
                  <a:miter/>
                </a:ln>
                <a:solidFill>
                  <a:srgbClr val="9900ff"/>
                </a:solidFill>
                <a:latin typeface="Lucida Handwriting"/>
              </a:rPr>
              <a:t>END</a:t>
            </a:r>
            <a:endParaRPr b="0" lang="en-US" sz="1600" spc="1" strike="noStrike">
              <a:ln w="9360">
                <a:solidFill>
                  <a:srgbClr val="9900ff"/>
                </a:solidFill>
                <a:miter/>
              </a:ln>
              <a:solidFill>
                <a:srgbClr val="9900ff"/>
              </a:solidFill>
              <a:latin typeface="Lucida Handwriting"/>
              <a:ea typeface="Lucida Handwriting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5877000"/>
            <a:ext cx="16192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9900ff"/>
                  </a:solidFill>
                  <a:miter/>
                </a:ln>
                <a:solidFill>
                  <a:srgbClr val="9900ff"/>
                </a:solidFill>
                <a:latin typeface="Lucida Handwriting"/>
              </a:rPr>
              <a:t>03-MAYO-2012</a:t>
            </a:r>
            <a:endParaRPr b="0" lang="en-US" sz="1600" spc="1" strike="noStrike">
              <a:ln w="9360">
                <a:solidFill>
                  <a:srgbClr val="9900ff"/>
                </a:solidFill>
                <a:miter/>
              </a:ln>
              <a:solidFill>
                <a:srgbClr val="9900ff"/>
              </a:solidFill>
              <a:latin typeface="Lucida Handwriting"/>
              <a:ea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20072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32508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20072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-316080"/>
            <a:ext cx="7129440" cy="73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13:17:00Z</dcterms:created>
  <dc:creator>Illusion V2</dc:creator>
  <dc:description/>
  <dc:language>en-US</dc:language>
  <cp:lastModifiedBy>Illusion V2</cp:lastModifiedBy>
  <dcterms:modified xsi:type="dcterms:W3CDTF">2012-05-03T13:18:44Z</dcterms:modified>
  <cp:revision>1</cp:revision>
  <dc:subject/>
  <dc:title>Diapositiva 1</dc:title>
</cp:coreProperties>
</file>