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B45-4F9B-4FB9-9D06-1B3D8124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36F-6C1C-458B-8874-8364E67C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B5E-1CA4-4B3A-B9C1-6791D0E5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C51-4701-48E6-B4E3-A7218D8E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F33-2528-4BBF-8C4E-83D269C3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DB4-C74D-438B-8029-87C6ADE7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20A-A0F8-4E92-9007-02E42125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807-CE03-45D5-9322-AEB81EB1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16D-DCDF-4FE9-A6FC-875DA42F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7C6-BF67-4331-92E1-64418EF9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221-614E-4302-B767-1DCCEAA1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42C-A890-4175-8E8E-1157B85C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37D3D-670F-4A0E-BC58-8B6D9497D1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67834-BDDA-49A6-BB5F-CC53B5698B4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4:57:31Z</dcterms:created>
  <dc:creator>최봉수</dc:creator>
  <dc:description/>
  <dc:language>en-US</dc:language>
  <cp:lastModifiedBy>맛있다 군만두</cp:lastModifiedBy>
  <dcterms:modified xsi:type="dcterms:W3CDTF">2024-10-01T03:12:33Z</dcterms:modified>
  <cp:revision>4</cp:revision>
  <dc:subject/>
  <dc:title>슬라이드 1</dc:title>
</cp:coreProperties>
</file>