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36E-9F16-4188-83E6-E66CB0AD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25D-69B5-4E4B-9E23-84D10E4E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5D1-9FDC-4CAE-9ED2-23068452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F3A-134B-4CE8-9851-9E6180CF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4C9-20ED-41CD-93E5-FD04D56F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B82-DDC6-49DB-BA67-8F2735BA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155-F364-4182-B7AC-55353C57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4F2-765A-4A3E-8B04-5E7A9ABD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654-4ECA-478F-A75E-6FE27F54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D22-21BA-4D5B-9290-7FEBF0EA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4B1-4950-49BF-8CC1-435909D1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F2D-EDA2-44BA-A39B-D21A308E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DE19C-E537-4368-92BC-88CF86C235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789F1-1947-4DCF-98CD-D5DF017C7C5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57:31Z</dcterms:created>
  <dc:creator>최봉수</dc:creator>
  <dc:description/>
  <dc:language>en-US</dc:language>
  <cp:lastModifiedBy>맛있다 군만두</cp:lastModifiedBy>
  <dcterms:modified xsi:type="dcterms:W3CDTF">2024-10-01T03:12:33Z</dcterms:modified>
  <cp:revision>4</cp:revision>
  <dc:subject/>
  <dc:title>슬라이드 1</dc:title>
</cp:coreProperties>
</file>