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34CF-4956-4196-AB0A-0E7A7BC84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D43A-6FDF-40A0-8660-BFBFDF4F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807B-3D2D-4B98-B77B-51D12F29A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3242-D153-4261-A992-F9EB56AE9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026C-8922-4325-930E-D62A86CA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4683-FFA4-403B-AAA2-93F5B27E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B389-4803-45E6-8B93-ECF3DC44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D7EE-AB1E-45C9-AB18-E58DE2E0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8407-C1C0-48E1-B210-E0C7D9D1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0225-FA36-4A39-924D-DF9F6740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D7D3-6734-4B21-BF1F-FF5D34C2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EE41-C92D-4888-A106-B0CCB7AC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20BA-9AC3-4AE1-A1E5-BA8327A7A5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B3F4-4D5C-4856-8895-65B57EB126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05740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e Protection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atma Lestari, Ph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D0F2-0DD0-46A5-9104-F5301C9809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zard Management Approac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315200" cy="5324400"/>
          </a:xfrm>
          <a:prstGeom prst="rect">
            <a:avLst/>
          </a:prstGeom>
          <a:ln w="0">
            <a:noFill/>
          </a:ln>
        </p:spPr>
      </p:pic>
      <p:sp>
        <p:nvSpPr>
          <p:cNvPr id="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CEA8-0859-461A-B0A9-E23831A785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5480" y="315720"/>
            <a:ext cx="763128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Hazard Control Meas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utoShape 3"/>
          <p:cNvSpPr/>
          <p:nvPr/>
        </p:nvSpPr>
        <p:spPr>
          <a:xfrm rot="2898000">
            <a:off x="3949200" y="3346560"/>
            <a:ext cx="1457640" cy="150156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4"/>
          <p:cNvSpPr/>
          <p:nvPr/>
        </p:nvSpPr>
        <p:spPr>
          <a:xfrm rot="2898000">
            <a:off x="4098600" y="3072960"/>
            <a:ext cx="1457280" cy="150192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5"/>
          <p:cNvSpPr/>
          <p:nvPr/>
        </p:nvSpPr>
        <p:spPr>
          <a:xfrm rot="2898000">
            <a:off x="3949200" y="2789640"/>
            <a:ext cx="1457280" cy="150156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393840" y="2016000"/>
            <a:ext cx="1168200" cy="406440"/>
          </a:xfrm>
          <a:prstGeom prst="rightArrowCallout">
            <a:avLst>
              <a:gd name="adj1" fmla="val 30475"/>
              <a:gd name="adj2" fmla="val 37500"/>
              <a:gd name="adj3" fmla="val 56619"/>
              <a:gd name="adj4" fmla="val 70926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7"/>
          <p:cNvSpPr/>
          <p:nvPr/>
        </p:nvSpPr>
        <p:spPr>
          <a:xfrm>
            <a:off x="393840" y="2577960"/>
            <a:ext cx="1168200" cy="406440"/>
          </a:xfrm>
          <a:prstGeom prst="rightArrowCallout">
            <a:avLst>
              <a:gd name="adj1" fmla="val 30475"/>
              <a:gd name="adj2" fmla="val 37500"/>
              <a:gd name="adj3" fmla="val 56619"/>
              <a:gd name="adj4" fmla="val 70926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8"/>
          <p:cNvSpPr/>
          <p:nvPr/>
        </p:nvSpPr>
        <p:spPr>
          <a:xfrm>
            <a:off x="393840" y="3139920"/>
            <a:ext cx="1168200" cy="406440"/>
          </a:xfrm>
          <a:prstGeom prst="rightArrowCallout">
            <a:avLst>
              <a:gd name="adj1" fmla="val 30475"/>
              <a:gd name="adj2" fmla="val 37500"/>
              <a:gd name="adj3" fmla="val 56619"/>
              <a:gd name="adj4" fmla="val 70926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9"/>
          <p:cNvSpPr/>
          <p:nvPr/>
        </p:nvSpPr>
        <p:spPr>
          <a:xfrm>
            <a:off x="393840" y="3701880"/>
            <a:ext cx="1168200" cy="406440"/>
          </a:xfrm>
          <a:prstGeom prst="rightArrowCallout">
            <a:avLst>
              <a:gd name="adj1" fmla="val 30475"/>
              <a:gd name="adj2" fmla="val 37500"/>
              <a:gd name="adj3" fmla="val 56619"/>
              <a:gd name="adj4" fmla="val 70926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AutoShape 10"/>
          <p:cNvSpPr/>
          <p:nvPr/>
        </p:nvSpPr>
        <p:spPr>
          <a:xfrm>
            <a:off x="393840" y="4264200"/>
            <a:ext cx="1168200" cy="406080"/>
          </a:xfrm>
          <a:prstGeom prst="rightArrowCallout">
            <a:avLst>
              <a:gd name="adj1" fmla="val 30475"/>
              <a:gd name="adj2" fmla="val 37500"/>
              <a:gd name="adj3" fmla="val 56670"/>
              <a:gd name="adj4" fmla="val 70926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11"/>
          <p:cNvSpPr/>
          <p:nvPr/>
        </p:nvSpPr>
        <p:spPr>
          <a:xfrm>
            <a:off x="393840" y="4826160"/>
            <a:ext cx="1168200" cy="406080"/>
          </a:xfrm>
          <a:prstGeom prst="rightArrowCallout">
            <a:avLst>
              <a:gd name="adj1" fmla="val 30475"/>
              <a:gd name="adj2" fmla="val 37500"/>
              <a:gd name="adj3" fmla="val 56670"/>
              <a:gd name="adj4" fmla="val 70926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utoShape 12"/>
          <p:cNvSpPr/>
          <p:nvPr/>
        </p:nvSpPr>
        <p:spPr>
          <a:xfrm>
            <a:off x="393840" y="5389560"/>
            <a:ext cx="1168200" cy="406440"/>
          </a:xfrm>
          <a:prstGeom prst="rightArrowCallout">
            <a:avLst>
              <a:gd name="adj1" fmla="val 30475"/>
              <a:gd name="adj2" fmla="val 37500"/>
              <a:gd name="adj3" fmla="val 56619"/>
              <a:gd name="adj4" fmla="val 70926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AutoShape 13"/>
          <p:cNvSpPr/>
          <p:nvPr/>
        </p:nvSpPr>
        <p:spPr>
          <a:xfrm>
            <a:off x="7562880" y="2413080"/>
            <a:ext cx="111132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AutoShape 14"/>
          <p:cNvSpPr/>
          <p:nvPr/>
        </p:nvSpPr>
        <p:spPr>
          <a:xfrm>
            <a:off x="7562880" y="3692520"/>
            <a:ext cx="111132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utoShape 15"/>
          <p:cNvSpPr/>
          <p:nvPr/>
        </p:nvSpPr>
        <p:spPr>
          <a:xfrm>
            <a:off x="7562880" y="4332240"/>
            <a:ext cx="111132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AutoShape 16"/>
          <p:cNvSpPr/>
          <p:nvPr/>
        </p:nvSpPr>
        <p:spPr>
          <a:xfrm>
            <a:off x="7562880" y="3052800"/>
            <a:ext cx="111132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Group 17"/>
          <p:cNvGrpSpPr/>
          <p:nvPr/>
        </p:nvGrpSpPr>
        <p:grpSpPr>
          <a:xfrm>
            <a:off x="1657440" y="2328840"/>
            <a:ext cx="1025280" cy="2820960"/>
            <a:chOff x="1657440" y="2328840"/>
            <a:chExt cx="1025280" cy="2820960"/>
          </a:xfrm>
        </p:grpSpPr>
        <p:sp>
          <p:nvSpPr>
            <p:cNvPr id="87" name="Oval 18"/>
            <p:cNvSpPr/>
            <p:nvPr/>
          </p:nvSpPr>
          <p:spPr>
            <a:xfrm>
              <a:off x="1657440" y="3089160"/>
              <a:ext cx="1025280" cy="53964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Oval 19"/>
            <p:cNvSpPr/>
            <p:nvPr/>
          </p:nvSpPr>
          <p:spPr>
            <a:xfrm>
              <a:off x="1657440" y="4610160"/>
              <a:ext cx="1025280" cy="53964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Oval 20"/>
            <p:cNvSpPr/>
            <p:nvPr/>
          </p:nvSpPr>
          <p:spPr>
            <a:xfrm>
              <a:off x="1657440" y="2328840"/>
              <a:ext cx="1025280" cy="53964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Oval 21"/>
            <p:cNvSpPr/>
            <p:nvPr/>
          </p:nvSpPr>
          <p:spPr>
            <a:xfrm>
              <a:off x="1657440" y="3849480"/>
              <a:ext cx="1025280" cy="54000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Text Box 22"/>
          <p:cNvSpPr/>
          <p:nvPr/>
        </p:nvSpPr>
        <p:spPr>
          <a:xfrm>
            <a:off x="1403280" y="5734080"/>
            <a:ext cx="1352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imination meas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3011400" y="5667480"/>
            <a:ext cx="13701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vention meas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24"/>
          <p:cNvSpPr/>
          <p:nvPr/>
        </p:nvSpPr>
        <p:spPr>
          <a:xfrm>
            <a:off x="2152800" y="1219320"/>
            <a:ext cx="2498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active Contr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25"/>
          <p:cNvSpPr/>
          <p:nvPr/>
        </p:nvSpPr>
        <p:spPr>
          <a:xfrm>
            <a:off x="5715000" y="5715000"/>
            <a:ext cx="1257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tigation meas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26"/>
          <p:cNvSpPr/>
          <p:nvPr/>
        </p:nvSpPr>
        <p:spPr>
          <a:xfrm>
            <a:off x="5372280" y="1219320"/>
            <a:ext cx="2392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active Contr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Group 27"/>
          <p:cNvGrpSpPr/>
          <p:nvPr/>
        </p:nvGrpSpPr>
        <p:grpSpPr>
          <a:xfrm>
            <a:off x="2849400" y="1781280"/>
            <a:ext cx="922320" cy="3372840"/>
            <a:chOff x="2849400" y="1781280"/>
            <a:chExt cx="922320" cy="3372840"/>
          </a:xfrm>
        </p:grpSpPr>
        <p:grpSp>
          <p:nvGrpSpPr>
            <p:cNvPr id="97" name="Group 28"/>
            <p:cNvGrpSpPr/>
            <p:nvPr/>
          </p:nvGrpSpPr>
          <p:grpSpPr>
            <a:xfrm>
              <a:off x="3382560" y="2050920"/>
              <a:ext cx="128520" cy="2296440"/>
              <a:chOff x="3382560" y="2050920"/>
              <a:chExt cx="128520" cy="2296440"/>
            </a:xfrm>
          </p:grpSpPr>
          <p:sp>
            <p:nvSpPr>
              <p:cNvPr id="98" name="Rectangle 29"/>
              <p:cNvSpPr/>
              <p:nvPr/>
            </p:nvSpPr>
            <p:spPr>
              <a:xfrm>
                <a:off x="3390480" y="3258720"/>
                <a:ext cx="120600" cy="1088640"/>
              </a:xfrm>
              <a:prstGeom prst="rect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Rectangle 30"/>
              <p:cNvSpPr/>
              <p:nvPr/>
            </p:nvSpPr>
            <p:spPr>
              <a:xfrm>
                <a:off x="3382560" y="2050920"/>
                <a:ext cx="120600" cy="1088640"/>
              </a:xfrm>
              <a:prstGeom prst="rect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0" name="Group 31"/>
            <p:cNvGrpSpPr/>
            <p:nvPr/>
          </p:nvGrpSpPr>
          <p:grpSpPr>
            <a:xfrm>
              <a:off x="2849400" y="1781280"/>
              <a:ext cx="128520" cy="3372840"/>
              <a:chOff x="2849400" y="1781280"/>
              <a:chExt cx="128520" cy="3372840"/>
            </a:xfrm>
          </p:grpSpPr>
          <p:sp>
            <p:nvSpPr>
              <p:cNvPr id="101" name="Rectangle 32"/>
              <p:cNvSpPr/>
              <p:nvPr/>
            </p:nvSpPr>
            <p:spPr>
              <a:xfrm>
                <a:off x="2849400" y="1781280"/>
                <a:ext cx="122040" cy="1088640"/>
              </a:xfrm>
              <a:prstGeom prst="rect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Rectangle 33"/>
              <p:cNvSpPr/>
              <p:nvPr/>
            </p:nvSpPr>
            <p:spPr>
              <a:xfrm>
                <a:off x="2852280" y="2958840"/>
                <a:ext cx="122400" cy="1088640"/>
              </a:xfrm>
              <a:prstGeom prst="rect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Rectangle 34"/>
              <p:cNvSpPr/>
              <p:nvPr/>
            </p:nvSpPr>
            <p:spPr>
              <a:xfrm>
                <a:off x="2858760" y="4313160"/>
                <a:ext cx="119160" cy="840960"/>
              </a:xfrm>
              <a:prstGeom prst="rect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4" name="Group 35"/>
            <p:cNvGrpSpPr/>
            <p:nvPr/>
          </p:nvGrpSpPr>
          <p:grpSpPr>
            <a:xfrm>
              <a:off x="3115800" y="2016000"/>
              <a:ext cx="128520" cy="2420280"/>
              <a:chOff x="3115800" y="2016000"/>
              <a:chExt cx="128520" cy="2420280"/>
            </a:xfrm>
          </p:grpSpPr>
          <p:sp>
            <p:nvSpPr>
              <p:cNvPr id="105" name="Rectangle 36"/>
              <p:cNvSpPr/>
              <p:nvPr/>
            </p:nvSpPr>
            <p:spPr>
              <a:xfrm>
                <a:off x="3123720" y="3496680"/>
                <a:ext cx="120600" cy="939600"/>
              </a:xfrm>
              <a:prstGeom prst="rect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Rectangle 37"/>
              <p:cNvSpPr/>
              <p:nvPr/>
            </p:nvSpPr>
            <p:spPr>
              <a:xfrm>
                <a:off x="3115800" y="2016000"/>
                <a:ext cx="120600" cy="1088640"/>
              </a:xfrm>
              <a:prstGeom prst="rect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" name="Rectangle 38"/>
            <p:cNvSpPr/>
            <p:nvPr/>
          </p:nvSpPr>
          <p:spPr>
            <a:xfrm>
              <a:off x="3651120" y="2841480"/>
              <a:ext cx="120600" cy="1088640"/>
            </a:xfrm>
            <a:prstGeom prst="rect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" name="Group 39"/>
          <p:cNvGrpSpPr/>
          <p:nvPr/>
        </p:nvGrpSpPr>
        <p:grpSpPr>
          <a:xfrm>
            <a:off x="5911200" y="2271240"/>
            <a:ext cx="124200" cy="2280960"/>
            <a:chOff x="5911200" y="2271240"/>
            <a:chExt cx="124200" cy="2280960"/>
          </a:xfrm>
        </p:grpSpPr>
        <p:sp>
          <p:nvSpPr>
            <p:cNvPr id="109" name="Rectangle 40"/>
            <p:cNvSpPr/>
            <p:nvPr/>
          </p:nvSpPr>
          <p:spPr>
            <a:xfrm rot="10789200">
              <a:off x="5912640" y="2271240"/>
              <a:ext cx="120600" cy="9396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Rectangle 41"/>
            <p:cNvSpPr/>
            <p:nvPr/>
          </p:nvSpPr>
          <p:spPr>
            <a:xfrm rot="10789200">
              <a:off x="5913000" y="3462840"/>
              <a:ext cx="120600" cy="10890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Rectangle 42"/>
          <p:cNvSpPr/>
          <p:nvPr/>
        </p:nvSpPr>
        <p:spPr>
          <a:xfrm rot="10789200">
            <a:off x="5633640" y="2840760"/>
            <a:ext cx="120600" cy="1089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43"/>
          <p:cNvSpPr/>
          <p:nvPr/>
        </p:nvSpPr>
        <p:spPr>
          <a:xfrm>
            <a:off x="2587680" y="3330720"/>
            <a:ext cx="4232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AutoShape 44"/>
          <p:cNvSpPr/>
          <p:nvPr/>
        </p:nvSpPr>
        <p:spPr>
          <a:xfrm rot="5280000">
            <a:off x="6878520" y="3041280"/>
            <a:ext cx="438120" cy="55584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AutoShape 45"/>
          <p:cNvSpPr/>
          <p:nvPr/>
        </p:nvSpPr>
        <p:spPr>
          <a:xfrm rot="2898000">
            <a:off x="3949200" y="2581560"/>
            <a:ext cx="1457280" cy="150156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46"/>
          <p:cNvSpPr/>
          <p:nvPr/>
        </p:nvSpPr>
        <p:spPr>
          <a:xfrm>
            <a:off x="4115880" y="3121200"/>
            <a:ext cx="99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cid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47"/>
          <p:cNvSpPr/>
          <p:nvPr/>
        </p:nvSpPr>
        <p:spPr>
          <a:xfrm>
            <a:off x="1677960" y="31971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azar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48"/>
          <p:cNvSpPr/>
          <p:nvPr/>
        </p:nvSpPr>
        <p:spPr>
          <a:xfrm>
            <a:off x="381960" y="319716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us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49"/>
          <p:cNvSpPr/>
          <p:nvPr/>
        </p:nvSpPr>
        <p:spPr>
          <a:xfrm>
            <a:off x="7622640" y="31212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Group 50"/>
          <p:cNvGrpSpPr/>
          <p:nvPr/>
        </p:nvGrpSpPr>
        <p:grpSpPr>
          <a:xfrm>
            <a:off x="6187680" y="2353680"/>
            <a:ext cx="124200" cy="2251440"/>
            <a:chOff x="6187680" y="2353680"/>
            <a:chExt cx="124200" cy="2251440"/>
          </a:xfrm>
        </p:grpSpPr>
        <p:sp>
          <p:nvSpPr>
            <p:cNvPr id="120" name="Rectangle 51"/>
            <p:cNvSpPr/>
            <p:nvPr/>
          </p:nvSpPr>
          <p:spPr>
            <a:xfrm rot="10789200">
              <a:off x="6189480" y="2353680"/>
              <a:ext cx="120600" cy="10890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tangle 52"/>
            <p:cNvSpPr/>
            <p:nvPr/>
          </p:nvSpPr>
          <p:spPr>
            <a:xfrm rot="10789200">
              <a:off x="6189480" y="3515760"/>
              <a:ext cx="120600" cy="10890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Group 53"/>
          <p:cNvGrpSpPr/>
          <p:nvPr/>
        </p:nvGrpSpPr>
        <p:grpSpPr>
          <a:xfrm>
            <a:off x="6464880" y="1715760"/>
            <a:ext cx="124560" cy="3438000"/>
            <a:chOff x="6464880" y="1715760"/>
            <a:chExt cx="124560" cy="3438000"/>
          </a:xfrm>
        </p:grpSpPr>
        <p:sp>
          <p:nvSpPr>
            <p:cNvPr id="123" name="Rectangle 54"/>
            <p:cNvSpPr/>
            <p:nvPr/>
          </p:nvSpPr>
          <p:spPr>
            <a:xfrm rot="10789200">
              <a:off x="6467400" y="2775960"/>
              <a:ext cx="120240" cy="1088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Rectangle 55"/>
            <p:cNvSpPr/>
            <p:nvPr/>
          </p:nvSpPr>
          <p:spPr>
            <a:xfrm rot="10789200">
              <a:off x="6465960" y="1715760"/>
              <a:ext cx="118800" cy="8409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Rectangle 56"/>
            <p:cNvSpPr/>
            <p:nvPr/>
          </p:nvSpPr>
          <p:spPr>
            <a:xfrm rot="10789200">
              <a:off x="6467400" y="4064400"/>
              <a:ext cx="120240" cy="10890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Text Box 57"/>
          <p:cNvSpPr/>
          <p:nvPr/>
        </p:nvSpPr>
        <p:spPr>
          <a:xfrm>
            <a:off x="6629400" y="5105520"/>
            <a:ext cx="2514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ergency Respon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Line 58"/>
          <p:cNvSpPr/>
          <p:nvPr/>
        </p:nvSpPr>
        <p:spPr>
          <a:xfrm flipV="1">
            <a:off x="2484360" y="5232240"/>
            <a:ext cx="365040" cy="57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Line 59"/>
          <p:cNvSpPr/>
          <p:nvPr/>
        </p:nvSpPr>
        <p:spPr>
          <a:xfrm flipH="1" flipV="1">
            <a:off x="3370320" y="4437000"/>
            <a:ext cx="325440" cy="12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Line 60"/>
          <p:cNvSpPr/>
          <p:nvPr/>
        </p:nvSpPr>
        <p:spPr>
          <a:xfrm flipV="1">
            <a:off x="5257800" y="4419720"/>
            <a:ext cx="382680" cy="11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Line 61"/>
          <p:cNvSpPr/>
          <p:nvPr/>
        </p:nvSpPr>
        <p:spPr>
          <a:xfrm flipH="1" flipV="1">
            <a:off x="6697800" y="4690800"/>
            <a:ext cx="44532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62"/>
          <p:cNvSpPr/>
          <p:nvPr/>
        </p:nvSpPr>
        <p:spPr>
          <a:xfrm>
            <a:off x="4419720" y="5410080"/>
            <a:ext cx="12668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tection and Contr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AutoShape 64"/>
          <p:cNvSpPr/>
          <p:nvPr/>
        </p:nvSpPr>
        <p:spPr>
          <a:xfrm>
            <a:off x="7543800" y="1784520"/>
            <a:ext cx="111132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AutoShape 65"/>
          <p:cNvSpPr/>
          <p:nvPr/>
        </p:nvSpPr>
        <p:spPr>
          <a:xfrm>
            <a:off x="393840" y="1463760"/>
            <a:ext cx="1168200" cy="406440"/>
          </a:xfrm>
          <a:prstGeom prst="rightArrowCallout">
            <a:avLst>
              <a:gd name="adj1" fmla="val 30475"/>
              <a:gd name="adj2" fmla="val 37500"/>
              <a:gd name="adj3" fmla="val 56619"/>
              <a:gd name="adj4" fmla="val 70926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Line 59"/>
          <p:cNvSpPr/>
          <p:nvPr/>
        </p:nvSpPr>
        <p:spPr>
          <a:xfrm flipH="1" flipV="1">
            <a:off x="6019920" y="4647960"/>
            <a:ext cx="3045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6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989A-254F-4146-B997-45A66BCF18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537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egration with the lifecycle of a Facil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4362480" cy="4162680"/>
          </a:xfrm>
          <a:prstGeom prst="rect">
            <a:avLst/>
          </a:prstGeom>
          <a:ln w="0">
            <a:noFill/>
          </a:ln>
        </p:spPr>
      </p:pic>
      <p:sp>
        <p:nvSpPr>
          <p:cNvPr id="1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0139-05D7-446D-A13E-B2D564F03D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st of Fire Protection Performa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543800" cy="478152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8933-35C6-466E-877F-D6329387EF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304920" y="76320"/>
            <a:ext cx="7924680" cy="6324480"/>
          </a:xfrm>
          <a:prstGeom prst="rect">
            <a:avLst/>
          </a:prstGeom>
          <a:ln w="0">
            <a:noFill/>
          </a:ln>
        </p:spPr>
      </p:pic>
      <p:sp>
        <p:nvSpPr>
          <p:cNvPr id="143" name="Oval 4"/>
          <p:cNvSpPr/>
          <p:nvPr/>
        </p:nvSpPr>
        <p:spPr>
          <a:xfrm>
            <a:off x="7086600" y="5638680"/>
            <a:ext cx="2057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nagement of Change (MO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EA51-1357-4377-BF75-18FA8BA792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e Hazard Studi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0" y="1523880"/>
            <a:ext cx="7648560" cy="4943520"/>
          </a:xfrm>
          <a:prstGeom prst="rect">
            <a:avLst/>
          </a:prstGeom>
          <a:ln w="0">
            <a:noFill/>
          </a:ln>
        </p:spPr>
      </p:pic>
      <p:sp>
        <p:nvSpPr>
          <p:cNvPr id="147" name="Oval 4"/>
          <p:cNvSpPr/>
          <p:nvPr/>
        </p:nvSpPr>
        <p:spPr>
          <a:xfrm>
            <a:off x="7086600" y="5638680"/>
            <a:ext cx="2057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nagement of Change (MO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B308-C17E-458F-8356-0815C36711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agement Commi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gration to Risk Management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y Factors of a Fire Protection Strate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971C-46A7-4040-A6AB-59F7975004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e Protection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ystematic approach to identifying, reducing, and managing fire haz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4D85-449C-458C-BBDD-B9F7CC212E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rotection of personnel is considered in the design of fire protection system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redible hazards have been identified, assessed, understood, and documente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very opportunity to minimize the hazards has been identified, considered, and, where practical, implemente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capital investment and estimated operating expense is optimized with a view to minimizing hazard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rporate goals can be met for the facility’s lifetim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otential adverse effects on neighbors, community, and the environment are controlle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5CDE-588D-439E-B396-85DE3FDC81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gration of Fire Protection into a Risk Management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419960" cy="5114880"/>
          </a:xfrm>
          <a:prstGeom prst="rect">
            <a:avLst/>
          </a:prstGeom>
          <a:ln w="0">
            <a:noFill/>
          </a:ln>
        </p:spPr>
      </p:pic>
      <p:sp>
        <p:nvSpPr>
          <p:cNvPr id="5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73DD-A6F8-4DF4-854B-4790F924CB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Key Factors of a Fire Protection Strateg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200640" cy="542916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A2BE-C021-4213-9D4E-F29698AF9F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criptive Fire Prot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12360" y="1600200"/>
            <a:ext cx="8302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criptive fire protection is standardized guidance or requirements without recognition of site-specific facto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iance with regulations, insurance requirements, industry practices, or company proced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7FD3-7DA5-4A10-A38E-D539995C7A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formance-based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-based design adopts an objective-based approach to provide a desired level of fire protec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more specific prediction of potential fire hazards for a given system or proces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ed on performance measured against established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7280" indent="-287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ed on Fire Hazard Analysis (FHA) or fire risk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5989-EBD2-4834-AB12-039D0D8D89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xample of a performance-based design state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d Objective th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rocess unit should not exceed $100,000 in damage for any fire in the un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ire should not escalate to additional un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5C4F-37B1-44A1-B263-154318A631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5:34:19Z</dcterms:created>
  <dc:creator>User</dc:creator>
  <dc:description/>
  <dc:language>en-US</dc:language>
  <cp:lastModifiedBy>Tan Dekky Wijaya</cp:lastModifiedBy>
  <dcterms:modified xsi:type="dcterms:W3CDTF">2010-03-03T16:30:12Z</dcterms:modified>
  <cp:revision>15</cp:revision>
  <dc:subject/>
  <dc:title>Fire Protection strategy</dc:title>
</cp:coreProperties>
</file>