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728-7FC7-4018-8FD0-B8D3290A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10C-0821-4C7E-8987-5153D77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888-1D2E-4D48-929A-80707176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C45-D8B0-48A4-8181-C5326210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958-572D-4AD1-BE43-767ADEDF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C7A-1825-4310-A8DF-83295977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FC0-736A-4718-AA51-AAC1FB9A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686-FD9D-4277-86F4-AB81822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2AB-B338-4B98-8166-CF6970C3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748-FDB2-4D77-ADCE-32B64D4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C97-9305-4438-B8FB-597FB46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D2C-E7A8-4456-AF1D-C95DAA76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75D4-093A-4058-8124-1616A2AE6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E57E-C121-43AA-B013-B4F2A42FC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otec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atma Lestari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CA13-8DB9-4A5E-9C5A-B9FA679E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zard Management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32440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0113-658F-4526-A8FB-5F56311C2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480" y="315720"/>
            <a:ext cx="76312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azard Control Mea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3"/>
          <p:cNvSpPr/>
          <p:nvPr/>
        </p:nvSpPr>
        <p:spPr>
          <a:xfrm rot="2898000">
            <a:off x="3949200" y="3346560"/>
            <a:ext cx="1457640" cy="15015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 rot="2898000">
            <a:off x="4098600" y="3072960"/>
            <a:ext cx="1457280" cy="15019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 rot="2898000">
            <a:off x="3949200" y="2789640"/>
            <a:ext cx="1457280" cy="15015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93840" y="201600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93840" y="257796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93840" y="313992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393840" y="370188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93840" y="4264200"/>
            <a:ext cx="1168200" cy="406080"/>
          </a:xfrm>
          <a:prstGeom prst="rightArrowCallout">
            <a:avLst>
              <a:gd name="adj1" fmla="val 30475"/>
              <a:gd name="adj2" fmla="val 37500"/>
              <a:gd name="adj3" fmla="val 56670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393840" y="4826160"/>
            <a:ext cx="1168200" cy="406080"/>
          </a:xfrm>
          <a:prstGeom prst="rightArrowCallout">
            <a:avLst>
              <a:gd name="adj1" fmla="val 30475"/>
              <a:gd name="adj2" fmla="val 37500"/>
              <a:gd name="adj3" fmla="val 56670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393840" y="538956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562880" y="241308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7562880" y="369252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7562880" y="433224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7562880" y="305280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17"/>
          <p:cNvGrpSpPr/>
          <p:nvPr/>
        </p:nvGrpSpPr>
        <p:grpSpPr>
          <a:xfrm>
            <a:off x="1657440" y="2328840"/>
            <a:ext cx="1025280" cy="2820960"/>
            <a:chOff x="1657440" y="2328840"/>
            <a:chExt cx="1025280" cy="2820960"/>
          </a:xfrm>
        </p:grpSpPr>
        <p:sp>
          <p:nvSpPr>
            <p:cNvPr id="87" name="Oval 18"/>
            <p:cNvSpPr/>
            <p:nvPr/>
          </p:nvSpPr>
          <p:spPr>
            <a:xfrm>
              <a:off x="1657440" y="3089160"/>
              <a:ext cx="1025280" cy="5396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19"/>
            <p:cNvSpPr/>
            <p:nvPr/>
          </p:nvSpPr>
          <p:spPr>
            <a:xfrm>
              <a:off x="1657440" y="4610160"/>
              <a:ext cx="1025280" cy="5396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0"/>
            <p:cNvSpPr/>
            <p:nvPr/>
          </p:nvSpPr>
          <p:spPr>
            <a:xfrm>
              <a:off x="1657440" y="2328840"/>
              <a:ext cx="1025280" cy="5396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1"/>
            <p:cNvSpPr/>
            <p:nvPr/>
          </p:nvSpPr>
          <p:spPr>
            <a:xfrm>
              <a:off x="1657440" y="3849480"/>
              <a:ext cx="1025280" cy="5400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1403280" y="5734080"/>
            <a:ext cx="1352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ion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011400" y="5667480"/>
            <a:ext cx="13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ention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2152800" y="1219320"/>
            <a:ext cx="2498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active Contr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5715000" y="5715000"/>
            <a:ext cx="1257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igation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5372280" y="1219320"/>
            <a:ext cx="2392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ctive Contr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27"/>
          <p:cNvGrpSpPr/>
          <p:nvPr/>
        </p:nvGrpSpPr>
        <p:grpSpPr>
          <a:xfrm>
            <a:off x="2849400" y="1781280"/>
            <a:ext cx="922320" cy="3372840"/>
            <a:chOff x="2849400" y="1781280"/>
            <a:chExt cx="922320" cy="3372840"/>
          </a:xfrm>
        </p:grpSpPr>
        <p:grpSp>
          <p:nvGrpSpPr>
            <p:cNvPr id="97" name="Group 28"/>
            <p:cNvGrpSpPr/>
            <p:nvPr/>
          </p:nvGrpSpPr>
          <p:grpSpPr>
            <a:xfrm>
              <a:off x="3382560" y="2050920"/>
              <a:ext cx="128520" cy="2296440"/>
              <a:chOff x="3382560" y="2050920"/>
              <a:chExt cx="128520" cy="2296440"/>
            </a:xfrm>
          </p:grpSpPr>
          <p:sp>
            <p:nvSpPr>
              <p:cNvPr id="98" name="Rectangle 29"/>
              <p:cNvSpPr/>
              <p:nvPr/>
            </p:nvSpPr>
            <p:spPr>
              <a:xfrm>
                <a:off x="3390480" y="3258720"/>
                <a:ext cx="1206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30"/>
              <p:cNvSpPr/>
              <p:nvPr/>
            </p:nvSpPr>
            <p:spPr>
              <a:xfrm>
                <a:off x="3382560" y="2050920"/>
                <a:ext cx="1206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31"/>
            <p:cNvGrpSpPr/>
            <p:nvPr/>
          </p:nvGrpSpPr>
          <p:grpSpPr>
            <a:xfrm>
              <a:off x="2849400" y="1781280"/>
              <a:ext cx="128520" cy="3372840"/>
              <a:chOff x="2849400" y="1781280"/>
              <a:chExt cx="128520" cy="3372840"/>
            </a:xfrm>
          </p:grpSpPr>
          <p:sp>
            <p:nvSpPr>
              <p:cNvPr id="101" name="Rectangle 32"/>
              <p:cNvSpPr/>
              <p:nvPr/>
            </p:nvSpPr>
            <p:spPr>
              <a:xfrm>
                <a:off x="2849400" y="1781280"/>
                <a:ext cx="12204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33"/>
              <p:cNvSpPr/>
              <p:nvPr/>
            </p:nvSpPr>
            <p:spPr>
              <a:xfrm>
                <a:off x="2852280" y="2958840"/>
                <a:ext cx="1224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34"/>
              <p:cNvSpPr/>
              <p:nvPr/>
            </p:nvSpPr>
            <p:spPr>
              <a:xfrm>
                <a:off x="2858760" y="4313160"/>
                <a:ext cx="119160" cy="8409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Group 35"/>
            <p:cNvGrpSpPr/>
            <p:nvPr/>
          </p:nvGrpSpPr>
          <p:grpSpPr>
            <a:xfrm>
              <a:off x="3115800" y="2016000"/>
              <a:ext cx="128520" cy="2420280"/>
              <a:chOff x="3115800" y="2016000"/>
              <a:chExt cx="128520" cy="2420280"/>
            </a:xfrm>
          </p:grpSpPr>
          <p:sp>
            <p:nvSpPr>
              <p:cNvPr id="105" name="Rectangle 36"/>
              <p:cNvSpPr/>
              <p:nvPr/>
            </p:nvSpPr>
            <p:spPr>
              <a:xfrm>
                <a:off x="3123720" y="3496680"/>
                <a:ext cx="120600" cy="93960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37"/>
              <p:cNvSpPr/>
              <p:nvPr/>
            </p:nvSpPr>
            <p:spPr>
              <a:xfrm>
                <a:off x="3115800" y="2016000"/>
                <a:ext cx="1206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Rectangle 38"/>
            <p:cNvSpPr/>
            <p:nvPr/>
          </p:nvSpPr>
          <p:spPr>
            <a:xfrm>
              <a:off x="3651120" y="2841480"/>
              <a:ext cx="120600" cy="1088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39"/>
          <p:cNvGrpSpPr/>
          <p:nvPr/>
        </p:nvGrpSpPr>
        <p:grpSpPr>
          <a:xfrm>
            <a:off x="5911200" y="2271240"/>
            <a:ext cx="124200" cy="2280960"/>
            <a:chOff x="5911200" y="2271240"/>
            <a:chExt cx="124200" cy="2280960"/>
          </a:xfrm>
        </p:grpSpPr>
        <p:sp>
          <p:nvSpPr>
            <p:cNvPr id="109" name="Rectangle 40"/>
            <p:cNvSpPr/>
            <p:nvPr/>
          </p:nvSpPr>
          <p:spPr>
            <a:xfrm rot="10789200">
              <a:off x="5912640" y="2271240"/>
              <a:ext cx="120600" cy="939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41"/>
            <p:cNvSpPr/>
            <p:nvPr/>
          </p:nvSpPr>
          <p:spPr>
            <a:xfrm rot="10789200">
              <a:off x="5913000" y="3462840"/>
              <a:ext cx="12060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Rectangle 42"/>
          <p:cNvSpPr/>
          <p:nvPr/>
        </p:nvSpPr>
        <p:spPr>
          <a:xfrm rot="10789200">
            <a:off x="5633640" y="2840760"/>
            <a:ext cx="120600" cy="108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2587680" y="3330720"/>
            <a:ext cx="4232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4"/>
          <p:cNvSpPr/>
          <p:nvPr/>
        </p:nvSpPr>
        <p:spPr>
          <a:xfrm rot="5280000">
            <a:off x="6878520" y="3041280"/>
            <a:ext cx="438120" cy="5558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5"/>
          <p:cNvSpPr/>
          <p:nvPr/>
        </p:nvSpPr>
        <p:spPr>
          <a:xfrm rot="2898000">
            <a:off x="3949200" y="2581560"/>
            <a:ext cx="1457280" cy="15015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4115880" y="312120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i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1677960" y="3197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381960" y="319716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7622640" y="3121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50"/>
          <p:cNvGrpSpPr/>
          <p:nvPr/>
        </p:nvGrpSpPr>
        <p:grpSpPr>
          <a:xfrm>
            <a:off x="6187680" y="2353680"/>
            <a:ext cx="124200" cy="2251440"/>
            <a:chOff x="6187680" y="2353680"/>
            <a:chExt cx="124200" cy="2251440"/>
          </a:xfrm>
        </p:grpSpPr>
        <p:sp>
          <p:nvSpPr>
            <p:cNvPr id="120" name="Rectangle 51"/>
            <p:cNvSpPr/>
            <p:nvPr/>
          </p:nvSpPr>
          <p:spPr>
            <a:xfrm rot="10789200">
              <a:off x="6189480" y="2353680"/>
              <a:ext cx="12060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52"/>
            <p:cNvSpPr/>
            <p:nvPr/>
          </p:nvSpPr>
          <p:spPr>
            <a:xfrm rot="10789200">
              <a:off x="6189480" y="3515760"/>
              <a:ext cx="12060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53"/>
          <p:cNvGrpSpPr/>
          <p:nvPr/>
        </p:nvGrpSpPr>
        <p:grpSpPr>
          <a:xfrm>
            <a:off x="6464880" y="1715760"/>
            <a:ext cx="124560" cy="3438000"/>
            <a:chOff x="6464880" y="1715760"/>
            <a:chExt cx="124560" cy="3438000"/>
          </a:xfrm>
        </p:grpSpPr>
        <p:sp>
          <p:nvSpPr>
            <p:cNvPr id="123" name="Rectangle 54"/>
            <p:cNvSpPr/>
            <p:nvPr/>
          </p:nvSpPr>
          <p:spPr>
            <a:xfrm rot="10789200">
              <a:off x="6467400" y="2775960"/>
              <a:ext cx="120240" cy="108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55"/>
            <p:cNvSpPr/>
            <p:nvPr/>
          </p:nvSpPr>
          <p:spPr>
            <a:xfrm rot="10789200">
              <a:off x="6465960" y="1715760"/>
              <a:ext cx="118800" cy="840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56"/>
            <p:cNvSpPr/>
            <p:nvPr/>
          </p:nvSpPr>
          <p:spPr>
            <a:xfrm rot="10789200">
              <a:off x="6467400" y="4064400"/>
              <a:ext cx="12024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 Box 57"/>
          <p:cNvSpPr/>
          <p:nvPr/>
        </p:nvSpPr>
        <p:spPr>
          <a:xfrm>
            <a:off x="6629400" y="5105520"/>
            <a:ext cx="251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58"/>
          <p:cNvSpPr/>
          <p:nvPr/>
        </p:nvSpPr>
        <p:spPr>
          <a:xfrm flipV="1">
            <a:off x="2484360" y="5232240"/>
            <a:ext cx="365040" cy="5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59"/>
          <p:cNvSpPr/>
          <p:nvPr/>
        </p:nvSpPr>
        <p:spPr>
          <a:xfrm flipH="1" flipV="1">
            <a:off x="3370320" y="4437000"/>
            <a:ext cx="325440" cy="12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60"/>
          <p:cNvSpPr/>
          <p:nvPr/>
        </p:nvSpPr>
        <p:spPr>
          <a:xfrm flipV="1">
            <a:off x="5257800" y="4419720"/>
            <a:ext cx="382680" cy="11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61"/>
          <p:cNvSpPr/>
          <p:nvPr/>
        </p:nvSpPr>
        <p:spPr>
          <a:xfrm flipH="1" flipV="1">
            <a:off x="6697800" y="4690800"/>
            <a:ext cx="4453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4419720" y="5410080"/>
            <a:ext cx="12668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ion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64"/>
          <p:cNvSpPr/>
          <p:nvPr/>
        </p:nvSpPr>
        <p:spPr>
          <a:xfrm>
            <a:off x="7543800" y="178452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393840" y="146376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9"/>
          <p:cNvSpPr/>
          <p:nvPr/>
        </p:nvSpPr>
        <p:spPr>
          <a:xfrm flipH="1" flipV="1">
            <a:off x="6019920" y="464796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6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0D1-A64E-4A69-81EF-463F54D81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gration with the lifecycle of a Fac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362480" cy="416268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8562-86F6-4C5D-AA35-5CB6949F5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st of Fire Protection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478152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4812-9C1F-468B-A5D7-9B9BC4D4E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43" name="Oval 4"/>
          <p:cNvSpPr/>
          <p:nvPr/>
        </p:nvSpPr>
        <p:spPr>
          <a:xfrm>
            <a:off x="7086600" y="563868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 of Change (M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D5EC-5715-47ED-A51F-84B9A3050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Hazard Stud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7648560" cy="4943520"/>
          </a:xfrm>
          <a:prstGeom prst="rect">
            <a:avLst/>
          </a:prstGeom>
          <a:ln w="0">
            <a:noFill/>
          </a:ln>
        </p:spPr>
      </p:pic>
      <p:sp>
        <p:nvSpPr>
          <p:cNvPr id="147" name="Oval 4"/>
          <p:cNvSpPr/>
          <p:nvPr/>
        </p:nvSpPr>
        <p:spPr>
          <a:xfrm>
            <a:off x="7086600" y="563868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 of Change (M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2AA-D2D0-4089-8136-4642CEB75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ment Commi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 to Risk Management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Factors of a Fire Protection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3840-CAF0-462A-A815-4C325AC79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otec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ystematic approach to identifying, reducing, and managing fire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82F0-54CD-4ED8-96DA-AB4A1D6F6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tection of personnel is considered in the design of fire protection syst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edible hazards have been identified, assessed, understood, and document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very opportunity to minimize the hazards has been identified, considered, and, where practical, implement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apital investment and estimated operating expense is optimized with a view to minimizing haz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rporate goals can be met for the facility’s lifeti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tential adverse effects on neighbors, community, and the environment are controll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39C6-CDB5-42D7-8164-5D1F99554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ion of Fire Protection into a Risk Management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19960" cy="511488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97E8-3E74-4C20-A352-37C57C074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Factors of a Fire Protectio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00640" cy="542916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8889-42C5-43E3-BD34-D3A8249DC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criptive Fire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ptive fire protection is standardized guidance or requirements without recognition of site-specific fa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ance with regulations, insurance requirements, industry practices, or company proced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F8A1-A83B-4C5D-81B5-671CB97F5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-based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-based design adopts an objective-based approach to provide a desired level of fire prote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ore specific prediction of potential fire hazards for a given system or pro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performance measured against establishe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Fire Hazard Analysis (FHA) or fire risk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B7D1-CDC8-4955-AEF6-F7332ED2F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of a performance-based design stat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d Objective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cess unit should not exceed $100,000 in damage for any fire in the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e should not escalate to additional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B406-90A9-49D2-A7A1-5BB7201F8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5:34:19Z</dcterms:created>
  <dc:creator>User</dc:creator>
  <dc:description/>
  <dc:language>en-US</dc:language>
  <cp:lastModifiedBy>Tan Dekky Wijaya</cp:lastModifiedBy>
  <dcterms:modified xsi:type="dcterms:W3CDTF">2010-03-03T16:30:12Z</dcterms:modified>
  <cp:revision>15</cp:revision>
  <dc:subject/>
  <dc:title>Fire Protection strategy</dc:title>
</cp:coreProperties>
</file>