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1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3.wmf" ContentType="image/x-wmf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38.wmf" ContentType="image/x-wmf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550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C5CFA-5BF2-4242-B8BD-40967204D8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254FE-5E39-4F77-B35A-E46BB0FE84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90BCF-7110-4062-8AEF-DDB17ABB40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31E22-D7C5-4D24-A1C4-6CC13F3BA7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26118-41AA-497B-8A70-00F7C3EDE2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BEFF4-55AD-4294-871B-76B975FA0F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94D70-3205-4DE2-A06A-C669B43E00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3D85D-1F50-42FE-82E1-2A98694642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ECCC5-3CE1-45F8-B870-4A45BD9CD5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809F9-CE02-465D-9579-76FE23BADC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CF051-46EB-4750-9727-90C9CA35A3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8A6C9-FB5A-49F0-AC58-D128977E66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4175-0FE9-4C5F-B737-BB23F9F8E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fffcmpa" descr=""/>
          <p:cNvPicPr/>
          <p:nvPr/>
        </p:nvPicPr>
        <p:blipFill>
          <a:blip r:embed="rId2"/>
          <a:stretch/>
        </p:blipFill>
        <p:spPr>
          <a:xfrm>
            <a:off x="0" y="6562800"/>
            <a:ext cx="1447920" cy="28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22.xml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file:///../../../enzimas/vitaminas.ppt" TargetMode="Externa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file:///coenzimas.ppt" TargetMode="External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figure-01-22" descr=""/>
          <p:cNvPicPr/>
          <p:nvPr/>
        </p:nvPicPr>
        <p:blipFill>
          <a:blip r:embed="rId1"/>
          <a:stretch/>
        </p:blipFill>
        <p:spPr>
          <a:xfrm>
            <a:off x="-1143000" y="-457200"/>
            <a:ext cx="11049120" cy="74404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ENZIMAS</a:t>
            </a:r>
            <a:endParaRPr b="0" lang="en-US" sz="6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229720" y="6248520"/>
            <a:ext cx="39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rofª Drª Ângela de Mattos Du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Enzimas - Histórico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304920" y="91404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Pasteur (± 1850)                          </a:t>
            </a:r>
            <a:r>
              <a:rPr b="0" lang="pt-BR" sz="4000" spc="-1" strike="noStrike">
                <a:solidFill>
                  <a:srgbClr val="3333ff"/>
                </a:solidFill>
                <a:latin typeface="Arial"/>
              </a:rPr>
              <a:t>                                       </a:t>
            </a:r>
            <a:r>
              <a:rPr b="0" lang="pt-BR" sz="4000" spc="-1" strike="noStrike">
                <a:solidFill>
                  <a:srgbClr val="3333ff"/>
                </a:solidFill>
                <a:latin typeface="Symbol"/>
                <a:ea typeface="Symbol"/>
              </a:rPr>
              <a:t></a:t>
            </a:r>
            <a:r>
              <a:rPr b="0" lang="pt-BR" sz="4000" spc="-1" strike="noStrike">
                <a:solidFill>
                  <a:srgbClr val="3333ff"/>
                </a:solidFill>
                <a:latin typeface="Arial"/>
              </a:rPr>
              <a:t>      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ermentos” eram inseparáveis das cél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ff"/>
                </a:solidFill>
                <a:latin typeface="Arial"/>
              </a:rPr>
              <a:t>                              </a:t>
            </a:r>
            <a:r>
              <a:rPr b="0" lang="pt-BR" sz="4000" spc="-1" strike="noStrike">
                <a:solidFill>
                  <a:srgbClr val="3333ff"/>
                </a:solidFill>
                <a:latin typeface="Symbol"/>
                <a:ea typeface="Symbol"/>
              </a:rPr>
              <a:t>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duard Buchner (1897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3200" spc="-1" strike="noStrike">
                <a:solidFill>
                  <a:srgbClr val="3333ff"/>
                </a:solidFill>
                <a:latin typeface="Arial"/>
              </a:rPr>
              <a:t>Extratos de levedo (livre de célul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52360" y="5486400"/>
            <a:ext cx="1540080" cy="459720"/>
          </a:xfrm>
          <a:prstGeom prst="rect">
            <a:avLst/>
          </a:prstGeom>
          <a:solidFill>
            <a:srgbClr val="ddddd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ÇUC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5486400"/>
            <a:ext cx="2819520" cy="533520"/>
          </a:xfrm>
          <a:prstGeom prst="rightArrow">
            <a:avLst>
              <a:gd name="adj1" fmla="val 50000"/>
              <a:gd name="adj2" fmla="val 13211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rment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98160" y="5486400"/>
            <a:ext cx="1416600" cy="459720"/>
          </a:xfrm>
          <a:prstGeom prst="rect">
            <a:avLst/>
          </a:prstGeom>
          <a:solidFill>
            <a:srgbClr val="dddddd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ÁLC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67080" y="4724280"/>
            <a:ext cx="0" cy="76212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Enzimas - Histórico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ício do Século XX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5 enzima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soladas e cristaliz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cou evidenciado caráter proté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ualm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de 2000 enzimas são conhec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Enzimas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3200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teínas especializ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3320" y="4876920"/>
            <a:ext cx="519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eleram reações quím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236232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67080" y="396252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3200400"/>
            <a:ext cx="53341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4876920"/>
            <a:ext cx="5410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52680" y="1447920"/>
            <a:ext cx="23623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Enzimas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808080"/>
              </a:buClr>
              <a:buFont typeface="Arial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talisadores de reações nos sistemas biológ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8080"/>
              </a:buClr>
              <a:buFont typeface="Arial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nde eficiência catalític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8080"/>
              </a:buClr>
              <a:buFont typeface="Arial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to grau de especificidade por seus substra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8080"/>
              </a:buClr>
              <a:buFont typeface="Arial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iona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 soluções aquo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 pH e temperaturas fisiológ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 rot="19881000">
            <a:off x="5790960" y="3123720"/>
            <a:ext cx="228600" cy="671760"/>
          </a:xfrm>
          <a:prstGeom prst="downArrow">
            <a:avLst>
              <a:gd name="adj1" fmla="val 50000"/>
              <a:gd name="adj2" fmla="val 73465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929000">
            <a:off x="4723920" y="3123720"/>
            <a:ext cx="228600" cy="671760"/>
          </a:xfrm>
          <a:prstGeom prst="downArrow">
            <a:avLst>
              <a:gd name="adj1" fmla="val 50000"/>
              <a:gd name="adj2" fmla="val 73465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Enzimas 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3800" y="2743200"/>
            <a:ext cx="1704600" cy="520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5680" y="2819520"/>
            <a:ext cx="17046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Arial"/>
              </a:rPr>
              <a:t>Riboz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3962520"/>
            <a:ext cx="121896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Arial"/>
              </a:rPr>
              <a:t>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15000" y="3886200"/>
            <a:ext cx="16765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3886200"/>
            <a:ext cx="209700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jug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29280" y="6172200"/>
            <a:ext cx="178704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loenz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15000" y="5029200"/>
            <a:ext cx="205740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oenz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47640" y="5029200"/>
            <a:ext cx="301824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fator</a:t>
            </a:r>
            <a:r>
              <a:rPr b="0" lang="pt-BR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pt-BR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poenz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5543400">
            <a:off x="4685760" y="1711080"/>
            <a:ext cx="1219320" cy="68580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 rot="5544000">
            <a:off x="1815840" y="1829880"/>
            <a:ext cx="1220760" cy="604800"/>
          </a:xfrm>
          <a:custGeom>
            <a:avLst/>
            <a:gdLst>
              <a:gd name="textAreaLeft" fmla="*/ 0 w 1220760"/>
              <a:gd name="textAreaRight" fmla="*/ 1221120 w 1220760"/>
              <a:gd name="textAreaTop" fmla="*/ 360 h 604800"/>
              <a:gd name="textAreaBottom" fmla="*/ 605520 h 604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9680" y="327672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43434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91120" y="54864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426708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1066680"/>
            <a:ext cx="2286000" cy="1068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rutu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imá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Enzimas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xceçã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de um pequeno grupo de moléculas de  RNA que possuem atividade enzimática e são chamadas d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RIBOZIMA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todas as 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enzima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ão 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PROTEÍ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Arial"/>
              </a:rPr>
              <a:t>Enzimas</a:t>
            </a:r>
            <a:endParaRPr b="0" lang="en-US" sz="4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19520" y="1752480"/>
            <a:ext cx="3602160" cy="76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Arial"/>
              </a:rPr>
              <a:t>Catalisad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88920" y="3200400"/>
            <a:ext cx="77061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Aumentam a velocidade das reaçõ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2040" y="4952880"/>
            <a:ext cx="83433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Atuam diminuindo a energia de ativ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67080" y="1066680"/>
            <a:ext cx="304920" cy="685800"/>
          </a:xfrm>
          <a:prstGeom prst="downArrow">
            <a:avLst>
              <a:gd name="adj1" fmla="val 50000"/>
              <a:gd name="adj2" fmla="val 56228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91120" y="251460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88620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Enzimas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ia de ativ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erença entre os níveis de energia do estado basal e do estado de transi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F04_49" descr=""/>
          <p:cNvPicPr/>
          <p:nvPr/>
        </p:nvPicPr>
        <p:blipFill>
          <a:blip r:embed="rId1"/>
          <a:stretch/>
        </p:blipFill>
        <p:spPr>
          <a:xfrm>
            <a:off x="1905120" y="2340000"/>
            <a:ext cx="632448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Representação esquemática das alterações de energia que acompanham a formação do complexo ES, do estado de transição e a subseqüente liberação do produto da reação 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MG2" descr=""/>
          <p:cNvPicPr/>
          <p:nvPr/>
        </p:nvPicPr>
        <p:blipFill>
          <a:blip r:embed="rId1"/>
          <a:stretch/>
        </p:blipFill>
        <p:spPr>
          <a:xfrm>
            <a:off x="-609480" y="1523880"/>
            <a:ext cx="11201400" cy="50612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Papel da enzima no aumento da velocidade de reação através da redução da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entropia</a:t>
            </a:r>
            <a:endParaRPr b="0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142" name="F04_56" descr=""/>
          <p:cNvPicPr/>
          <p:nvPr/>
        </p:nvPicPr>
        <p:blipFill>
          <a:blip r:embed="rId2"/>
          <a:stretch/>
        </p:blipFill>
        <p:spPr>
          <a:xfrm>
            <a:off x="2286000" y="1828800"/>
            <a:ext cx="47894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Enzimas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8377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mportância Bioméd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istó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aracterísticas Ger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trutura Enzim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nzimas como Catalis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ponentes da Reação Enzim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igação Enzima-Substr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priedades das Enz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fa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Entropia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ressão Termodinâmica,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, que define a extensão da desordem num sistem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800100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8280" y="4343400"/>
            <a:ext cx="8233560" cy="64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EQULÍBRIO a desordem é MÁXI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Enzimas</a:t>
            </a:r>
            <a:br>
              <a:rPr sz="4400"/>
            </a:b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Componentes da Reação Enzimática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4680" y="2057400"/>
            <a:ext cx="877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n-US" sz="6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6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660033"/>
                </a:solidFill>
                <a:latin typeface="Arial"/>
              </a:rPr>
              <a:t>S</a:t>
            </a:r>
            <a:r>
              <a:rPr b="0" lang="en-US" sz="6000" spc="-1" strike="noStrike">
                <a:solidFill>
                  <a:srgbClr val="fafd00"/>
                </a:solidFill>
                <a:latin typeface="Arial"/>
              </a:rPr>
              <a:t>        </a:t>
            </a: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n-US" sz="6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660033"/>
                </a:solidFill>
                <a:latin typeface="Arial"/>
              </a:rPr>
              <a:t>S</a:t>
            </a:r>
            <a:r>
              <a:rPr b="0" lang="en-US" sz="6000" spc="-1" strike="noStrike">
                <a:solidFill>
                  <a:srgbClr val="fafd00"/>
                </a:solidFill>
                <a:latin typeface="Arial"/>
              </a:rPr>
              <a:t>        </a:t>
            </a: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n-US" sz="6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6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514600" y="2514600"/>
            <a:ext cx="1066680" cy="152280"/>
            <a:chOff x="2514600" y="2514600"/>
            <a:chExt cx="1066680" cy="152280"/>
          </a:xfrm>
        </p:grpSpPr>
        <p:sp>
          <p:nvSpPr>
            <p:cNvPr id="150" name=""/>
            <p:cNvSpPr/>
            <p:nvPr/>
          </p:nvSpPr>
          <p:spPr>
            <a:xfrm>
              <a:off x="2514600" y="2514600"/>
              <a:ext cx="106668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14600" y="2666880"/>
              <a:ext cx="106668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334120" y="2514600"/>
            <a:ext cx="1066680" cy="152280"/>
            <a:chOff x="5334120" y="2514600"/>
            <a:chExt cx="1066680" cy="152280"/>
          </a:xfrm>
        </p:grpSpPr>
        <p:sp>
          <p:nvSpPr>
            <p:cNvPr id="153" name=""/>
            <p:cNvSpPr/>
            <p:nvPr/>
          </p:nvSpPr>
          <p:spPr>
            <a:xfrm>
              <a:off x="5334120" y="2514600"/>
              <a:ext cx="106668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666880"/>
              <a:ext cx="106668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049760" y="3673440"/>
            <a:ext cx="6368400" cy="2043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Enz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Substrato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Complexo Enzima -Subst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Produto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Enzimas</a:t>
            </a:r>
            <a:br>
              <a:rPr sz="4400"/>
            </a:b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Componentes da Reação Enzimática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4280" y="2057400"/>
            <a:ext cx="856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n-US" sz="6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6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660033"/>
                </a:solidFill>
                <a:latin typeface="Arial"/>
              </a:rPr>
              <a:t>S</a:t>
            </a:r>
            <a:r>
              <a:rPr b="0" lang="en-US" sz="6000" spc="-1" strike="noStrike">
                <a:solidFill>
                  <a:srgbClr val="fafd00"/>
                </a:solidFill>
                <a:latin typeface="Arial"/>
              </a:rPr>
              <a:t>        </a:t>
            </a: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n-US" sz="6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660033"/>
                </a:solidFill>
                <a:latin typeface="Arial"/>
              </a:rPr>
              <a:t>S</a:t>
            </a:r>
            <a:r>
              <a:rPr b="0" lang="en-US" sz="6000" spc="-1" strike="noStrike">
                <a:solidFill>
                  <a:srgbClr val="fafd00"/>
                </a:solidFill>
                <a:latin typeface="Arial"/>
              </a:rPr>
              <a:t>       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6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334120" y="2514600"/>
            <a:ext cx="1066680" cy="152280"/>
            <a:chOff x="5334120" y="2514600"/>
            <a:chExt cx="1066680" cy="152280"/>
          </a:xfrm>
        </p:grpSpPr>
        <p:sp>
          <p:nvSpPr>
            <p:cNvPr id="159" name=""/>
            <p:cNvSpPr/>
            <p:nvPr/>
          </p:nvSpPr>
          <p:spPr>
            <a:xfrm>
              <a:off x="5334120" y="2514600"/>
              <a:ext cx="106668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34120" y="2666880"/>
              <a:ext cx="106668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666880" y="2514600"/>
            <a:ext cx="1066680" cy="152280"/>
            <a:chOff x="2666880" y="2514600"/>
            <a:chExt cx="1066680" cy="152280"/>
          </a:xfrm>
        </p:grpSpPr>
        <p:sp>
          <p:nvSpPr>
            <p:cNvPr id="162" name=""/>
            <p:cNvSpPr/>
            <p:nvPr/>
          </p:nvSpPr>
          <p:spPr>
            <a:xfrm>
              <a:off x="2666880" y="2514600"/>
              <a:ext cx="106668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666880" y="2666880"/>
              <a:ext cx="106668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523880" y="3276720"/>
            <a:ext cx="838440" cy="5918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600200" y="4191120"/>
            <a:ext cx="619200" cy="482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6553080" y="3276720"/>
            <a:ext cx="979560" cy="16761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1523880" cy="10494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7705800" y="3581280"/>
            <a:ext cx="1438200" cy="990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3733920" y="3200400"/>
            <a:ext cx="1600200" cy="138744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3207600" y="4648320"/>
            <a:ext cx="2958840" cy="1724400"/>
            <a:chOff x="3207600" y="4648320"/>
            <a:chExt cx="2958840" cy="1724400"/>
          </a:xfrm>
        </p:grpSpPr>
        <p:sp>
          <p:nvSpPr>
            <p:cNvPr id="171" name=""/>
            <p:cNvSpPr/>
            <p:nvPr/>
          </p:nvSpPr>
          <p:spPr>
            <a:xfrm>
              <a:off x="3207600" y="5181480"/>
              <a:ext cx="2958840" cy="1191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ubstrato se liga a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ÍTIO ATIV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 enzi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343400" y="4648320"/>
              <a:ext cx="304920" cy="533160"/>
            </a:xfrm>
            <a:prstGeom prst="downArrow">
              <a:avLst>
                <a:gd name="adj1" fmla="val 50000"/>
                <a:gd name="adj2" fmla="val 43713"/>
              </a:avLst>
            </a:prstGeom>
            <a:solidFill>
              <a:srgbClr val="99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Enzimas - Via Metabólica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381880" cy="3429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09480" y="2895480"/>
            <a:ext cx="2040120" cy="2514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97960" y="5526000"/>
            <a:ext cx="23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rato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5562720"/>
            <a:ext cx="2362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609480" y="2590920"/>
            <a:ext cx="2438640" cy="23256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3429000" y="2895480"/>
            <a:ext cx="2068560" cy="2286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905120" y="2590920"/>
            <a:ext cx="914400" cy="838080"/>
          </a:xfrm>
          <a:prstGeom prst="rect">
            <a:avLst/>
          </a:prstGeom>
          <a:solidFill>
            <a:srgbClr val="fff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90920" y="3809880"/>
            <a:ext cx="457200" cy="685800"/>
          </a:xfrm>
          <a:prstGeom prst="rect">
            <a:avLst/>
          </a:prstGeom>
          <a:solidFill>
            <a:srgbClr val="fff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46480" y="568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3124080" y="2819520"/>
            <a:ext cx="2876760" cy="23241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800600" y="4419720"/>
            <a:ext cx="1143000" cy="609480"/>
          </a:xfrm>
          <a:prstGeom prst="ellipse">
            <a:avLst/>
          </a:prstGeom>
          <a:solidFill>
            <a:srgbClr val="fff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1480" y="3276720"/>
            <a:ext cx="762120" cy="457200"/>
          </a:xfrm>
          <a:prstGeom prst="ellipse">
            <a:avLst/>
          </a:prstGeom>
          <a:solidFill>
            <a:srgbClr val="fff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6"/>
          <a:stretch/>
        </p:blipFill>
        <p:spPr>
          <a:xfrm>
            <a:off x="6400800" y="2819520"/>
            <a:ext cx="2243160" cy="27432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7"/>
          <a:stretch/>
        </p:blipFill>
        <p:spPr>
          <a:xfrm>
            <a:off x="6400800" y="2819520"/>
            <a:ext cx="22813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5943600" y="2133720"/>
            <a:ext cx="2819160" cy="3276000"/>
            <a:chOff x="5943600" y="2133720"/>
            <a:chExt cx="2819160" cy="3276000"/>
          </a:xfrm>
        </p:grpSpPr>
        <p:pic>
          <p:nvPicPr>
            <p:cNvPr id="189" name="" descr=""/>
            <p:cNvPicPr/>
            <p:nvPr/>
          </p:nvPicPr>
          <p:blipFill>
            <a:blip r:embed="rId8"/>
            <a:stretch/>
          </p:blipFill>
          <p:spPr>
            <a:xfrm>
              <a:off x="5943600" y="2133720"/>
              <a:ext cx="2819160" cy="32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9"/>
            <a:stretch/>
          </p:blipFill>
          <p:spPr>
            <a:xfrm>
              <a:off x="6256440" y="4873680"/>
              <a:ext cx="1015920" cy="271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Enzimas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29000" y="990720"/>
            <a:ext cx="2124000" cy="581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ubstr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32760" y="2133720"/>
            <a:ext cx="5535720" cy="581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Complex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nzima-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ubstrato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50560" y="3325680"/>
            <a:ext cx="3129840" cy="1373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Arial"/>
              </a:rPr>
              <a:t>Ligação Sítio 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Arial"/>
              </a:rPr>
              <a:t>Chave-fechad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Arial"/>
              </a:rPr>
              <a:t>Incaixe induz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31320" y="5281560"/>
            <a:ext cx="3686040" cy="1373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Liberação do Produ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Enzima inalte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1120" y="1600200"/>
            <a:ext cx="304560" cy="380880"/>
          </a:xfrm>
          <a:prstGeom prst="downArrow">
            <a:avLst>
              <a:gd name="adj1" fmla="val 50000"/>
              <a:gd name="adj2" fmla="val 31265"/>
            </a:avLst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91120" y="2819520"/>
            <a:ext cx="304560" cy="380880"/>
          </a:xfrm>
          <a:prstGeom prst="downArrow">
            <a:avLst>
              <a:gd name="adj1" fmla="val 50000"/>
              <a:gd name="adj2" fmla="val 31265"/>
            </a:avLst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91120" y="4800600"/>
            <a:ext cx="304560" cy="380880"/>
          </a:xfrm>
          <a:prstGeom prst="downArrow">
            <a:avLst>
              <a:gd name="adj1" fmla="val 50000"/>
              <a:gd name="adj2" fmla="val 31265"/>
            </a:avLst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rot="9927000">
            <a:off x="33480" y="1976040"/>
            <a:ext cx="2209680" cy="4876920"/>
          </a:xfrm>
          <a:custGeom>
            <a:avLst/>
            <a:gdLst>
              <a:gd name="textAreaLeft" fmla="*/ 295920 w 2209680"/>
              <a:gd name="textAreaRight" fmla="*/ 1913760 w 2209680"/>
              <a:gd name="textAreaTop" fmla="*/ 990000 h 4876920"/>
              <a:gd name="textAreaBottom" fmla="*/ 3335400 h 487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71" stAng="-5400000" swAng="-5400000"/>
                <a:lnTo>
                  <a:pt x="0" y="10387"/>
                </a:lnTo>
                <a:arcTo wR="21600" hR="8771" stAng="10800000" swAng="-3175094"/>
                <a:lnTo>
                  <a:pt x="15263" y="21214"/>
                </a:lnTo>
                <a:lnTo>
                  <a:pt x="21600" y="18349"/>
                </a:lnTo>
                <a:lnTo>
                  <a:pt x="15263" y="14712"/>
                </a:lnTo>
                <a:lnTo>
                  <a:pt x="15263" y="17155"/>
                </a:lnTo>
                <a:arcTo wR="21600" hR="8771" stAng="7624906" swAng="3046009"/>
                <a:lnTo>
                  <a:pt x="92" y="9579"/>
                </a:lnTo>
                <a:arcTo wR="21600" hR="8771" stAng="-10670914" swAng="5270914"/>
                <a:close/>
              </a:path>
              <a:path fill="darkenLess" w="21600" h="21600">
                <a:moveTo>
                  <a:pt x="21600" y="0"/>
                </a:moveTo>
                <a:arcTo wR="21600" hR="8771" stAng="-5400000" swAng="-5400000"/>
                <a:lnTo>
                  <a:pt x="0" y="8771"/>
                </a:lnTo>
                <a:arcTo wR="21600" hR="8771" stAng="10800000" swAng="-129086"/>
                <a:lnTo>
                  <a:pt x="92" y="9579"/>
                </a:lnTo>
                <a:arcTo wR="21600" hR="8771" stAng="-10670914" swAng="5270914"/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Arial"/>
              </a:rPr>
              <a:t>Enzimas</a:t>
            </a:r>
            <a:br>
              <a:rPr sz="4800"/>
            </a:b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Ligação da Enzima ao Substrato</a:t>
            </a: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76520" y="2057400"/>
            <a:ext cx="5867280" cy="3780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 modelos propost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ve-Fechadura </a:t>
            </a:r>
            <a:r>
              <a:rPr b="0" lang="en-US" sz="6600" spc="-1" strike="noStrike">
                <a:solidFill>
                  <a:srgbClr val="000000"/>
                </a:solidFill>
                <a:latin typeface="Webdings"/>
                <a:ea typeface="Webdings"/>
              </a:rPr>
              <a:t>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caixe Induzido  </a:t>
            </a:r>
            <a:r>
              <a:rPr b="0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4800600"/>
            <a:ext cx="30456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Enzimas 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Ligação da enzima ao substrato </a:t>
            </a:r>
            <a:br>
              <a:rPr sz="4400"/>
            </a:b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204" name="F04_43" descr=""/>
          <p:cNvPicPr/>
          <p:nvPr/>
        </p:nvPicPr>
        <p:blipFill>
          <a:blip r:embed="rId1"/>
          <a:stretch/>
        </p:blipFill>
        <p:spPr>
          <a:xfrm>
            <a:off x="4419720" y="1371600"/>
            <a:ext cx="4003560" cy="63244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84720" y="1981080"/>
            <a:ext cx="343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ve-Fechad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F04_44" descr=""/>
          <p:cNvPicPr/>
          <p:nvPr/>
        </p:nvPicPr>
        <p:blipFill>
          <a:blip r:embed="rId1"/>
          <a:stretch/>
        </p:blipFill>
        <p:spPr>
          <a:xfrm>
            <a:off x="0" y="784080"/>
            <a:ext cx="9144000" cy="65311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996480" y="3733920"/>
            <a:ext cx="35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Modelo Encaixe Induz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1680" y="5410080"/>
            <a:ext cx="88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Modelo Encaixe Induzido combinado com a tensão do subs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ff"/>
                </a:solidFill>
                <a:latin typeface="Arial"/>
              </a:rPr>
              <a:t>Enzimas</a:t>
            </a:r>
            <a:br>
              <a:rPr sz="4400"/>
            </a:br>
            <a:r>
              <a:rPr b="0" lang="pt-BR" sz="3600" spc="-1" strike="noStrike">
                <a:solidFill>
                  <a:srgbClr val="3333ff"/>
                </a:solidFill>
                <a:latin typeface="Arial"/>
              </a:rPr>
              <a:t>Modelos de</a:t>
            </a:r>
            <a:r>
              <a:rPr b="0" lang="pt-BR" sz="4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3333ff"/>
                </a:solidFill>
                <a:latin typeface="Arial"/>
              </a:rPr>
              <a:t>ligação da enzima ao substrato</a:t>
            </a:r>
            <a:br>
              <a:rPr sz="3600"/>
            </a:b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210" name="fffcmpa" descr=""/>
          <p:cNvPicPr/>
          <p:nvPr/>
        </p:nvPicPr>
        <p:blipFill>
          <a:blip r:embed="rId4"/>
          <a:stretch/>
        </p:blipFill>
        <p:spPr>
          <a:xfrm>
            <a:off x="76320" y="6553080"/>
            <a:ext cx="1447560" cy="2905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9999"/>
                </a:solidFill>
                <a:latin typeface="Arial"/>
              </a:rPr>
              <a:t>Alteração conformacional da hexoquinase induzida pela glicose</a:t>
            </a:r>
            <a:endParaRPr b="0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213" name="F04_45A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822840" cy="4013280"/>
          </a:xfrm>
          <a:prstGeom prst="rect">
            <a:avLst/>
          </a:prstGeom>
          <a:ln w="0">
            <a:noFill/>
          </a:ln>
        </p:spPr>
      </p:pic>
      <p:pic>
        <p:nvPicPr>
          <p:cNvPr id="214" name="F04_45B" descr=""/>
          <p:cNvPicPr/>
          <p:nvPr/>
        </p:nvPicPr>
        <p:blipFill>
          <a:blip r:embed="rId2"/>
          <a:stretch/>
        </p:blipFill>
        <p:spPr>
          <a:xfrm>
            <a:off x="4343400" y="2082960"/>
            <a:ext cx="3822840" cy="40129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581480" y="6248520"/>
            <a:ext cx="48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ennett, W.S.Jr and Steitz, T.A. J.Mol. Biol. 140: 211,198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previousslide"/>
          </p:cNvPr>
          <p:cNvSpPr/>
          <p:nvPr/>
        </p:nvSpPr>
        <p:spPr>
          <a:xfrm>
            <a:off x="8305920" y="632448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0977" y="10800"/>
                </a:moveTo>
                <a:lnTo>
                  <a:pt x="24990" y="3794"/>
                </a:lnTo>
                <a:lnTo>
                  <a:pt x="24990" y="17806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1219320" y="1219320"/>
            <a:ext cx="3279600" cy="5181480"/>
            <a:chOff x="1219320" y="1219320"/>
            <a:chExt cx="3279600" cy="5181480"/>
          </a:xfrm>
        </p:grpSpPr>
        <p:pic>
          <p:nvPicPr>
            <p:cNvPr id="218" name="F04_46A" descr=""/>
            <p:cNvPicPr/>
            <p:nvPr/>
          </p:nvPicPr>
          <p:blipFill>
            <a:blip r:embed="rId1"/>
            <a:stretch/>
          </p:blipFill>
          <p:spPr>
            <a:xfrm>
              <a:off x="1219320" y="1219320"/>
              <a:ext cx="3279600" cy="51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3429000" y="4343400"/>
              <a:ext cx="99072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352680" y="4419720"/>
              <a:ext cx="15264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ff"/>
                </a:solidFill>
                <a:latin typeface="Arial"/>
              </a:rPr>
              <a:t>Ligação do hexassacarídeo ao sítio ativo da lisozima</a:t>
            </a:r>
            <a:endParaRPr b="0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2" name="">
            <a:hlinkClick r:id="rId2" action="ppaction://hlinksldjump"/>
          </p:cNvPr>
          <p:cNvSpPr/>
          <p:nvPr/>
        </p:nvSpPr>
        <p:spPr>
          <a:xfrm>
            <a:off x="8458200" y="64008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23880" y="6477120"/>
            <a:ext cx="68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desenhado baseado no modelo proposto por Imoto, T et al., Em P. Boyer (Ed.) The Enzimes 3</a:t>
            </a:r>
            <a:r>
              <a:rPr b="0" lang="pt-BR" sz="1200" spc="-1" strike="noStrike" baseline="30000">
                <a:solidFill>
                  <a:srgbClr val="000000"/>
                </a:solidFill>
                <a:latin typeface="Arial"/>
              </a:rPr>
              <a:t>rd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d., Vol 7. New York Academic Press, 1972, p. 7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88200" y="4278240"/>
            <a:ext cx="2731320" cy="703800"/>
            <a:chOff x="88200" y="4278240"/>
            <a:chExt cx="2731320" cy="703800"/>
          </a:xfrm>
        </p:grpSpPr>
        <p:sp>
          <p:nvSpPr>
            <p:cNvPr id="225" name=""/>
            <p:cNvSpPr/>
            <p:nvPr/>
          </p:nvSpPr>
          <p:spPr>
            <a:xfrm>
              <a:off x="1066680" y="4495680"/>
              <a:ext cx="175284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8200" y="4278240"/>
              <a:ext cx="1130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ítio d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idról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429000" y="2590920"/>
            <a:ext cx="3733920" cy="2743200"/>
            <a:chOff x="3429000" y="2590920"/>
            <a:chExt cx="3733920" cy="2743200"/>
          </a:xfrm>
        </p:grpSpPr>
        <p:grpSp>
          <p:nvGrpSpPr>
            <p:cNvPr id="228" name=""/>
            <p:cNvGrpSpPr/>
            <p:nvPr/>
          </p:nvGrpSpPr>
          <p:grpSpPr>
            <a:xfrm>
              <a:off x="3429000" y="2590920"/>
              <a:ext cx="3733920" cy="2743200"/>
              <a:chOff x="3429000" y="2590920"/>
              <a:chExt cx="3733920" cy="2743200"/>
            </a:xfrm>
          </p:grpSpPr>
          <p:pic>
            <p:nvPicPr>
              <p:cNvPr id="229" name="F04_47" descr=""/>
              <p:cNvPicPr/>
              <p:nvPr/>
            </p:nvPicPr>
            <p:blipFill>
              <a:blip r:embed="rId3"/>
              <a:stretch/>
            </p:blipFill>
            <p:spPr>
              <a:xfrm>
                <a:off x="5425920" y="2590920"/>
                <a:ext cx="1737000" cy="274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"/>
              <p:cNvSpPr/>
              <p:nvPr/>
            </p:nvSpPr>
            <p:spPr>
              <a:xfrm flipV="1">
                <a:off x="3429000" y="2590920"/>
                <a:ext cx="1981080" cy="129528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429000" y="4495680"/>
                <a:ext cx="1981080" cy="68580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5790600" y="467532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stáv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866560" y="2617920"/>
              <a:ext cx="78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stáv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95880" y="3733920"/>
              <a:ext cx="152640" cy="380880"/>
            </a:xfrm>
            <a:prstGeom prst="upArrow">
              <a:avLst>
                <a:gd name="adj1" fmla="val 50000"/>
                <a:gd name="adj2" fmla="val 62382"/>
              </a:avLst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5025600" y="5654520"/>
            <a:ext cx="32731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3300"/>
                </a:solidFill>
                <a:latin typeface="Arial"/>
              </a:rPr>
              <a:t>a- grupo acetamido (NHCOCH</a:t>
            </a:r>
            <a:r>
              <a:rPr b="0" lang="pt-BR" sz="14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0" lang="pt-BR" sz="14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cc99"/>
                </a:solidFill>
                <a:latin typeface="Arial"/>
              </a:rPr>
              <a:t>p – cadeia lateral lactil ( CH</a:t>
            </a:r>
            <a:r>
              <a:rPr b="0" lang="pt-BR" sz="1400" spc="-1" strike="noStrike" baseline="-25000">
                <a:solidFill>
                  <a:srgbClr val="00cc99"/>
                </a:solidFill>
                <a:latin typeface="Arial"/>
              </a:rPr>
              <a:t>3</a:t>
            </a:r>
            <a:r>
              <a:rPr b="0" lang="pt-BR" sz="1400" spc="-1" strike="noStrike">
                <a:solidFill>
                  <a:srgbClr val="00cc99"/>
                </a:solidFill>
                <a:latin typeface="Arial"/>
              </a:rPr>
              <a:t>CHCOO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Enzimas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Importância Biomédica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Biocatalis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gulam as velocidades de todos os processos fisiológ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Papel fundamental na saúde e na doenç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Enzimas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Centro Catalítico / Sítio Ativo 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1828800"/>
            <a:ext cx="822960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gião   da   molécula   enzimática   q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ticipa da  reação com o subst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de possuir componentes não proté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990033"/>
                </a:solidFill>
                <a:latin typeface="Arial"/>
              </a:rPr>
              <a:t>cofa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ssui aminoácidos </a:t>
            </a:r>
            <a:r>
              <a:rPr b="0" lang="pt-BR" sz="3200" spc="-1" strike="noStrike">
                <a:solidFill>
                  <a:srgbClr val="3333ff"/>
                </a:solidFill>
                <a:latin typeface="Arial"/>
              </a:rPr>
              <a:t>auxiliar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BR" sz="3200" spc="-1" strike="noStrike">
                <a:solidFill>
                  <a:srgbClr val="3333ff"/>
                </a:solidFill>
                <a:latin typeface="Arial"/>
              </a:rPr>
              <a:t>de cont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ff"/>
                </a:solidFill>
                <a:latin typeface="Arial"/>
              </a:rPr>
              <a:t>Enzimas </a:t>
            </a:r>
            <a:r>
              <a:rPr b="0" lang="en-US" sz="5400" spc="-1" strike="noStrike">
                <a:solidFill>
                  <a:srgbClr val="808080"/>
                </a:solidFill>
                <a:latin typeface="Arial"/>
              </a:rPr>
              <a:t>Propriedades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Enzimas = Catalisadores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pried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eleram as rea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ão são consumidos na re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uam em pequenas concentra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ão alteram o equilíbrio das rea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Enzimas - Propriedades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1600" y="941400"/>
            <a:ext cx="580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eleram reações quím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0" y="1920960"/>
            <a:ext cx="9144000" cy="4024080"/>
            <a:chOff x="0" y="1920960"/>
            <a:chExt cx="9144000" cy="4024080"/>
          </a:xfrm>
        </p:grpSpPr>
        <p:sp>
          <p:nvSpPr>
            <p:cNvPr id="244" name=""/>
            <p:cNvSpPr/>
            <p:nvPr/>
          </p:nvSpPr>
          <p:spPr>
            <a:xfrm>
              <a:off x="120240" y="2666880"/>
              <a:ext cx="317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dições da Re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557880" y="2666880"/>
              <a:ext cx="3548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Energia livre de Ativ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kj/mol             kcal/m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404480" y="2668680"/>
              <a:ext cx="1684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elocida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ativ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78720" y="3581280"/>
              <a:ext cx="2585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Sem catalisad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3333ff"/>
                  </a:solidFill>
                  <a:latin typeface="Arial"/>
                </a:rPr>
                <a:t>Plati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0000"/>
                  </a:solidFill>
                  <a:latin typeface="Arial"/>
                </a:rPr>
                <a:t>Enzima Catal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49320" y="3583080"/>
              <a:ext cx="29026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5,2                  18,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Arial"/>
                </a:rPr>
                <a:t>48,9                  11,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3,0                   5,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116480" y="3583080"/>
              <a:ext cx="1721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3333ff"/>
                  </a:solidFill>
                  <a:latin typeface="Arial"/>
                </a:rPr>
                <a:t>2,77 x 10</a:t>
              </a:r>
              <a:r>
                <a:rPr b="0" lang="en-US" sz="2400" spc="-1" strike="noStrike" baseline="30000">
                  <a:solidFill>
                    <a:srgbClr val="3333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6,51 x 10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0" y="2516040"/>
              <a:ext cx="9144000" cy="342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352680" y="2516040"/>
              <a:ext cx="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238880" y="2516040"/>
              <a:ext cx="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0" y="350676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0" y="495468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0" y="419256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1400" y="1920960"/>
              <a:ext cx="4419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ecomposição do H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Enzimas - Propriedades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72720" y="1185840"/>
            <a:ext cx="65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ão são consumidos na re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839520" y="2895480"/>
            <a:ext cx="6240960" cy="2379960"/>
            <a:chOff x="839520" y="2895480"/>
            <a:chExt cx="6240960" cy="2379960"/>
          </a:xfrm>
        </p:grpSpPr>
        <p:sp>
          <p:nvSpPr>
            <p:cNvPr id="260" name=""/>
            <p:cNvSpPr/>
            <p:nvPr/>
          </p:nvSpPr>
          <p:spPr>
            <a:xfrm>
              <a:off x="1775520" y="3124080"/>
              <a:ext cx="941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33"/>
                  </a:solidFill>
                  <a:latin typeface="Arial"/>
                </a:rPr>
                <a:t>H</a:t>
              </a:r>
              <a:r>
                <a:rPr b="1" lang="en-US" sz="2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990033"/>
                  </a:solidFill>
                  <a:latin typeface="Arial"/>
                </a:rPr>
                <a:t>O</a:t>
              </a:r>
              <a:r>
                <a:rPr b="1" lang="en-US" sz="2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895480" y="342900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00400" y="3125880"/>
              <a:ext cx="826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H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89000" y="3124080"/>
              <a:ext cx="570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O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945040" y="3200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200400" y="289548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0000"/>
                  </a:solidFill>
                  <a:latin typeface="Arial"/>
                </a:rPr>
                <a:t>Catal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9520" y="4267080"/>
              <a:ext cx="2064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0000"/>
                  </a:solidFill>
                  <a:latin typeface="Arial"/>
                </a:rPr>
                <a:t>E 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6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6000" spc="-1" strike="noStrike">
                  <a:solidFill>
                    <a:srgbClr val="990033"/>
                  </a:solidFill>
                  <a:latin typeface="Arial"/>
                </a:rPr>
                <a:t>S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48120" y="4876920"/>
              <a:ext cx="190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16240" y="4260960"/>
              <a:ext cx="2064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r>
                <a:rPr b="0" lang="en-US" sz="6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6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6000" spc="-1" strike="noStrike">
                  <a:solidFill>
                    <a:srgbClr val="3333cc"/>
                  </a:solidFill>
                  <a:latin typeface="Arial"/>
                </a:rPr>
                <a:t>P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3490920" y="4282920"/>
            <a:ext cx="72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Enzimas - Propriedades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58880" y="1422360"/>
            <a:ext cx="73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Atuam em pequenas concentraç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2200" y="3276720"/>
            <a:ext cx="41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1 molécula de  Cata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95680" y="3581280"/>
            <a:ext cx="1219320" cy="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37280" y="2895480"/>
            <a:ext cx="39067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ompõ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 000 000 de moléculas de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44680" y="4343400"/>
            <a:ext cx="31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 = 6,8  em 1 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437920" y="5257800"/>
            <a:ext cx="4341240" cy="1068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Número de renov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OVER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Enzimas - Propriedades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914400"/>
            <a:ext cx="88390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Não alteram o estado de equilíb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ebdings" charset="2"/>
              <a:buChar char="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ível basal (forma estável), S e/ou P  contém 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idade característica de energia liv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ebdings" charset="2"/>
              <a:buChar char="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equilíbr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tre S e P reflete a diferença em ener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re dos seus estados bas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26800" y="3352680"/>
            <a:ext cx="8917200" cy="2675520"/>
            <a:chOff x="226800" y="3352680"/>
            <a:chExt cx="8917200" cy="2675520"/>
          </a:xfrm>
        </p:grpSpPr>
        <p:grpSp>
          <p:nvGrpSpPr>
            <p:cNvPr id="280" name=""/>
            <p:cNvGrpSpPr/>
            <p:nvPr/>
          </p:nvGrpSpPr>
          <p:grpSpPr>
            <a:xfrm>
              <a:off x="1979640" y="3352680"/>
              <a:ext cx="7164360" cy="2675520"/>
              <a:chOff x="1979640" y="3352680"/>
              <a:chExt cx="7164360" cy="2675520"/>
            </a:xfrm>
          </p:grpSpPr>
          <p:sp>
            <p:nvSpPr>
              <p:cNvPr id="281" name=""/>
              <p:cNvSpPr/>
              <p:nvPr/>
            </p:nvSpPr>
            <p:spPr>
              <a:xfrm rot="16209000">
                <a:off x="1650960" y="383580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nergi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970360" y="5629320"/>
                <a:ext cx="250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minho da Reaçã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438280" y="3352680"/>
                <a:ext cx="0" cy="2210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438280" y="5553000"/>
                <a:ext cx="2667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743200" y="3632040"/>
                <a:ext cx="1371600" cy="1463760"/>
              </a:xfrm>
              <a:custGeom>
                <a:avLst/>
                <a:gdLst/>
                <a:ahLst/>
                <a:rect l="l" t="t" r="r" b="b"/>
                <a:pathLst>
                  <a:path w="864" h="784">
                    <a:moveTo>
                      <a:pt x="0" y="688"/>
                    </a:moveTo>
                    <a:cubicBezTo>
                      <a:pt x="168" y="344"/>
                      <a:pt x="336" y="0"/>
                      <a:pt x="480" y="16"/>
                    </a:cubicBezTo>
                    <a:cubicBezTo>
                      <a:pt x="624" y="32"/>
                      <a:pt x="800" y="656"/>
                      <a:pt x="864" y="784"/>
                    </a:cubicBezTo>
                  </a:path>
                </a:pathLst>
              </a:custGeom>
              <a:noFill/>
              <a:ln w="284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14800" y="509580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819520" y="4791240"/>
                <a:ext cx="1066680" cy="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505320" y="3657600"/>
                <a:ext cx="0" cy="106668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3505320" y="3962520"/>
                <a:ext cx="990360" cy="38088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491720" y="3724200"/>
                <a:ext cx="387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cc"/>
                    </a:solidFill>
                    <a:latin typeface="Arial"/>
                  </a:rPr>
                  <a:t>Energia de ativação </a:t>
                </a:r>
                <a:r>
                  <a:rPr b="0" lang="en-US" sz="2000" spc="-1" strike="noStrike" u="sng">
                    <a:solidFill>
                      <a:srgbClr val="3333cc"/>
                    </a:solidFill>
                    <a:uFillTx/>
                    <a:latin typeface="Arial"/>
                  </a:rPr>
                  <a:t>sem</a:t>
                </a:r>
                <a:r>
                  <a:rPr b="0" lang="en-US" sz="2000" spc="-1" strike="noStrike">
                    <a:solidFill>
                      <a:srgbClr val="3333cc"/>
                    </a:solidFill>
                    <a:latin typeface="Arial"/>
                  </a:rPr>
                  <a:t> enzim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440080" y="425772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191120" y="456264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743200" y="4013280"/>
                <a:ext cx="1371600" cy="1082520"/>
              </a:xfrm>
              <a:custGeom>
                <a:avLst/>
                <a:gdLst/>
                <a:ahLst/>
                <a:rect l="l" t="t" r="r" b="b"/>
                <a:pathLst>
                  <a:path w="864" h="544">
                    <a:moveTo>
                      <a:pt x="0" y="448"/>
                    </a:moveTo>
                    <a:cubicBezTo>
                      <a:pt x="144" y="224"/>
                      <a:pt x="288" y="0"/>
                      <a:pt x="432" y="16"/>
                    </a:cubicBezTo>
                    <a:cubicBezTo>
                      <a:pt x="576" y="32"/>
                      <a:pt x="792" y="456"/>
                      <a:pt x="864" y="544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352680" y="4038480"/>
                <a:ext cx="0" cy="7621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029200" y="4257720"/>
                <a:ext cx="411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Arial"/>
                  </a:rPr>
                  <a:t>Energia de ativação </a:t>
                </a:r>
                <a:r>
                  <a:rPr b="0" lang="en-US" sz="20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com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Arial"/>
                  </a:rPr>
                  <a:t>enzim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352680" y="4419720"/>
                <a:ext cx="175284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590920" y="4791240"/>
                <a:ext cx="30456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438280" y="479124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226800" y="4572000"/>
              <a:ext cx="3888000" cy="1008720"/>
              <a:chOff x="226800" y="4572000"/>
              <a:chExt cx="3888000" cy="1008720"/>
            </a:xfrm>
          </p:grpSpPr>
          <p:sp>
            <p:nvSpPr>
              <p:cNvPr id="300" name=""/>
              <p:cNvSpPr/>
              <p:nvPr/>
            </p:nvSpPr>
            <p:spPr>
              <a:xfrm>
                <a:off x="2209680" y="4724280"/>
                <a:ext cx="152640" cy="381240"/>
              </a:xfrm>
              <a:custGeom>
                <a:avLst/>
                <a:gdLst>
                  <a:gd name="textAreaLeft" fmla="*/ 97560 w 152640"/>
                  <a:gd name="textAreaRight" fmla="*/ 153000 w 152640"/>
                  <a:gd name="textAreaTop" fmla="*/ 9720 h 381240"/>
                  <a:gd name="textAreaBottom" fmla="*/ 371520 h 38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438280" y="5105520"/>
                <a:ext cx="1676520" cy="0"/>
              </a:xfrm>
              <a:prstGeom prst="line">
                <a:avLst/>
              </a:prstGeom>
              <a:ln w="28440">
                <a:solidFill>
                  <a:srgbClr val="ff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26800" y="4572000"/>
                <a:ext cx="20354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6600"/>
                    </a:solidFill>
                    <a:latin typeface="Arial"/>
                  </a:rPr>
                  <a:t>Diferença ent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6600"/>
                    </a:solidFill>
                    <a:latin typeface="Arial"/>
                  </a:rPr>
                  <a:t>a energia livr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6600"/>
                    </a:solidFill>
                    <a:latin typeface="Arial"/>
                  </a:rPr>
                  <a:t>de S e 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ff"/>
                </a:solidFill>
                <a:latin typeface="Arial"/>
              </a:rPr>
              <a:t>Enzimas</a:t>
            </a:r>
            <a:br>
              <a:rPr sz="7200"/>
            </a:br>
            <a:r>
              <a:rPr b="0" lang="en-US" sz="5400" spc="-1" strike="noStrike">
                <a:solidFill>
                  <a:srgbClr val="808080"/>
                </a:solidFill>
                <a:latin typeface="Arial"/>
              </a:rPr>
              <a:t>Especificidade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1219320"/>
            <a:ext cx="87631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omparação entre a hidrólise de vários substratos p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Catalisador Inorgânico      e          Enz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21000" y="380880"/>
            <a:ext cx="627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Enzimas- Especific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200" y="2895480"/>
            <a:ext cx="4327560" cy="3020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idrólise catalisada pe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Cl a qu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teínas       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Aminoá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iacilgliceróis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Glicerol 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ác. Grax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licogênio     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Glic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343400" y="2743200"/>
            <a:ext cx="5121360" cy="411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idrólise catalisada por u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zima específica pa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glicogê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teínas       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Inalter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iacilgliceróis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Inalt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Arial"/>
              </a:rPr>
              <a:t>Glicogênio       </a:t>
            </a:r>
            <a:r>
              <a:rPr b="0" lang="pt-BR" sz="24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33cc"/>
                </a:solidFill>
                <a:latin typeface="Arial"/>
              </a:rPr>
              <a:t> Glicose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Arial"/>
              </a:rPr>
              <a:t>                             </a:t>
            </a:r>
            <a:r>
              <a:rPr b="0" lang="pt-BR" sz="2400" spc="-1" strike="noStrike">
                <a:solidFill>
                  <a:srgbClr val="0033cc"/>
                </a:solidFill>
                <a:latin typeface="Arial"/>
              </a:rPr>
              <a:t>Maltose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Arial"/>
              </a:rPr>
              <a:t>                            </a:t>
            </a:r>
            <a:r>
              <a:rPr b="0" lang="pt-BR" sz="2400" spc="-1" strike="noStrike">
                <a:solidFill>
                  <a:srgbClr val="0033cc"/>
                </a:solidFill>
                <a:latin typeface="Arial"/>
              </a:rPr>
              <a:t>Oligossacarídeos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Arial"/>
              </a:rPr>
              <a:t>                             </a:t>
            </a:r>
            <a:r>
              <a:rPr b="0" lang="pt-BR" sz="2400" spc="-1" strike="noStrike">
                <a:solidFill>
                  <a:srgbClr val="0033cc"/>
                </a:solidFill>
                <a:latin typeface="Arial"/>
              </a:rPr>
              <a:t>ramifi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ff"/>
                </a:solidFill>
                <a:latin typeface="Arial"/>
              </a:rPr>
              <a:t>Enzimas  </a:t>
            </a:r>
            <a:br>
              <a:rPr sz="4400"/>
            </a:br>
            <a:r>
              <a:rPr b="0" lang="pt-BR" sz="4000" spc="-1" strike="noStrike">
                <a:solidFill>
                  <a:srgbClr val="3333ff"/>
                </a:solidFill>
                <a:latin typeface="Arial"/>
              </a:rPr>
              <a:t>Especificidade Estereoquímica</a:t>
            </a: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37972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2590920" y="2209680"/>
            <a:ext cx="6553080" cy="38880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838080" y="3886200"/>
            <a:ext cx="7632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2590920" y="2209680"/>
            <a:ext cx="6553080" cy="39052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600200" y="3886200"/>
            <a:ext cx="763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6629400" cy="39337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62120" y="3886200"/>
            <a:ext cx="3045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5"/>
          <a:stretch/>
        </p:blipFill>
        <p:spPr>
          <a:xfrm>
            <a:off x="2514600" y="2133720"/>
            <a:ext cx="66294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Saúde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752480"/>
            <a:ext cx="213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zi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60" y="3429000"/>
            <a:ext cx="2041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iológ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3429000"/>
            <a:ext cx="4419720" cy="838080"/>
          </a:xfrm>
          <a:prstGeom prst="rightArrow">
            <a:avLst>
              <a:gd name="adj1" fmla="val 50000"/>
              <a:gd name="adj2" fmla="val 131841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orram de modo orde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31920" y="3581280"/>
            <a:ext cx="235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Homeost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243828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Enzimas  </a:t>
            </a:r>
            <a:br>
              <a:rPr sz="4400"/>
            </a:b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Especificidade de Grupo</a:t>
            </a: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62120" y="236232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o de ligação e um dos fragmentos devem ser específ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23520" y="3657600"/>
            <a:ext cx="67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maltase       digestão de glicíd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895480" y="4952880"/>
            <a:ext cx="3048120" cy="1419840"/>
            <a:chOff x="2895480" y="4952880"/>
            <a:chExt cx="3048120" cy="1419840"/>
          </a:xfrm>
        </p:grpSpPr>
        <p:sp>
          <p:nvSpPr>
            <p:cNvPr id="321" name=""/>
            <p:cNvSpPr/>
            <p:nvPr/>
          </p:nvSpPr>
          <p:spPr>
            <a:xfrm>
              <a:off x="2895480" y="4952880"/>
              <a:ext cx="137160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974680" y="5105520"/>
              <a:ext cx="119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ico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267080" y="53341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651200" y="5105520"/>
              <a:ext cx="119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ico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572000" y="4952880"/>
              <a:ext cx="137160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82360" y="5791320"/>
              <a:ext cx="160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altos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 rot="5458800">
            <a:off x="3695400" y="3999960"/>
            <a:ext cx="1143000" cy="7621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9880" y="54864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38280" y="4952880"/>
            <a:ext cx="472464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26400" y="5867280"/>
            <a:ext cx="635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etade da molécula deve ser a glic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2666880" y="4952880"/>
            <a:ext cx="3429000" cy="609840"/>
            <a:chOff x="2666880" y="4952880"/>
            <a:chExt cx="3429000" cy="609840"/>
          </a:xfrm>
        </p:grpSpPr>
        <p:sp>
          <p:nvSpPr>
            <p:cNvPr id="332" name=""/>
            <p:cNvSpPr/>
            <p:nvPr/>
          </p:nvSpPr>
          <p:spPr>
            <a:xfrm>
              <a:off x="2666880" y="4952880"/>
              <a:ext cx="1600200" cy="609840"/>
            </a:xfrm>
            <a:prstGeom prst="ellipse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22400" y="5029200"/>
              <a:ext cx="119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ico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67080" y="5257800"/>
              <a:ext cx="22860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95680" y="4952880"/>
              <a:ext cx="1600200" cy="609840"/>
            </a:xfrm>
            <a:prstGeom prst="ellipse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25720" y="502920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Ex: o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6095880" y="4572000"/>
            <a:ext cx="1328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rut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alact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rabin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Xilul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72200" y="4495680"/>
            <a:ext cx="144792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ff"/>
                </a:solidFill>
                <a:latin typeface="Arial"/>
              </a:rPr>
              <a:t>Enzimas</a:t>
            </a: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808080"/>
                </a:solidFill>
                <a:latin typeface="Arial"/>
              </a:rPr>
              <a:t>Cofator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ff"/>
                </a:solidFill>
                <a:latin typeface="Arial"/>
              </a:rPr>
              <a:t>Enzimas - Cofatores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905120" y="2895480"/>
            <a:ext cx="5029200" cy="13716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ção proté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OENZ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91320" y="3200400"/>
            <a:ext cx="1143000" cy="76212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f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142640" y="4343400"/>
            <a:ext cx="6553080" cy="1261440"/>
            <a:chOff x="1142640" y="4343400"/>
            <a:chExt cx="6553080" cy="1261440"/>
          </a:xfrm>
        </p:grpSpPr>
        <p:sp>
          <p:nvSpPr>
            <p:cNvPr id="345" name=""/>
            <p:cNvSpPr/>
            <p:nvPr/>
          </p:nvSpPr>
          <p:spPr>
            <a:xfrm rot="5400000">
              <a:off x="4304880" y="1180800"/>
              <a:ext cx="228600" cy="6553080"/>
            </a:xfrm>
            <a:custGeom>
              <a:avLst/>
              <a:gdLst>
                <a:gd name="textAreaLeft" fmla="*/ 0 w 228600"/>
                <a:gd name="textAreaRight" fmla="*/ 160560 w 228600"/>
                <a:gd name="textAreaTop" fmla="*/ 272880 h 6553080"/>
                <a:gd name="textAreaBottom" fmla="*/ 6280200 h 655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19720" y="45720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490920" y="5145120"/>
              <a:ext cx="21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HOLOENZI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934320" y="2970360"/>
            <a:ext cx="1859400" cy="1191240"/>
            <a:chOff x="6934320" y="2970360"/>
            <a:chExt cx="1859400" cy="1191240"/>
          </a:xfrm>
        </p:grpSpPr>
        <p:sp>
          <p:nvSpPr>
            <p:cNvPr id="349" name=""/>
            <p:cNvSpPr/>
            <p:nvPr/>
          </p:nvSpPr>
          <p:spPr>
            <a:xfrm flipV="1">
              <a:off x="6934320" y="3200040"/>
              <a:ext cx="380880" cy="228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242840" y="2970360"/>
              <a:ext cx="1550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Í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enzi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934320" y="3657600"/>
              <a:ext cx="380880" cy="228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5487840" y="3962520"/>
            <a:ext cx="1960920" cy="2501640"/>
            <a:chOff x="5487840" y="3962520"/>
            <a:chExt cx="1960920" cy="2501640"/>
          </a:xfrm>
        </p:grpSpPr>
        <p:sp>
          <p:nvSpPr>
            <p:cNvPr id="353" name=""/>
            <p:cNvSpPr/>
            <p:nvPr/>
          </p:nvSpPr>
          <p:spPr>
            <a:xfrm>
              <a:off x="6400800" y="3962520"/>
              <a:ext cx="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487840" y="5638680"/>
              <a:ext cx="1960920" cy="825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ff"/>
                  </a:solidFill>
                  <a:latin typeface="Arial"/>
                </a:rPr>
                <a:t>Grupamen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ff"/>
                  </a:solidFill>
                  <a:latin typeface="Arial"/>
                </a:rPr>
                <a:t>prostéti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533520" y="1371600"/>
            <a:ext cx="816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éculas orgânicas ou inorgânicas que condicionam a atividade das enz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ff"/>
                </a:solidFill>
                <a:latin typeface="Arial"/>
              </a:rPr>
              <a:t>Enzimas - Cofatores</a:t>
            </a:r>
            <a:br>
              <a:rPr sz="4400"/>
            </a:br>
            <a:r>
              <a:rPr b="0" lang="pt-BR" sz="4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3333ff"/>
                </a:solidFill>
                <a:latin typeface="Arial"/>
              </a:rPr>
              <a:t>Íons </a:t>
            </a:r>
            <a:br>
              <a:rPr sz="4800"/>
            </a:b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1676520"/>
            <a:ext cx="847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fatores inorgân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8200" y="2895480"/>
            <a:ext cx="7604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gnésio - Reações de fosforil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nganês- Superóxido dismutase mitocond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Zinco - Anidrase carbônica, Carboxipeptid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ff"/>
                </a:solidFill>
                <a:latin typeface="Arial"/>
              </a:rPr>
              <a:t>Enzimas - Cofatores</a:t>
            </a:r>
            <a:br>
              <a:rPr sz="4400"/>
            </a:br>
            <a:r>
              <a:rPr b="0" lang="pt-BR" sz="4000" spc="-1" strike="noStrike">
                <a:solidFill>
                  <a:srgbClr val="3333ff"/>
                </a:solidFill>
                <a:latin typeface="Arial"/>
              </a:rPr>
              <a:t>Ativadores </a:t>
            </a:r>
            <a:r>
              <a:rPr b="0" lang="pt-BR" sz="4800" spc="-1" strike="noStrike">
                <a:solidFill>
                  <a:srgbClr val="3333ff"/>
                </a:solidFill>
                <a:latin typeface="Arial"/>
              </a:rPr>
              <a:t>- Íons</a:t>
            </a:r>
            <a:endParaRPr b="0" lang="en-US" sz="48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360" name="F04_27" descr=""/>
          <p:cNvPicPr/>
          <p:nvPr/>
        </p:nvPicPr>
        <p:blipFill>
          <a:blip r:embed="rId1"/>
          <a:stretch/>
        </p:blipFill>
        <p:spPr>
          <a:xfrm>
            <a:off x="1600200" y="2340000"/>
            <a:ext cx="6324480" cy="45180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638680" y="5257800"/>
            <a:ext cx="1295640" cy="685800"/>
          </a:xfrm>
          <a:prstGeom prst="rect">
            <a:avLst/>
          </a:pr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831320" y="1676520"/>
            <a:ext cx="59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ésio - co-substrato para o A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ff"/>
                </a:solidFill>
                <a:latin typeface="Arial"/>
              </a:rPr>
              <a:t>Enzimas - Cofatores</a:t>
            </a:r>
            <a:br>
              <a:rPr sz="4400"/>
            </a:br>
            <a:r>
              <a:rPr b="0" lang="pt-BR" sz="3600" spc="-1" strike="noStrike">
                <a:solidFill>
                  <a:srgbClr val="3333ff"/>
                </a:solidFill>
                <a:latin typeface="Arial"/>
              </a:rPr>
              <a:t>Mg </a:t>
            </a:r>
            <a:r>
              <a:rPr b="0" lang="pt-BR" sz="3600" spc="-1" strike="noStrike" baseline="30000">
                <a:solidFill>
                  <a:srgbClr val="3333ff"/>
                </a:solidFill>
                <a:latin typeface="Arial"/>
              </a:rPr>
              <a:t>+2 </a:t>
            </a:r>
            <a:r>
              <a:rPr b="0" lang="pt-BR" sz="3600" spc="-1" strike="noStrike">
                <a:solidFill>
                  <a:srgbClr val="3333ff"/>
                </a:solidFill>
                <a:latin typeface="Arial"/>
              </a:rPr>
              <a:t>como Ativador</a:t>
            </a:r>
            <a:br>
              <a:rPr sz="3600"/>
            </a:b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364" name="F04_28" descr=""/>
          <p:cNvPicPr/>
          <p:nvPr/>
        </p:nvPicPr>
        <p:blipFill>
          <a:blip r:embed="rId1"/>
          <a:stretch/>
        </p:blipFill>
        <p:spPr>
          <a:xfrm>
            <a:off x="1523880" y="2340000"/>
            <a:ext cx="6324840" cy="45180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1219320" y="1371600"/>
            <a:ext cx="6949800" cy="94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Arial"/>
              </a:rPr>
              <a:t>Hexoquinas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- transferência do fosfato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o ATP para a glic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ff"/>
                </a:solidFill>
                <a:latin typeface="Arial"/>
              </a:rPr>
              <a:t>Enzimas - Cofatores</a:t>
            </a:r>
            <a:br>
              <a:rPr sz="4400"/>
            </a:br>
            <a:r>
              <a:rPr b="0" lang="pt-BR" sz="4000" spc="-1" strike="noStrike">
                <a:solidFill>
                  <a:srgbClr val="3333ff"/>
                </a:solidFill>
                <a:latin typeface="Arial"/>
              </a:rPr>
              <a:t>Coenzimas</a:t>
            </a:r>
            <a:r>
              <a:rPr b="0" lang="pt-BR" sz="4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ofatores orgân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aioria deriva de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vitaminas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hidrossolúve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lassificam-se e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ansportadoras de hidrogên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ansportadoras de grupos quí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Coenzimas transportadoras de hidrogênio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0" y="2478240"/>
            <a:ext cx="937260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21333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ff"/>
                </a:solidFill>
                <a:latin typeface="Arial"/>
              </a:rPr>
              <a:t>NAD</a:t>
            </a:r>
            <a:r>
              <a:rPr b="0" lang="pt-BR" sz="4400" spc="-1" strike="noStrike" baseline="30000">
                <a:solidFill>
                  <a:srgbClr val="3333ff"/>
                </a:solidFill>
                <a:latin typeface="Arial"/>
              </a:rPr>
              <a:t>+</a:t>
            </a:r>
            <a:br>
              <a:rPr sz="4400"/>
            </a:br>
            <a:r>
              <a:rPr b="0" lang="pt-BR" sz="3200" spc="-1" strike="noStrike">
                <a:solidFill>
                  <a:srgbClr val="3333ff"/>
                </a:solidFill>
                <a:latin typeface="Arial"/>
              </a:rPr>
              <a:t>Nicotinamida adenina  dinucleotídio </a:t>
            </a:r>
            <a:r>
              <a:rPr b="0" lang="pt-BR" sz="2400" spc="-1" strike="noStrike">
                <a:solidFill>
                  <a:srgbClr val="3333ff"/>
                </a:solidFill>
                <a:latin typeface="Arial"/>
              </a:rPr>
              <a:t>(B3)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371" name="F04_19" descr=""/>
          <p:cNvPicPr/>
          <p:nvPr/>
        </p:nvPicPr>
        <p:blipFill>
          <a:blip r:embed="rId1"/>
          <a:stretch/>
        </p:blipFill>
        <p:spPr>
          <a:xfrm>
            <a:off x="4572000" y="457200"/>
            <a:ext cx="38098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ff"/>
                </a:solidFill>
                <a:latin typeface="Arial"/>
              </a:rPr>
              <a:t>FAD – </a:t>
            </a:r>
            <a:r>
              <a:rPr b="0" lang="pt-BR" sz="3600" spc="-1" strike="noStrike">
                <a:solidFill>
                  <a:srgbClr val="3333ff"/>
                </a:solidFill>
                <a:latin typeface="Arial"/>
              </a:rPr>
              <a:t>Flavina Adenina Dinucleotídio </a:t>
            </a:r>
            <a:r>
              <a:rPr b="0" lang="pt-BR" sz="2800" spc="-1" strike="noStrike">
                <a:solidFill>
                  <a:srgbClr val="3333ff"/>
                </a:solidFill>
                <a:latin typeface="Arial"/>
              </a:rPr>
              <a:t>(B2)</a:t>
            </a:r>
            <a:endParaRPr b="0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373" name="F04_22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5162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Estados patológicos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3352680"/>
            <a:ext cx="44197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zimas do ciclo da uré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1066680"/>
            <a:ext cx="29908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ão tecidual gr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rose Hep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10640" y="2362320"/>
            <a:ext cx="5972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judica a síntese de enzimas pelo tec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240" y="4419720"/>
            <a:ext cx="3134160" cy="764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ô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óxica para o organismo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42120" y="4419720"/>
            <a:ext cx="1512720" cy="76464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é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ão tóxi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190512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281952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4800600"/>
            <a:ext cx="2819520" cy="152280"/>
          </a:xfrm>
          <a:prstGeom prst="rightArrow">
            <a:avLst>
              <a:gd name="adj1" fmla="val 50000"/>
              <a:gd name="adj2" fmla="val 462884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3886200"/>
            <a:ext cx="152280" cy="685800"/>
          </a:xfrm>
          <a:prstGeom prst="downArrow">
            <a:avLst>
              <a:gd name="adj1" fmla="val 50000"/>
              <a:gd name="adj2" fmla="val 11258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343400" y="4718160"/>
            <a:ext cx="304920" cy="316800"/>
            <a:chOff x="4343400" y="4718160"/>
            <a:chExt cx="304920" cy="316800"/>
          </a:xfrm>
        </p:grpSpPr>
        <p:sp>
          <p:nvSpPr>
            <p:cNvPr id="64" name=""/>
            <p:cNvSpPr/>
            <p:nvPr/>
          </p:nvSpPr>
          <p:spPr>
            <a:xfrm>
              <a:off x="4343400" y="4724280"/>
              <a:ext cx="30492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4349520" y="4718160"/>
              <a:ext cx="291960" cy="316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4343400" y="51814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6600" y="5942160"/>
            <a:ext cx="276984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A HEP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ff"/>
                </a:solidFill>
                <a:latin typeface="Arial"/>
              </a:rPr>
              <a:t>Exemplo da ação do FAD como coenzima</a:t>
            </a:r>
            <a:r>
              <a:rPr b="0" lang="pt-BR" sz="4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3333ff"/>
                </a:solidFill>
                <a:latin typeface="Arial"/>
              </a:rPr>
              <a:t>Reação da sucinato desidrogenase</a:t>
            </a:r>
            <a:endParaRPr b="0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1676520" y="1219320"/>
            <a:ext cx="4952880" cy="6359400"/>
            <a:chOff x="1676520" y="1219320"/>
            <a:chExt cx="4952880" cy="6359400"/>
          </a:xfrm>
        </p:grpSpPr>
        <p:pic>
          <p:nvPicPr>
            <p:cNvPr id="376" name="F04_23A" descr=""/>
            <p:cNvPicPr/>
            <p:nvPr/>
          </p:nvPicPr>
          <p:blipFill>
            <a:blip r:embed="rId1"/>
            <a:stretch/>
          </p:blipFill>
          <p:spPr>
            <a:xfrm>
              <a:off x="1676520" y="1219320"/>
              <a:ext cx="4952880" cy="35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F04_23B" descr=""/>
            <p:cNvPicPr/>
            <p:nvPr/>
          </p:nvPicPr>
          <p:blipFill>
            <a:blip r:embed="rId2"/>
            <a:stretch/>
          </p:blipFill>
          <p:spPr>
            <a:xfrm>
              <a:off x="1676520" y="4038480"/>
              <a:ext cx="4952880" cy="354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1752480" y="4038480"/>
              <a:ext cx="48006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91120" y="388620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Coenzimas transportadoras de grupos químicos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ff"/>
                </a:solidFill>
                <a:latin typeface="Arial"/>
              </a:rPr>
              <a:t>Síntese da CoA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7238880" cy="20844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2896200" y="2057400"/>
            <a:ext cx="3027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4-fosfopantoten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4-fosfopantotenoilcisteí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4-fosfopantetoí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fosfocoenzima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1828800" y="685800"/>
            <a:ext cx="5181480" cy="1548720"/>
            <a:chOff x="1828800" y="685800"/>
            <a:chExt cx="5181480" cy="1548720"/>
          </a:xfrm>
        </p:grpSpPr>
        <p:pic>
          <p:nvPicPr>
            <p:cNvPr id="386" name="" descr=""/>
            <p:cNvPicPr/>
            <p:nvPr/>
          </p:nvPicPr>
          <p:blipFill>
            <a:blip r:embed="rId2"/>
            <a:stretch/>
          </p:blipFill>
          <p:spPr>
            <a:xfrm>
              <a:off x="1828800" y="685800"/>
              <a:ext cx="518148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4655520" y="1828800"/>
              <a:ext cx="570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429000" y="5029200"/>
            <a:ext cx="5486400" cy="1008360"/>
            <a:chOff x="3429000" y="5029200"/>
            <a:chExt cx="5486400" cy="1008360"/>
          </a:xfrm>
        </p:grpSpPr>
        <p:sp>
          <p:nvSpPr>
            <p:cNvPr id="389" name=""/>
            <p:cNvSpPr/>
            <p:nvPr/>
          </p:nvSpPr>
          <p:spPr>
            <a:xfrm>
              <a:off x="8458200" y="5029200"/>
              <a:ext cx="457200" cy="83808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146520 h 838080"/>
                <a:gd name="textAreaBottom" fmla="*/ 6076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429000" y="5638680"/>
              <a:ext cx="533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forma ligações com grupamentos acil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( 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-C R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077320" y="556272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924680" y="5272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153280" y="556272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ff"/>
                </a:solidFill>
                <a:latin typeface="Arial"/>
              </a:rPr>
              <a:t>Piridoxal fosfato (B</a:t>
            </a:r>
            <a:r>
              <a:rPr b="0" lang="pt-BR" sz="4400" spc="-1" strike="noStrike" baseline="-25000">
                <a:solidFill>
                  <a:srgbClr val="3333ff"/>
                </a:solidFill>
                <a:latin typeface="Arial"/>
              </a:rPr>
              <a:t>6</a:t>
            </a:r>
            <a:r>
              <a:rPr b="0" lang="pt-BR" sz="4400" spc="-1" strike="noStrike">
                <a:solidFill>
                  <a:srgbClr val="3333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395" name="F11_07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5486400" cy="3919680"/>
          </a:xfrm>
          <a:prstGeom prst="rect">
            <a:avLst/>
          </a:prstGeom>
          <a:ln w="38160">
            <a:solidFill>
              <a:srgbClr val="0066ff"/>
            </a:solidFill>
            <a:miter/>
          </a:ln>
        </p:spPr>
      </p:pic>
      <p:sp>
        <p:nvSpPr>
          <p:cNvPr id="396" name=""/>
          <p:cNvSpPr/>
          <p:nvPr/>
        </p:nvSpPr>
        <p:spPr>
          <a:xfrm>
            <a:off x="3048120" y="1295280"/>
            <a:ext cx="1066680" cy="99072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981080" y="5122800"/>
            <a:ext cx="4572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ntique Olive"/>
              </a:rPr>
              <a:t>Coenzima:  Transaminação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ntique Olive"/>
              </a:rPr>
              <a:t>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ntique Olive"/>
              </a:rPr>
              <a:t>Descarboxil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ntique Olive"/>
              </a:rPr>
              <a:t>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ntique Olive"/>
              </a:rPr>
              <a:t>Desidra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362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Resumo de reações envolvendo coenzimas derivadas de vitaminas hidrossolúveis</a:t>
            </a:r>
            <a:endParaRPr b="0" lang="en-US" sz="32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Estados patológicos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8800" y="2209680"/>
            <a:ext cx="42361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nças Genéticas - E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2819520"/>
            <a:ext cx="304920" cy="685800"/>
          </a:xfrm>
          <a:prstGeom prst="downArrow">
            <a:avLst>
              <a:gd name="adj1" fmla="val 50000"/>
              <a:gd name="adj2" fmla="val 56228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12600" y="3657600"/>
            <a:ext cx="51231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apacidade ou capacidade par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sintetizar enz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4648320"/>
            <a:ext cx="304920" cy="685800"/>
          </a:xfrm>
          <a:prstGeom prst="downArrow">
            <a:avLst>
              <a:gd name="adj1" fmla="val 50000"/>
              <a:gd name="adj2" fmla="val 56228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29960" y="5486400"/>
            <a:ext cx="3277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tomatologia vari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Estados patológicos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7640" y="4876920"/>
            <a:ext cx="81590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terminação da atividade de enzimas específ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plasma proporciona ao clínico informações importa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o diagnó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91120" y="19810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51120" y="2590920"/>
            <a:ext cx="3111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ão cardíaca gr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78640" y="1447920"/>
            <a:ext cx="2875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arto do miocár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31240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10280" y="3733920"/>
            <a:ext cx="5997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vasamento de enzimas intracelula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42670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Enzimas - Histórico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stória da Bioquímica começa com pesquisas sobre enzi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tálise biológica     início séc.X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ômago - digestão da car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iva - digestão do am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écada de 3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30 - amilase ou ptia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36 - pepsina e trips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251460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Enzimas - Histórico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360" y="609120"/>
            <a:ext cx="74674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écada de 50 (±1850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ouis Pasteur - concluiu qu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açucar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800" spc="-1" strike="noStrike">
                <a:solidFill>
                  <a:srgbClr val="3333ff"/>
                </a:solidFill>
                <a:latin typeface="Arial"/>
              </a:rPr>
              <a:t>álcoo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pela leved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ra catalisada por “fermentos”           inseparáveis da estrutura das células vivas do leve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3124080"/>
            <a:ext cx="457200" cy="1295640"/>
          </a:xfrm>
          <a:prstGeom prst="downArrow">
            <a:avLst>
              <a:gd name="adj1" fmla="val 50000"/>
              <a:gd name="adj2" fmla="val 70846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4572000"/>
            <a:ext cx="6950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RMEN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rmentos” foram posteriormente         denominados de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ENZ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2T14:58:30Z</dcterms:created>
  <dc:creator>FINEP PRONEX</dc:creator>
  <dc:description/>
  <dc:language>en-US</dc:language>
  <cp:lastModifiedBy>admin</cp:lastModifiedBy>
  <cp:lastPrinted>2002-04-24T17:22:40Z</cp:lastPrinted>
  <dcterms:modified xsi:type="dcterms:W3CDTF">2005-03-21T11:57:26Z</dcterms:modified>
  <cp:revision>53</cp:revision>
  <dc:subject/>
  <dc:title>ENZIMAS</dc:title>
</cp:coreProperties>
</file>