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ADA-DED6-4597-A3AB-9BA9F506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0F8-E87D-4B4A-8991-FEE7FEA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FFE-1528-47F8-9C4A-C902E0D0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6AF-720A-4843-8B1F-90069999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F8A-0BE0-4CE4-942E-0B260E1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E71-7820-4B2A-BCF5-2BEC8388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84C-F996-4D85-8B18-A1CCFB7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2A8-9BCA-4069-B497-4464CAF9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562-EA85-4EFF-A7A8-51B08584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496-E027-4A72-BB75-2751894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230-7C22-4CC6-8B22-2D28A8F5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41F-9E11-4494-957C-6CA9A97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4B02-8C0F-4DC4-9ABB-DF81797775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87940-C24E-4D0D-9F51-F0FEE7B37B0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6:37:19Z</dcterms:created>
  <dc:creator>최봉수</dc:creator>
  <dc:description/>
  <dc:language>en-US</dc:language>
  <cp:lastModifiedBy>맛있다 군만두</cp:lastModifiedBy>
  <dcterms:modified xsi:type="dcterms:W3CDTF">2024-10-01T03:10:01Z</dcterms:modified>
  <cp:revision>4</cp:revision>
  <dc:subject/>
  <dc:title>슬라이드 1</dc:title>
</cp:coreProperties>
</file>