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800-D9B8-4A00-9EAA-44A08E1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978-F710-4511-A0D4-D4B8E162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071-B8B0-4E1C-B8E5-02C35B3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241-9B2C-4523-9635-622407AF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67D-284E-44FA-9D55-0064F64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396-D64F-4C0E-8EC6-7308770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A9D-D939-4231-8ED4-F3D20B3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94A-4BFB-493A-84D9-B2462A1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3CB-7B79-4863-9CC3-61A18E9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998-6F84-4FB5-B853-EB1F49F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4CD-7979-46D7-ACB9-E9E3386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A7B-2740-4A83-A389-B9C6A83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0609B-1E14-4638-9EC0-FFA637EAB6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D385B-9F02-4D25-8406-A1AEB6917EE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6:37:19Z</dcterms:created>
  <dc:creator>최봉수</dc:creator>
  <dc:description/>
  <dc:language>en-US</dc:language>
  <cp:lastModifiedBy>맛있다 군만두</cp:lastModifiedBy>
  <dcterms:modified xsi:type="dcterms:W3CDTF">2024-10-01T03:10:01Z</dcterms:modified>
  <cp:revision>4</cp:revision>
  <dc:subject/>
  <dc:title>슬라이드 1</dc:title>
</cp:coreProperties>
</file>