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8C3-5F2D-4442-93FF-870E705A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751-1AD2-4011-8834-940EB4CE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A157-38F5-4A31-BD98-B0DA23D4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5E5-AD4D-495E-8CF1-DCE0BAEC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C36-772F-4C00-9450-521DE125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D75-490F-42E4-A566-95BBFA13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2F7-AF58-46D1-96BB-D5A57AF3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0483-3DF5-4B58-8F63-4868A47C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70DC-B544-46CB-A144-1E78A6DE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FBB-6C18-4886-A851-E08A85B5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51C-6CD2-4642-87D8-50E868AA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7E1-B2D5-417D-98A0-035876B4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F1355-D389-4F80-B5D2-4D09D3C86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CE55E-B088-4BB3-AB6C-79212900C914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6:34:02Z</dcterms:created>
  <dc:creator>최봉수</dc:creator>
  <dc:description/>
  <dc:language>en-US</dc:language>
  <cp:lastModifiedBy>군만두 맛있다</cp:lastModifiedBy>
  <dcterms:modified xsi:type="dcterms:W3CDTF">2023-07-12T06:10:24Z</dcterms:modified>
  <cp:revision>2</cp:revision>
  <dc:subject/>
  <dc:title>슬라이드 1</dc:title>
</cp:coreProperties>
</file>