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46E4-A57A-4AD9-8319-C7818BE64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407E-0F11-48C8-970A-38FA01B3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4EC3-D40E-4619-B03C-7732E92A7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36BA-0400-4782-9991-E5B54FF4B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B0BE-AA42-48BB-8A61-46799D6D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B029-B934-4F0E-AC54-F7CB3082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BEB5-AA1B-4FE1-AFFA-424899F4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2787-F88B-47B2-A13D-0D6035EA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946D-7DA1-42E1-A71B-969BD647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CD31-8963-4214-946D-B8540EB0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8434-DCDB-4FF3-980A-8D43E50A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3B6B-042F-4FA6-B5FA-EC913ED1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562DEA-BD93-43AB-8ACF-6D53A7A5CF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F8DBC6-86D7-499C-8E95-16B19119D2DD}" type="slidenum">
              <a:rPr b="1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6:34:02Z</dcterms:created>
  <dc:creator>최봉수</dc:creator>
  <dc:description/>
  <dc:language>en-US</dc:language>
  <cp:lastModifiedBy>군만두 맛있다</cp:lastModifiedBy>
  <dcterms:modified xsi:type="dcterms:W3CDTF">2023-07-12T06:10:24Z</dcterms:modified>
  <cp:revision>2</cp:revision>
  <dc:subject/>
  <dc:title>슬라이드 1</dc:title>
</cp:coreProperties>
</file>