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2F51-DE36-47CA-87B8-FAF38C6A9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C9E5-C761-456C-9665-93FF446A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AA44-CD36-4B65-83BE-994FEC87F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21FC-72FD-46AF-9C95-41041FEE0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D757-9C59-4014-8F90-C90E3768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8ECF-354A-4CCD-A0CC-12BD4D99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AFE6-1378-412E-B627-20E5F5B0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E92F-DAC8-4749-A93A-980538F3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D2FA-1792-4FEA-A328-416F357B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19FE-93DA-487A-AC02-D18CE597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32FC-AD53-4CF8-98AE-473350D5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BFA6-0F11-4F79-B29C-FF0DA946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6B9C-C076-4936-B325-E3FC7C04DD2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29T00:53:43Z</dcterms:modified>
  <cp:revision>26</cp:revision>
  <dc:subject/>
  <dc:title>슬라이드 1</dc:title>
</cp:coreProperties>
</file>