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7F2-BB1E-4E6B-8B5D-F55016DC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362-21FB-4063-9A2D-4922DFDA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A03-D242-49DC-AA54-7648BA93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539-2C4C-4954-837C-A05B9FCF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9D8-8B7B-4C2F-AF73-A674D274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CFE-D9EC-4FAE-A6B1-41547941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FAA-0AF1-4FF6-B03A-77FE843E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762-4F60-40BA-B4F8-47339B70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B20-BEAF-4126-90DE-B126679D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4F7-EECB-486E-8EB9-F074CF73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E76-D98E-4D65-96CD-123ECFE5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565-1F79-4BF9-934A-AEFE0094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5A98-3675-42CE-B6E1-03C9EB0E99F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9T00:53:43Z</dcterms:modified>
  <cp:revision>26</cp:revision>
  <dc:subject/>
  <dc:title>슬라이드 1</dc:title>
</cp:coreProperties>
</file>