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7B99-B94E-49B4-A0EF-2E2141D9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BD2C-2D8F-4B45-9B69-47C7430D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581A-B28A-4DCA-A7B7-4C421208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AAE5-91AE-4890-B6BE-7E31CDF7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40E4-20B0-476F-BF12-79C566A3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EFAD-E7A6-4767-8D4A-7D758A7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A6C7-0056-49B6-82BC-CEDEFA71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291A-380B-4024-BE21-A1B2B7FA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121B-9037-48F9-BCE0-0A1BDC5F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FC28-FA42-4A45-984C-164B3F9C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C21A-693E-45E0-8ABB-E44316D4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DCF9-E364-4525-B6C5-A724CE03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D563-1EBA-4326-9231-88E1F137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403A-E6E6-4412-BB84-7F3B56F0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7FA6-DC63-4B50-A633-4E1D7E0E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37FE-F30A-4ED3-8429-B41435F0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B367-DED8-4CF3-96AD-4FB87190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64C8-7261-40AF-B38D-862065A4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8416-34B9-4D16-943F-98C6D6D0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7DB1-F1CD-4C40-BBA2-5B3A85E5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74A4-4949-4C63-B63B-A1BE95B4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9775-B277-42E5-97C1-3FB816AD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15C7-835D-47C4-9B9C-620174A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3388-EB33-4770-B023-66386E8D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A748-DBEE-4AA0-82B0-A59CEC3CA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BFF7-3986-4F51-B319-C4C9031FD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457200"/>
            <a:ext cx="8610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klimat Struktur Pelaksanaan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URSUS KDPM 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uru-guru SABK  Ambilan Nov 2007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867280"/>
            <a:ext cx="4496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st. Mat Nawi bin Mat Jus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yelaras SABK, I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2AAF-D99F-4001-9BFC-200C6B2A41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ngkat 1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n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Elektif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30D6-C6AA-4D57-99B5-48F5A83B97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80880" y="457200"/>
          <a:ext cx="8305920" cy="5075280"/>
        </p:xfrm>
        <a:graphic>
          <a:graphicData uri="http://schemas.openxmlformats.org/drawingml/2006/table">
            <a:tbl>
              <a:tblPr/>
              <a:tblGrid>
                <a:gridCol w="914400"/>
                <a:gridCol w="4419720"/>
                <a:gridCol w="1066680"/>
                <a:gridCol w="1067040"/>
                <a:gridCol w="838080"/>
              </a:tblGrid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PJ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K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ES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6BD1-6C5D-43AD-BFA9-7AD7E47937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ngkat 1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rak Kerja Kokurikulum (Gerko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194B-B077-44A0-9337-7786D01BA4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57200" y="457200"/>
          <a:ext cx="8229600" cy="6094440"/>
        </p:xfrm>
        <a:graphic>
          <a:graphicData uri="http://schemas.openxmlformats.org/drawingml/2006/table">
            <a:tbl>
              <a:tblPr/>
              <a:tblGrid>
                <a:gridCol w="609480"/>
                <a:gridCol w="4572000"/>
                <a:gridCol w="990720"/>
                <a:gridCol w="1066680"/>
                <a:gridCol w="990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ko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Pengurusan Gerk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Permain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ukan Olahra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Unit Unifor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ersatu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729A-C644-4D6A-8137-69831AE936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ngkat IV &amp; V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a. Praktikum Pasa I (10 Mingg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 / Sep / Nov&amp;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Praktikum Pasa II(14 Mingg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. &amp; Dis / Mac / J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A5FA-9E03-4BFD-9D49-C09FDD40A5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990720"/>
            <a:ext cx="82296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raditional Arabic"/>
              </a:rPr>
              <a:t>وشكر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raditional Arabic"/>
              <a:ea typeface="Traditional Arabic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raditional Arabic"/>
              </a:rPr>
              <a:t>على إصغائك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raditional Arabic"/>
              <a:ea typeface="Traditional Arab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1A21-FA55-4696-8D11-820F16E7D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ANG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as Dinamika Gu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engetahuan Diri dan Ketrampilan Ikhti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.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Gerak Kerja Ko Kurik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Praktik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864A-5680-491B-B213-411BC1CCB4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ngkat 1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. Asas Dinamika Gur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F89D0-28A3-44FD-B5FF-A7C6488090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457200"/>
          <a:ext cx="8229600" cy="5813280"/>
        </p:xfrm>
        <a:graphic>
          <a:graphicData uri="http://schemas.openxmlformats.org/drawingml/2006/table">
            <a:tbl>
              <a:tblPr/>
              <a:tblGrid>
                <a:gridCol w="609480"/>
                <a:gridCol w="5029200"/>
                <a:gridCol w="914400"/>
                <a:gridCol w="914400"/>
                <a:gridCol w="76212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Malaysia Komunika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 /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urusan S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fasihan B Ingge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addun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. Negara Bangsa Malay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dikan Alam Sekit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. Pencegahan Dad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E734-4165-4F0E-AD37-46367AD7CA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ngkat II : Sep. / Nov&amp;Dis  (2008)/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ngkat III : Mei / Sep./ Nov.&amp; Dis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ngkat IV : Mac / Mei / Sep. / No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ngkat V : Dis (2010) / Mac / Jun(201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1B49-9BB6-4442-8800-08FEEA33A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ngkat 1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. Pengetahuan dan Ketrampilan Ikhtis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BE21C-DC5E-4174-9C46-F987B9F992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80880" y="457200"/>
          <a:ext cx="8305920" cy="5410080"/>
        </p:xfrm>
        <a:graphic>
          <a:graphicData uri="http://schemas.openxmlformats.org/drawingml/2006/table">
            <a:tbl>
              <a:tblPr/>
              <a:tblGrid>
                <a:gridCol w="685800"/>
                <a:gridCol w="4953240"/>
                <a:gridCol w="914400"/>
                <a:gridCol w="914400"/>
                <a:gridCol w="838080"/>
              </a:tblGrid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mu Pendidikan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Pend. Di Malay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Psiko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Pedag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Bimbingan dan Kaunse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0606-FFCA-466B-AA1B-AF58B5E025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ngkat 1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. Maj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Pengajian Agama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5DEB-6819-4CD3-BAC5-BD6300AC6F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457200"/>
          <a:ext cx="8305920" cy="6075360"/>
        </p:xfrm>
        <a:graphic>
          <a:graphicData uri="http://schemas.openxmlformats.org/drawingml/2006/table">
            <a:tbl>
              <a:tblPr/>
              <a:tblGrid>
                <a:gridCol w="914400"/>
                <a:gridCol w="4419720"/>
                <a:gridCol w="1066680"/>
                <a:gridCol w="1067040"/>
                <a:gridCol w="838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engajian Agama)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Tajw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Ibada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Jaw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Kaeda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A4BC-382F-4430-9755-C7BA40667A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0:09:29Z</dcterms:created>
  <dc:creator>Surina Hamed</dc:creator>
  <dc:description/>
  <dc:language>en-US</dc:language>
  <cp:lastModifiedBy>Admin</cp:lastModifiedBy>
  <dcterms:modified xsi:type="dcterms:W3CDTF">2007-11-19T08:17:59Z</dcterms:modified>
  <cp:revision>23</cp:revision>
  <dc:subject/>
  <dc:title>Slide 1</dc:title>
</cp:coreProperties>
</file>