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B7D2-8009-4E13-AD06-E04737ED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3D50-1636-43B1-8585-37BE15F4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BBDD-FC4B-4808-99F2-F2740514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24B6-C881-49AF-A43D-CDD61792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0719-0239-4732-BF0D-FBD771A4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F2EB-6113-4D3C-BD5C-ABD3AA6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BBE1-A3FA-45C3-AF5B-DEB5AE6E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F31F-2444-4D95-B604-7D92BFC5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0F85-F97C-43B4-91B1-26F2EB57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5D10-18E9-4206-B993-9C3270E3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4F4C-8AC4-4226-A639-40B9A604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E937-2C67-480F-A0F1-24967AA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46F0-F0ED-466A-B00E-55BBA060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4A1B-7494-4C3A-84FF-14A6B677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6631-4136-4A46-9210-E91B4448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3F8C-2EFB-45AD-9267-B363C499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CFDB-AB1F-4088-8775-0B421185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D2C3-2B2C-4D8A-A04E-873B6D58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AF07-12C6-453C-AD5B-0BB0D928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6BA76-B3ED-48BB-9286-60401082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E423-9048-44CF-B047-6B57B01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F37B-1E89-4C61-AAE1-281D8101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316E-F344-40D3-94E1-4E6E90D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D8E0-5A04-4FA2-9A01-C9E5AB6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5DC0-D220-437D-B2AE-BE896E9BB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E65B-C4A4-4D0C-A293-ABD8EB471F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457200"/>
            <a:ext cx="86108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klimat Struktur Pelaksanaan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URSUS KDPM 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uru-guru SABK  Ambilan Nov 2007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867280"/>
            <a:ext cx="4496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Ust. Mat Nawi bin Mat Jus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yelaras SABK, I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2440-5DED-4491-A96E-9C8FC36738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n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Elektif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08EE-199E-4715-8082-F520E3FFE6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80880" y="457200"/>
          <a:ext cx="8305920" cy="5075280"/>
        </p:xfrm>
        <a:graphic>
          <a:graphicData uri="http://schemas.openxmlformats.org/drawingml/2006/table">
            <a:tbl>
              <a:tblPr/>
              <a:tblGrid>
                <a:gridCol w="914400"/>
                <a:gridCol w="4419720"/>
                <a:gridCol w="1066680"/>
                <a:gridCol w="1067040"/>
                <a:gridCol w="838080"/>
              </a:tblGrid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PJ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K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ES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1D4D-E214-44F8-AA1A-DC40DD2C45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rak Kerja Kokurikulum (Gerko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782E-59F1-441F-9568-37BA4A73F5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7200" y="457200"/>
          <a:ext cx="8229600" cy="6094440"/>
        </p:xfrm>
        <a:graphic>
          <a:graphicData uri="http://schemas.openxmlformats.org/drawingml/2006/table">
            <a:tbl>
              <a:tblPr/>
              <a:tblGrid>
                <a:gridCol w="609480"/>
                <a:gridCol w="4572000"/>
                <a:gridCol w="990720"/>
                <a:gridCol w="1066680"/>
                <a:gridCol w="990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ko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Pengurusan Gerk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Permain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ukan Olahrag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Unit Unifor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ersatu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A0BF-85BC-47E7-BA18-F3E3DE4E54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ngkat IV &amp; V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a. Praktikum Pasa I (10 Mingg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 / Sep / Nov&amp; 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Praktikum Pasa II(14 Mingg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. &amp; Dis / Mac / J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9B2A-261B-47EB-AD6A-737E902B7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990720"/>
            <a:ext cx="822960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raditional Arabic"/>
              </a:rPr>
              <a:t>وشكر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raditional Arabic"/>
              <a:ea typeface="Traditional Arabic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raditional Arabic"/>
              </a:rPr>
              <a:t>على إصغائك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raditional Arabic"/>
              <a:ea typeface="Traditional Arab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DACA-B498-45D6-AB7C-53F144D7C2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ANG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as Dinamika Gu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engetahuan Diri dan Ketrampilan Ikhti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.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Gerak Kerja Ko Kurik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Praktik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4758-B993-4B86-89D2-33D6F0D592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. Asas Dinamika Gu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B151-9CD3-47C9-A470-A31128EE16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457200"/>
          <a:ext cx="8229600" cy="5813280"/>
        </p:xfrm>
        <a:graphic>
          <a:graphicData uri="http://schemas.openxmlformats.org/drawingml/2006/table">
            <a:tbl>
              <a:tblPr/>
              <a:tblGrid>
                <a:gridCol w="609480"/>
                <a:gridCol w="5029200"/>
                <a:gridCol w="914400"/>
                <a:gridCol w="914400"/>
                <a:gridCol w="76212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Malaysia Komunika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 /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urusan S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fasihan B Ingge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addun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. Negara Bangsa Malay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dikan Alam Sekit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. Pencegahan Dad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9B8C3-D89E-405D-A6AB-F7C962883F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gkat II : Sep. / Nov&amp;Dis  (2008)/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gkat III : Mei / Sep./ Nov.&amp; Dis (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gkat IV : Mac / Mei / Sep. / No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gkat V : Dis (2010) / Mac / Jun(201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8BE2-3D59-4CEF-88CF-AEB2E8FB11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. Pengetahuan dan Ketrampilan Ikhtis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E535-A783-48F1-B9AF-ED4D2AE7A7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80880" y="457200"/>
          <a:ext cx="8305920" cy="5410080"/>
        </p:xfrm>
        <a:graphic>
          <a:graphicData uri="http://schemas.openxmlformats.org/drawingml/2006/table">
            <a:tbl>
              <a:tblPr/>
              <a:tblGrid>
                <a:gridCol w="685800"/>
                <a:gridCol w="4953240"/>
                <a:gridCol w="914400"/>
                <a:gridCol w="914400"/>
                <a:gridCol w="838080"/>
              </a:tblGrid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mu Pendidika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Pend. Di Malay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Psikol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Pedago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Bimbingan dan Kaunse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938E-6007-42A1-A225-E2F5162654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ingkat 1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. Maj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(Pengajian Agama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D9672-934C-485C-BA69-65B7DFF363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457200"/>
          <a:ext cx="8305920" cy="6075360"/>
        </p:xfrm>
        <a:graphic>
          <a:graphicData uri="http://schemas.openxmlformats.org/drawingml/2006/table">
            <a:tbl>
              <a:tblPr/>
              <a:tblGrid>
                <a:gridCol w="914400"/>
                <a:gridCol w="4419720"/>
                <a:gridCol w="1066680"/>
                <a:gridCol w="1067040"/>
                <a:gridCol w="83808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a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engajian Agama)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Tajw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Ibad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Jaw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Kaeda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F858-D9D3-415F-99FB-0C1AD7E0CF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0:09:29Z</dcterms:created>
  <dc:creator>Surina Hamed</dc:creator>
  <dc:description/>
  <dc:language>en-US</dc:language>
  <cp:lastModifiedBy>Admin</cp:lastModifiedBy>
  <dcterms:modified xsi:type="dcterms:W3CDTF">2007-11-19T08:17:59Z</dcterms:modified>
  <cp:revision>23</cp:revision>
  <dc:subject/>
  <dc:title>Slide 1</dc:title>
</cp:coreProperties>
</file>